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6CA-E461-4F4F-881B-5ACEDE03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DF79-78FF-489D-AD74-A8906557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BEF7-7BF1-4A81-960B-9A16CDC8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27D4-C970-4037-8463-8B9648E9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4BAA-50F2-48E7-B60E-A0DBEAD9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5AC0-FC95-4D15-BBBE-54F3D07A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8BAB-ECC1-462C-8C6D-63670C06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144-C62C-497B-A690-B9370219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17DC-DF8D-4554-BC25-94197E3C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DE0E-B0A6-4DEC-A1E8-6847943F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CA9-7F03-4A51-9B4E-47210F12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336-C684-4F2C-A03A-0F0C6D15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D748-A6C3-4BC3-8E60-C180942471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859240YIZAAgwxQ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720" y="33660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Money is not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It can buy you a house but not a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It can buy you a bed but not slee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6694789DCxkenpKXn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289548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a clock but no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books but not knowled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6695026qjUlFEoDK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1523880"/>
            <a:ext cx="5953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blood but not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sex but not lo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6793365FabZdmYCCF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51814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a position but not resp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medicine but not heal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6695245LzskAPqpjQ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5120" y="2590920"/>
            <a:ext cx="693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ney may not be the root of all evi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 it often brings us anguish and regr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694891lLxigTZtRh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228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I would like to tell you how to solve the problem, my dear frien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 I hope you will forward the solution to other friends of y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6694676DHnqOTFmA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45720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Give all your money to me. Let me suffer from the anguish for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Right now, Ok? :-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6:32:35Z</dcterms:created>
  <dc:creator>Peggy Pan</dc:creator>
  <dc:description/>
  <dc:language>en-US</dc:language>
  <cp:lastModifiedBy>Lyq</cp:lastModifiedBy>
  <dcterms:modified xsi:type="dcterms:W3CDTF">2001-12-14T06:41:37Z</dcterms:modified>
  <cp:revision>19</cp:revision>
  <dc:subject/>
  <dc:title>没有幻灯片标题</dc:title>
</cp:coreProperties>
</file>