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E7B-05DC-449D-9D2F-98097AE6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3D3-26FB-4CB7-BC06-5C98AAE62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4656-47D4-49CD-A9A0-841DB3D9D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EFC-B840-4B36-A4E2-8655E761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93E1-6CB4-4BB4-AA76-4255C95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F80A-0B45-4FE7-A4E5-C5007023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605A-7A7B-45C2-89E6-BB66BEBA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D151-4EA0-4C30-A924-3EA1A8D0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D359-CE63-456B-B836-71BE3D0B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54E2-C99F-41C5-8690-C0831980A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D755-6D97-48F0-8F66-DF52B51D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E0B-690E-443E-9CD0-A08DED7F6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4A2-B2DD-47D9-887F-9B006031C8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1812f"/>
                </a:solidFill>
                <a:latin typeface="Arial"/>
              </a:rPr>
              <a:t>英语中的“非常”系列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43160" y="576360"/>
            <a:ext cx="8689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ok is _____worth r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girl is_______ like her mo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feel _______ ashamed for what I sai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She was _______afraid of dog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______likes to join the arm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4840" y="53352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8480" y="10666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本书很值得一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21320" y="167652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00440" y="2209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个女孩很像她妈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396320" y="3276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为自己所说的话感到惭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30600" y="2743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4640" y="44956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她特别怕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440080" y="388620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23800" y="54864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想参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5680" y="49528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 </a:t>
            </a: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7360" y="990720"/>
            <a:ext cx="8951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207a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原级形容词和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以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完全形容词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现在分词或过去分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tired, ashamed, please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xcit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oy ran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ver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fast to catch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early bu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个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赶上早班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3657600"/>
            <a:ext cx="772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ou are ______ wrong.(very/ quit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全错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表示极端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极其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用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completely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0960" y="358920"/>
            <a:ext cx="7872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very pleased wit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对他的话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much pleased b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is word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的话使她很满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【注】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非形容词化的分词不能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但可用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much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40800" y="3657600"/>
            <a:ext cx="13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964080" y="423720"/>
            <a:ext cx="765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muc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动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00cc99"/>
                </a:solidFill>
                <a:latin typeface="Arial"/>
              </a:rPr>
              <a:t>修饰介词以及形容词和副词的比较级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3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修饰部分以字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开头的形容词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  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alive, afraid, ashamed, alon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55440" y="3471840"/>
            <a:ext cx="6869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well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“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相当”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主要用来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修饰动词、介词短语或用于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固定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 worth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be well-known 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peak well of=speak highly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42040" y="609480"/>
            <a:ext cx="7643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4.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 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的用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1)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表示绝对意义的形容词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副词。如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sure, certain, possible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rong, right, perfect, dead, ready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impossible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2)</a:t>
            </a: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修饰动词或名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likes the bike, b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is no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quit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ready to buy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她非常喜欢那辆自行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但她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准备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49520" y="957240"/>
            <a:ext cx="731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程度时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含有迫切之意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在口语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ant, nee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动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Arial"/>
              </a:rPr>
              <a:t>或表示不良情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driver with a clean dr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icense i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wan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om was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bad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hur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14040" y="1219320"/>
            <a:ext cx="7193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意为“足够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非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很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修饰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形容词、副词、动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但须放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这些词的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后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。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boy ran fast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</a:rPr>
              <a:t>enough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tch up with the dog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小孩子跑得很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追上了那只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7480" y="838080"/>
            <a:ext cx="8365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7. </a:t>
            </a:r>
            <a:r>
              <a:rPr b="1" lang="zh-CN" sz="3600" spc="-1" strike="noStrike">
                <a:solidFill>
                  <a:srgbClr val="207aac"/>
                </a:solidFill>
                <a:latin typeface="Arial"/>
                <a:ea typeface="Arial"/>
              </a:rPr>
              <a:t>fast, sound, wide, widel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等用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程度副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主要用在一些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固定搭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baby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  <a:ea typeface="Arial"/>
              </a:rPr>
              <a:t>fast/sound aslee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那小孩儿在熟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he was 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wide awak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at that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那时她非常清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89080" y="880920"/>
            <a:ext cx="826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y are _______in need of teach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_______ wounde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am _______sure that the ca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_______d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His house is over there, _____abo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the other hou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16400" y="838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7800" y="198108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ba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78680" y="312408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11640" y="3657600"/>
            <a:ext cx="127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</a:rPr>
              <a:t>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7160" y="4724280"/>
            <a:ext cx="10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7aac"/>
                </a:solidFill>
                <a:latin typeface="Arial"/>
                <a:ea typeface="Arial"/>
              </a:rPr>
              <a:t>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3240" y="1447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们急需教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24960" y="251460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伤得很厉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10520" y="41911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完全确信那只猫彻底死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35320" y="5867280"/>
            <a:ext cx="566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他的房子在那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Arial"/>
              </a:rPr>
              <a:t>远在其他房子之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3:03:33Z</dcterms:created>
  <dc:creator>gs6</dc:creator>
  <dc:description/>
  <dc:language>en-US</dc:language>
  <cp:lastModifiedBy>gs6</cp:lastModifiedBy>
  <dcterms:modified xsi:type="dcterms:W3CDTF">2004-10-04T10:17:33Z</dcterms:modified>
  <cp:revision>2</cp:revision>
  <dc:subject/>
  <dc:title>英语中的“非常”系列 </dc:title>
</cp:coreProperties>
</file>