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267-449E-48EC-BD67-E83EF62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D26-4390-4DCC-B593-0D803C0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AA7-3F8E-456C-B8E1-0BA57240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5B6-8784-4F7C-B502-0ACB38A1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3CC5-7308-46D5-8833-53579053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E31E-B1C0-4F74-90DA-5A1B50A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CB6A-7F6B-457B-9624-A1DFA77F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44EE-7D3F-41A5-BEB6-5CF1CD7D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52C3-F3DD-4E51-B432-4CE2289F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422C-160A-46C7-839F-ECFEA30B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4B04-F1BC-42D3-9F5C-D1B4151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DEE-91A6-4B37-AE11-DC3D716E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254-BDC4-4804-96B3-E4511C4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C63D-5809-4937-904B-0B078AB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86B-9C3C-4AFA-A862-8D567AD5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E1E4-93F5-4C2D-A07D-F6925090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DD4-AD23-42C2-AC91-86138FCF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E97-FD42-429F-B034-E985093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DC6-21D2-494C-BCC2-7A442EB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A35-F25F-4C14-BE3C-8CE2F24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B70-5FAA-4A5D-A51A-D6FE0DA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461-4D01-4B81-83C6-B740B51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8D1-3B07-4F84-ACF3-568D512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54C-5AEB-4683-97CC-7A2A739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17A-0FB2-41A6-93C4-04B4ACB841F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244-83DB-40A9-A1D7-DC4566071BF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480" y="762120"/>
            <a:ext cx="523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Lesson 41  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6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920" y="3733920"/>
            <a:ext cx="77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Zhaoqing Shiyuan Middle Schoo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3440" y="5257800"/>
            <a:ext cx="52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Speaker:  Li Changxiu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4160" y="68580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1371600"/>
            <a:ext cx="32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4160" y="685800"/>
            <a:ext cx="50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t the New Theatre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13716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Saturday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56720" y="22334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7800" y="29192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720" y="2919240"/>
            <a:ext cx="11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373392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Ye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0560" y="4367160"/>
            <a:ext cx="33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9160" y="5791320"/>
            <a:ext cx="876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very successful./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5400" y="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.  Expression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960" y="609480"/>
            <a:ext cx="70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the coming weekend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e weekend that is com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680" y="1752480"/>
            <a:ext cx="793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Haven’t you heard of him?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’m surprised that you haven’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d of him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840" y="3581280"/>
            <a:ext cx="666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 hear of... =know of…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ar from sb.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receive a letter from sb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425920"/>
            <a:ext cx="5979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He’s very successful.=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He’s a succ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3960" y="25236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. Repe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6120" y="1219320"/>
            <a:ext cx="8781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VIII. Dialogu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1.Why don’t you come on Saturd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2. Why not buy a ticket to hear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3.You’d better see more English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film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4. What about going for a walk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6858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               Aim: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ster the following 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698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atre, successful, success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ake a record, broadcast,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on the radio, 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ckie, John Denver,Mozar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13400" y="17604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29200" y="304920"/>
            <a:ext cx="450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VIII. Translation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我刚听说他生病了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收到姐姐的来信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们计划明年秋天举行一次运动会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319040"/>
            <a:ext cx="65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’ve just heard his illness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71280" y="2766960"/>
            <a:ext cx="61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 heard from his sister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94960" y="4214880"/>
            <a:ext cx="74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hey planned to hold a sports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eet the coming autumn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85400" y="100080"/>
            <a:ext cx="3632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X. Summary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即将到来的周末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听说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很成功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美国乡村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哪种音乐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播放他的音乐节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灌唱片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过录音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最好快点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36440" y="252360"/>
            <a:ext cx="579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X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写作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介绍香港歌星周华健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是香港著名歌星，中学时代就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对音乐感兴趣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他曾参加过当地无线电台举办的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歌唱比赛并获一等奖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  19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岁去台湾上大学，由于不会普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通话而被嘲笑并视为“乡下仔”。次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年，他去饭店当歌手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2057400"/>
            <a:ext cx="837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四年后的一天，当周在饭店演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出时，一唱片公司经理被其歌声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打动并邀请周加入他们的公司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经过仔细考虑后，周决定放弃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学业去当歌星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0080" y="7858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II         Key points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6760" y="1700280"/>
            <a:ext cx="46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Everyday English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6520" y="2386080"/>
            <a:ext cx="666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Haven’t you heard of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7960" y="3147840"/>
            <a:ext cx="529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 Why don’t you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Why not …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You’d better …  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5800" y="4976640"/>
            <a:ext cx="766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That’s a good idea./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Thanks. I must try to do that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42120" y="914400"/>
            <a:ext cx="373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estern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057400"/>
            <a:ext cx="464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assical music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7400"/>
            <a:ext cx="26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Pop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123720" y="1752480"/>
            <a:ext cx="228600" cy="3812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828800"/>
            <a:ext cx="228600" cy="3808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040" y="3048120"/>
            <a:ext cx="228600" cy="7617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971800"/>
            <a:ext cx="228600" cy="6858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414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Symphon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Music for opera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nd balle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4440" y="4038480"/>
            <a:ext cx="37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azz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Rock and roll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85800"/>
            <a:ext cx="8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3360" y="633240"/>
            <a:ext cx="689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IV      Answer the follow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5200" y="131904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John Denver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819520"/>
            <a:ext cx="38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Type of music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720" y="441972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What to do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7920" y="2157480"/>
            <a:ext cx="52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 very famous sing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280" y="3605040"/>
            <a:ext cx="60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American country music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7160" y="512928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He’s singing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800" y="12430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895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00" y="44434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6560" y="100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4. Where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960" y="1319040"/>
            <a:ext cx="40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5. When to sing: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86000"/>
            <a:ext cx="58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6. Writer of his song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43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7. Make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33920"/>
            <a:ext cx="53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8. Broadcast records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600" y="4419720"/>
            <a:ext cx="525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9. How to broadcast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4320" y="5257800"/>
            <a:ext cx="747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</a:rPr>
              <a:t>10. What do you think of him?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09:00:50Z</dcterms:created>
  <dc:creator>Tan</dc:creator>
  <dc:description/>
  <dc:language>en-US</dc:language>
  <cp:lastModifiedBy>Tan</cp:lastModifiedBy>
  <dcterms:modified xsi:type="dcterms:W3CDTF">2001-11-04T13:56:18Z</dcterms:modified>
  <cp:revision>11</cp:revision>
  <dc:subject/>
  <dc:title>没有幻灯片标题</dc:title>
</cp:coreProperties>
</file>