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80D-31F1-4450-B270-DE610D7B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91C-42C7-4666-A05A-6B6743B7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D0D-94BE-4F49-B9AA-E0F8BB00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998-4C4C-416E-89FE-99EA782F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91F2-EBC0-4CBE-893C-A5773603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D36A-190D-4045-9AD8-6B7B1C00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963D-59B1-4C4B-A807-6C97715A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00CC-97AE-41C7-9643-2FB2CA02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929E-5BFB-4BF4-97EA-B53A2451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5AE9-2FBC-4863-8301-29F7B15F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F57-F870-4D6E-8197-C6B4AB8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129-50EE-4D23-A9AA-484C40D8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F3B-52D4-4CCA-96E5-7FE52BA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1B34-45AA-4ED9-AD0C-68CDA2E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A7AC-229C-413F-9C0A-DD1A0214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582A-E91E-4677-A2CE-EB1C3844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FF7C-4624-4F11-B7F3-9A4EE3DF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B54-DDF5-4167-AE53-D5012697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BD3-0C83-4C8D-A95F-4215BEE5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772-29C8-4A54-A078-9B3E8F70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B81-F3CF-4B97-A282-51216A6C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DD9-3F66-4234-8814-5CC9D0C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308-C8D1-4CD9-B066-2ECF702F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C75-6900-4974-9249-C0B990FB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6C7F-A2E0-42C7-BB58-57CE84A2E7BC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8805-972A-4D38-98BC-3F5FCEE931D7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定语从句高考点例析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的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493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5. Whose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从句可转换为“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of +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关系代词”型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They live in a house, whose door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65760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105520"/>
            <a:ext cx="685800" cy="75960"/>
          </a:xfrm>
          <a:prstGeom prst="rightArrow">
            <a:avLst>
              <a:gd name="adj1" fmla="val 50000"/>
              <a:gd name="adj2" fmla="val 225711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04760" y="1849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which the door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door of which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an you work them out?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9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 in the blanks with proper preposition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The sun gives us heat and light, ________ which we can’t liv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The student ________ whom we were talking just now is the best student in our clas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. I’ll never forget the day _____ which she said good-bye to m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4. Who can give me the reason ______ which he hasn’t turned up y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095880" y="502884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640" y="3200400"/>
            <a:ext cx="11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1160" y="4114800"/>
            <a:ext cx="61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2286000"/>
            <a:ext cx="151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考点四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关系副词的运用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限定性和非限定性从句中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时间名词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re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地点名词，分别在定语从句中做状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e.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After living in Paris for 50 years he returned to the small town ______ he grew up as a chi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which    B. where    C. that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It was an exciting moment for these people this year, ______ for the first time their team won the World Cup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that    B. while    C. which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752480" y="3352680"/>
            <a:ext cx="289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点五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as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which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引导的定语从句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两者均可引导非限制性定语从句，有时可以互换，但下列情况多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关系代词引导的定语从句居句首时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we all know, the earth is roun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当与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such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或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e same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连用时，一般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Such books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 tell me are interesting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I have the same plan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1219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当从句和主句语义一致时，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，反之则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     unexpected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3716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从句中作主语时，后面常接行为动词的被动语态，如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known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sai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reporte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等，如从句中行为动词是主动语态，一般要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作主语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She has been late again,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Tom has made great progress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made us happ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3874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1. I’m using the pen which he bought it yester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. Is that factory which your father once worked in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3. The man whom I spoke is from Canad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4. July 1,1999 is the day when we’ll never forget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8098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28954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60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286000"/>
            <a:ext cx="167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去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4952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45720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40384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1240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on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. I still remember the holidays I stayed with the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. I’m going to work in the hospital where needs 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. Those that haven’t been to the West Lake will gather at the school gat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. I don’t like the way which you talked to your frien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724280"/>
            <a:ext cx="6094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057400"/>
            <a:ext cx="2057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9907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9880"/>
            <a:ext cx="21333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3505320"/>
            <a:ext cx="914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048120"/>
            <a:ext cx="28954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3920" y="1828440"/>
            <a:ext cx="838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9.This is the last time when I’ve given you lesson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. Soon they came to a farm house,and in front of which sat a small bo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1. We heard the news which our team won the ga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2. The reason which he explained it sounds reasonabl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391160" y="2742840"/>
            <a:ext cx="106668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3080" y="1905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1320" y="4495680"/>
            <a:ext cx="7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5720" y="54100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840" y="3276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5000" y="502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3. Those at the desk want to buy tickets write down your nam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4. That was the reason because she looked o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5. Miss Chen is the only one of the few teachers who give us wonderful English lessons in our scho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6. Taiwan, that we know, belongs to Chin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286000" y="5409720"/>
            <a:ext cx="914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2920" y="2209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8000" y="304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148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2520" y="4267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1440" y="4648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v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41000" y="3429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4840" y="19810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  <a:ea typeface="黑体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指出关系代词（副词）在定语从句中的成份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1.The ma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came to our school is Mr. Wang.            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2.The girl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om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I met is Lucy.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3.A child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parents are dead is called Tom.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4.I like the book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ich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bought yesterday.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19560" y="2819160"/>
            <a:ext cx="1523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7. It is the one of the best films that have been shown recentl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8. The third place which we are going to visit is Hangzhou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9. Which is known to all, many satellite are going around in the sk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 The students and things which you spoke of are known to u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76360" y="3352320"/>
            <a:ext cx="1066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2152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0760" y="3733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4880" y="2209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308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1160" y="5334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8520" y="2971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82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1148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1.Einstein is such a great scientist that we must learn fro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2. The student who’s book I had borrowed didn’t come to school to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3. Who is the worker who took some pictures of the factor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4. The bike by which I travelled was hi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09720" y="220932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7280" y="3124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9400" y="403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360" y="44197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7800" y="4952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412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96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badi MT Condensed Light"/>
              </a:rPr>
              <a:t>Homework:</a:t>
            </a:r>
            <a:endParaRPr b="0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4100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1) Finish off the exercises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2) Preview Lesson 89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9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666880" y="48006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ff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ff99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5. His parents wouldn’t let him marry anyone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family  was poor.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6. I like the perso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just talk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7. We shall never forget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spent together.              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8. We shall never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lived together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52720" y="17524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介宾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状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情况，引导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which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为不定代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muc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l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n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no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Finally, the thief handed everything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had stol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前有形容词最高级、序数词修饰时，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This is the best book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’ve ever rea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先行词被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onl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ver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last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修饰时，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is the only person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 want to see now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4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先行词同时指人和指物时，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talked about the things and persons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saw th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5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定语从句内容为解释名词的性质、概念时，需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A plane is a machine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can fl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二：连接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的用法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Which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引导非限定性定语从句，其先行词可是一个词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也可是整个主句或主句的某一部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1. She heard a terrible noise, ______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brought her heart into her m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it    B. which    C. this    D. 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2. The weather turned out to be good,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___ was more than we could expect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what    B. which    C. that    D. it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2920" y="4616280"/>
          <a:ext cx="140976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616280"/>
                    <a:ext cx="140976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1599840"/>
            <a:ext cx="62485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28800" y="2057400"/>
            <a:ext cx="4952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Handwriting"/>
              </a:rPr>
              <a:t>Good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三：介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+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关系代词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****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of + which/whom”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可用来限定名词、代词、分数词、数词等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1. In the dark street, there wasn’t a single person ____________ she could turn for help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at    B. who    C. from whom    D. to who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2. He paid the boy $10 for washing the windows, most of ________ hadn’t been cleaned  for at least a year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ese    B. those    C. that    D. which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95480" y="4343040"/>
            <a:ext cx="609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84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根据从句中动词与先行词的逻辑关系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Is that the newspape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for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you often write articles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从句中动词或形容词的习惯搭配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Can you explain to me how to use these  idioms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out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I’m sur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先行词与介词的搭配习惯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1949 was the yea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the P.R.C. was found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非限制性定与从句中，要表示先行词的一部分时，可用“数词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代词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+ of +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关系代词”的结构，如：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There are 50 students in our class,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two-    thirds of whom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 have been to Beijing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13:56:08Z</dcterms:created>
  <dc:creator>dx</dc:creator>
  <dc:description/>
  <dc:language>en-US</dc:language>
  <cp:lastModifiedBy>user</cp:lastModifiedBy>
  <dcterms:modified xsi:type="dcterms:W3CDTF">2005-04-03T12:18:11Z</dcterms:modified>
  <cp:revision>15</cp:revision>
  <dc:subject/>
  <dc:title>Have a try</dc:title>
</cp:coreProperties>
</file>