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196-DFB6-4905-BDF9-73B91657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B16-09BD-466C-8B89-EC4F18BB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EE5-A3F4-43EB-B141-9E4C4B30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326-CA02-4D85-8C37-244A01B8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A56-EED0-4E3B-81F2-BD03817C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CDD5-B4FC-417D-A3C7-53E8DEEF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319-04E4-4F7F-885D-081A14DD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F87-32AA-42F7-9F99-A706CB6A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A63-9BFD-4A6B-AC3A-8F99C536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1DD-9756-4D8F-9C2D-916677F9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505-31A3-4BA7-8C0C-FB23A79A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E19-0627-4CC6-8301-E5CC836A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3227-3B4B-4598-BA7F-2A77605BE2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3952349491407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高三英语总复习语法系列训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让步状语从句专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ever, wher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，同时也分别是时间状语从句和地点状语从句，这里作为让步状语从句来看待，是强调它们带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en, no matter wher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含义。在口语中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+wh-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结构比较常见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at I did, no one paid any attention. (= Whatever I did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en and how the invaders come, they will be wiped out cl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who it is, I don’t want to se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how difficult the task may be, we must fulfil it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 is true, no matter what you may say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置于主句之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n’t believe the rumour, no matter who repeats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置于主句之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口语中还可以这样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 doesn’t matter (= No matter) what he may say, I am g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状语从句通常用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, although, no matter, even if, if, even though, however, whateve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引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△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状语从句可以前置，也可以后置；前置时强调主句内容，后置时强调从句内容。有时也可以采取中位（插入句中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个词同义，一般情况下可以互换使用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didn’t light the fire though / although it was c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②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较正式，语气较重，常用于强调让步概念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insisted on doing it although I warned him no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③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用，但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可以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(Even though) the traffic held us up, we got to the airport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62320"/>
            <a:ext cx="914400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④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让步状语从句是指一种假设的情况，不指事实时，通常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而不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ill never do such a thing though he (should) be forced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all the world were against me, I shall still hold to my opi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⑤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在非正式文体中用作连接性状语，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则不行。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放在句中或句末，通常用逗号隔开）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said he would come; he didn’t, th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⑥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可用倒装语序（即把从句中的表语或状语等放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之前），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能这样用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ng though she is, yet she is fit for the job.  (= Young as she i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4280"/>
            <a:ext cx="91440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⑦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有时可用副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et, still, nevertheless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但不能用连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ut)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来配合连接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以加强语气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he is over seventy, yet / still / nevertheless he can ride the b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⑧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面的主语和谓语动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以省略，如果这个主语和主句中的主语指同一个人或物时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(it was) cold, it was a fine winter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(he was) severely wounded, yet he refused to leave the battl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(they were) very tired, they continued to march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ven if, even though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和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△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thoug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义，常用于强调让步概念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ll do it, even if it takes me all th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as there even if we didn’t se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 you fail, you can try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ll help you, even if I don’t sleep for a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有时也可以用于让步含义，但要注意条件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让步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区别，试比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poor, how can he buy the house?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poor, he is at least hones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(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inexperienced, he won’t be able to accomplish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he is inexperienced, he is at any rate eager to learn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(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John had been there, I would have seen him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John was there, I didn’t see him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(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i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由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s, that, though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引导的特殊让步状语从句结构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正式文体或文学作品中，为了强调让步的含义，可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让步从句。但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般不置于句首，而将从句中的表语或状语置于句首。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, tha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样，也可以用于这种结构），如下面几种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590920"/>
            <a:ext cx="91440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①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语的倒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ired as he was, he still went on with his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ld as I am, I can still f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lever as you may be, you cannot d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ll as / though he was, he couldn’t reach the top sh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icult though the task was, they managed to accomplish it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666880"/>
            <a:ext cx="9144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状语的倒装：（这时不可在状语之前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ery, muc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修饰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uch as I admire him as a writer, I do not like him as a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uch as he likes the bike, he doesn’t want to buy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rd as I studied, I could not catch up with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590920"/>
            <a:ext cx="91440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③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谓语动词的倒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as he would, he could not remember a word of it. (= No matter how he would tr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as he might, he didn’t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te him as we may, we must admit his great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arch as they would, they could find nothing in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as you may, you will never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860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注意事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6680"/>
            <a:ext cx="91440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①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果是单数名词或形容词最高级作表语，不再用冠词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acher as Michael is, he is not capable of teaching all subje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as / that he was, he knew what was the right thing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ngest as he is in our class, he speaks English the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as he is, he knows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②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可以置于主句前、主句后或句中，当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置于句首时，主句前可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e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ry, brave as she is, is afraid of sn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as unable to make much progress, hard as he t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ich as he is, (yet) I don’t envy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066680"/>
            <a:ext cx="9144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③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当作表语的形容词提前时，如果从句的主语是人称代词，那么它只能放在动词之前；如果从句的主语是名词，则可用倒装语序，也可用陈述语序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ired as were the workers, they did not s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lever though / as you may be, you can’t d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④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句与主句在时态上可以不一致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as he is, he was br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⑤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意区别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原因从句与让步从句，试比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wyer as he is, he explains the reason clearly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原因从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wyer as he is, he can’t explain the reason very clearly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从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ven though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和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 though (= even if)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指把握不大或假设的事情，意为“即使”、“纵然”；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导的从句指事实，意为“尽管”、“虽然”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7652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ill not reveal the secret, even though he knows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能知道，也可能不知道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will not reveal the secret though he knows i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虽然知道，却不说出来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28800"/>
            <a:ext cx="9144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ile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(= although)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它引导的让步状语从句只能前置，位于句首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you may be right, I can’t altogether ag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admit that the problems are difficult, I don’t agree that they cannot be s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267080"/>
            <a:ext cx="91440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意比较下列各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admit his good points, I can see his shortcomings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understand what you say, I can’t agree with you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le I was reading, the light went ou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otion is absolute while stagnation is relative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转折、对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is idle, while his brother is diligent.  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转折、对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J_051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whether…or…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△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种从句也称“选择条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步状语从句”，可位于主句之前或之后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he drives or (whether he) flies, he will be here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you like it or not, you’ll have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or not it rains, I’m giving a part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hold that all countries, (whether they are) big or small, (whether they are) rich or poor, should be eq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ther it rains or snows, I will go to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e had to go, whether or not she wante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由连接代词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oever, whomever, whatever, whichever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Whoeve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(= no matter who) is unwilling to go, I will 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who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既相当于连接词短语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接主句与从句，又相当于疑问代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omever (= no matter whom) you are dealing with, this method is no g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ever (= no matter what) happens, keep ca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ever others may say, you are certainly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chever (= no matter which) you choose, we have no obj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076640"/>
            <a:ext cx="91440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由连接形容词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at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ich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，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Whateve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(= no matter what) difficulties may arise, we must and can overcome them one by one.  (what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既相当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接主句与从句，又相当于疑问形容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修饰名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iculties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chever (= no matter which) room is assigned to him, he will have no obj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ichever method you use, the result is much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由连接副词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owever, wher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enever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引导的让步状语从句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ever ( = no matter how) difficult the task may be, we will fulfil it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howev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既相当于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 matter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接主句与从句，又相当于疑问副词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修饰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fficul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rever ( = no matter where) they went, they were warmly welco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ever I’m unhappy, he cheers me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dog follows me wherever I 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4956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注意以上几种结构的省略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ever difficult the task (may be), it will be fulfilled 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ever great the difficulties (may be), we will never retr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ever the difficulties (may be), they must and can be over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</cp:lastModifiedBy>
  <dcterms:modified xsi:type="dcterms:W3CDTF">2004-08-17T14:39:33Z</dcterms:modified>
  <cp:revision>9</cp:revision>
  <dc:subject/>
  <dc:title>PowerPoint Presentation</dc:title>
</cp:coreProperties>
</file>