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B71-0FD0-4A27-BECC-E95E0F8E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858-F0DC-49A3-9473-DDE995D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97E-DB19-4BBA-AFB6-66C5DA54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716-07FD-43AF-9B0B-D3F1FE73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9EA-9969-41B7-A829-4C891303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482-2330-4385-B21C-5C83C1E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332-11F6-430B-AD44-9542D3CF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FAA-1CE7-49CA-BD80-48790D77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DFE-12C4-41FC-8791-A4A4BEB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7EF-5283-4893-9F12-E7BBED8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5B6-4ADB-41E2-AAC7-7081966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883-2C62-4A06-B925-29659FCF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3960-13E1-4AB3-ACD1-405FDBA8E94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PHILOSOPH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Comic Sans MS"/>
                <a:ea typeface="標楷體"/>
              </a:rPr>
              <a:t>人生哲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bebesdormindo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34290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人需要同情諒解時，善體其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人生有把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要有信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ebes1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安慰朋友、為他打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Have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 confidence in yourself!!</a:t>
            </a:r>
            <a:r>
              <a:rPr b="1" lang="pt-BR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自己要有信心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ebe1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享受人生</a:t>
            </a: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by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1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patient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有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openminded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胸懷若谷，無偏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mile often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經常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avor special mo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咀嚼令人回味的時刻</a:t>
            </a:r>
            <a:r>
              <a:rPr b="1" lang="zh-TW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結交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發掘老朋友的新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ell them that you love them…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讓他們知道你愛他們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以及想到他們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eel it deeply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是何等的真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11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72520" y="669240"/>
            <a:ext cx="565632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gnore worr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揮別憂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orget problem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忘卻難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ardon enem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寬恕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Keep promis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信守承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18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320" y="12189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如果還有機會，再試一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別忘了嘉獎自己的好點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儘量不犯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if you do, learn from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若是犯了，則從中汲取教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19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偶爾瘋狂一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珍惜每個驚喜  心存感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抬頭張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看看太陽掛在天空的哪個角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聆聽雨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凝神觀望 彩虹隕石的蹤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尋找周遭的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23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發出會心的微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和朋友談談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不吝付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柔和待人，始終如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bes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心存期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所企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長大成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全力以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做你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ebe6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Lyq</cp:lastModifiedBy>
  <dcterms:modified xsi:type="dcterms:W3CDTF">2002-01-25T07:01:48Z</dcterms:modified>
  <cp:revision>36</cp:revision>
  <dc:subject/>
  <dc:title>Slide sem título </dc:title>
</cp:coreProperties>
</file>