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EF6-9479-4BF9-A0A5-B005CA4A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CAC4-9181-4887-8FE3-93009477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352-2957-4AC8-939B-5C9C616E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FD0-CF31-46AE-9DB5-98BF618C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419-F38F-4FC1-B80E-B5A86398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6AD9-6293-4879-95E4-93EDB2C3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CFD-19E1-44EB-BA5E-C2BE0089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363-AA19-4F13-8DF2-8C9B2994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58D5-F0B4-45EA-8680-064D5F65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1FA-3C26-48A8-BA04-EAE96256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7BC-6A50-4880-BBF5-C4A7A4A8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87E-40E4-4F84-A47B-086BBAC4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8B46-A600-4154-AC53-10A37631CD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859240YIZAAgwxQ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720" y="33660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Money is not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It can buy you a house but not a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It can buy you a bed but not sle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6694789DCxkenpKXn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289548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a clock but no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books but not knowled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6695026qjUlFEoDK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1523880"/>
            <a:ext cx="5953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blood but not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sex but not lo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6793365FabZdmYCCF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51814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a position but not resp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medicine but not heal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6695245LzskAPqpjQ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5120" y="2590920"/>
            <a:ext cx="693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ney may not be the root of all evi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it often brings us anguish and regr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694891lLxigTZtRh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228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I would like to tell you how to solve the problem, my dear frien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I hope you will forward the solution to other friends of y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6694676DHnqOTFmA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45720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Give all your money to me. Let me suffer from the anguish for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Right now, Ok? :-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6:32:35Z</dcterms:created>
  <dc:creator>Peggy Pan</dc:creator>
  <dc:description/>
  <dc:language>en-US</dc:language>
  <cp:lastModifiedBy>Lyq</cp:lastModifiedBy>
  <dcterms:modified xsi:type="dcterms:W3CDTF">2001-12-14T06:41:37Z</dcterms:modified>
  <cp:revision>19</cp:revision>
  <dc:subject/>
  <dc:title>没有幻灯片标题</dc:title>
</cp:coreProperties>
</file>