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40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DE0F-94EF-4074-B6CC-820927926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5036-69CB-4651-8820-82E146662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83A4-52A6-438C-ADF1-FE386CB4C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BFB4-C586-4A7D-ABF3-7656B3C0D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9F80-38DB-4C3B-9FAA-3C102AA1F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EB11-E28B-4BA1-9F1F-A295AFCFF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3572-926E-4ABF-8998-BDFF3EDD0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751C-9E3E-486D-8226-914A2F3ED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E895-B370-4888-8711-5DD84836F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4B9D-011C-40D3-A804-E2A7E809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A0B4-F1CE-4B75-AE8F-65FA6932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13C8-7465-4F49-8417-AE40C679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b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185E4-1800-46E6-9D6A-CC5E38B228DD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wmf"/><Relationship Id="rId5" Type="http://schemas.openxmlformats.org/officeDocument/2006/relationships/image" Target="../media/image42.wmf"/><Relationship Id="rId6" Type="http://schemas.openxmlformats.org/officeDocument/2006/relationships/image" Target="../media/image43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image" Target="../media/image47.wmf"/><Relationship Id="rId5" Type="http://schemas.openxmlformats.org/officeDocument/2006/relationships/image" Target="../media/image48.wmf"/><Relationship Id="rId6" Type="http://schemas.openxmlformats.org/officeDocument/2006/relationships/image" Target="../media/image49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image" Target="../media/image51.wmf"/><Relationship Id="rId3" Type="http://schemas.openxmlformats.org/officeDocument/2006/relationships/image" Target="../media/image52.wmf"/><Relationship Id="rId4" Type="http://schemas.openxmlformats.org/officeDocument/2006/relationships/image" Target="../media/image53.wmf"/><Relationship Id="rId5" Type="http://schemas.openxmlformats.org/officeDocument/2006/relationships/image" Target="../media/image54.wmf"/><Relationship Id="rId6" Type="http://schemas.openxmlformats.org/officeDocument/2006/relationships/image" Target="../media/image36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image" Target="../media/image30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34.wmf"/><Relationship Id="rId5" Type="http://schemas.openxmlformats.org/officeDocument/2006/relationships/image" Target="../media/image35.wmf"/><Relationship Id="rId6" Type="http://schemas.openxmlformats.org/officeDocument/2006/relationships/image" Target="../media/image36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b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581280" y="1981080"/>
            <a:ext cx="5029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've been thinking for a long time about what we do in our lif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24280" y="46483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我從很久以前就想著在我這一身我要做些什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b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1565280" cy="19638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724280" y="304920"/>
            <a:ext cx="1374840" cy="18144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228600" y="2514600"/>
            <a:ext cx="1617840" cy="17175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3886200" y="2590920"/>
            <a:ext cx="2133720" cy="12348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685800" y="4648320"/>
            <a:ext cx="1109520" cy="19666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6"/>
          <a:stretch/>
        </p:blipFill>
        <p:spPr>
          <a:xfrm>
            <a:off x="3733920" y="4495680"/>
            <a:ext cx="1828800" cy="1498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117520" y="345960"/>
            <a:ext cx="206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'll take th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as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536880" y="422280"/>
            <a:ext cx="213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'll try to op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y he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 my l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77960" y="2514600"/>
            <a:ext cx="234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'll listen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 the 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urrounding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259092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'll save mor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 spend 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ith my fri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888920" y="4765680"/>
            <a:ext cx="135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'll 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 tra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4495680"/>
            <a:ext cx="297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karaoke I'll never d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ut I belie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'll sing m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13716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讓事情簡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29400" y="16765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試著打開我的心去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57400" y="37339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聽更多關於我身邊的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48520" y="38862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花更多時間和我的朋友同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9436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有更多的旅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b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1788840" cy="7635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228600"/>
            <a:ext cx="1382760" cy="15336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380880" y="2362320"/>
            <a:ext cx="1633680" cy="17539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4343400" y="2590920"/>
            <a:ext cx="1752480" cy="13460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380880" y="4572000"/>
            <a:ext cx="1500480" cy="17780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6"/>
          <a:stretch/>
        </p:blipFill>
        <p:spPr>
          <a:xfrm>
            <a:off x="4648320" y="4419720"/>
            <a:ext cx="1604880" cy="18288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194200" y="345960"/>
            <a:ext cx="19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'll g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re 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 the sea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233760" y="498600"/>
            <a:ext cx="255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'll make my b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 cook tasty f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70520" y="2556000"/>
            <a:ext cx="168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'll jo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y friends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arm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461280" y="301320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bit love m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117520" y="4613400"/>
            <a:ext cx="25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'll be happ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 get new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rom my friend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706800" y="5029200"/>
            <a:ext cx="1789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d achie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ge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mm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66680" y="1676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有更多的時間在海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34120" y="1676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試著去做最好吃的食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133720" y="38862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溶入溫暖友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705720" y="3581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多一點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0512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高興獲得朋友的消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172200" y="44956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一起達到共同的目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b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8600" y="517680"/>
            <a:ext cx="2438280" cy="11458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257800" y="304920"/>
            <a:ext cx="1138320" cy="1698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228600" y="2438280"/>
            <a:ext cx="2146320" cy="14036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4724280" y="2362320"/>
            <a:ext cx="2133720" cy="17301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457200" y="4267080"/>
            <a:ext cx="1550880" cy="22910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6"/>
          <a:stretch/>
        </p:blipFill>
        <p:spPr>
          <a:xfrm>
            <a:off x="5029200" y="4114800"/>
            <a:ext cx="2057400" cy="15746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743560" y="304920"/>
            <a:ext cx="229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 can’t be sur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ut I belie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t worths try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77120" y="228600"/>
            <a:ext cx="216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“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ll, s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at you want, but I 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nice guy!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362680" y="2590920"/>
            <a:ext cx="259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'll co-oper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lean the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rom nasty peo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994800" y="2479680"/>
            <a:ext cx="1867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 h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r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glass m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IC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058840" y="4572000"/>
            <a:ext cx="264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d I h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y won’t stop 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82760" y="5638680"/>
            <a:ext cx="208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my ti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62320" y="1523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我不能確定但這值得一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19920" y="16002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說你想要什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我是個好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b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752480" y="685800"/>
            <a:ext cx="4876920" cy="394344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0" y="487692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 do not know whether it is good for everybody, bu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’m sure that at least I will have had a wonderful time… which by the way is what counts m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ON’T YOU THINK S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553080" y="2133720"/>
            <a:ext cx="22100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我不知道是不是對每個人都是好的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但至少我將有美好的時光照我的方式來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你認為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b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2648160" cy="1747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62120" y="3657600"/>
            <a:ext cx="1400040" cy="2771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715000" y="1828800"/>
            <a:ext cx="2209680" cy="2629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563280" y="66600"/>
            <a:ext cx="5060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 start by being taught in sch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ow to become good citize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2286000"/>
            <a:ext cx="422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 spend a great part of 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hildhood studying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135160" y="4572000"/>
            <a:ext cx="700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d finally we get the diploma that w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nsure us “the position we deserve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06668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我們在學校開始被教育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要成為一個好的國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33720" y="327672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我們花了很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童年的時光在學習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54864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最後我們獲得了一張文憑來確保地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b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" y="663480"/>
            <a:ext cx="1981080" cy="1859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867280" y="2133720"/>
            <a:ext cx="2338560" cy="1966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762120" y="4876920"/>
            <a:ext cx="2117520" cy="161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800800" y="345960"/>
            <a:ext cx="415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 participate to the incre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f unemploy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93840" y="2895480"/>
            <a:ext cx="31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..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ntil we find a jo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13880" y="4613400"/>
            <a:ext cx="412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rough hard tests we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ccepted in the world of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219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我們參與了一場場不被錄用面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35053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直到找到了工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05320" y="55627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通過了艱難的測試獲了一份工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b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055960" cy="2209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1855800" cy="22795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04920" y="3581280"/>
            <a:ext cx="1955520" cy="2119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6477120" y="5029200"/>
            <a:ext cx="2322360" cy="1643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648520" y="345960"/>
            <a:ext cx="527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 perform a good professional care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illed with activity and eff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41400" y="2438280"/>
            <a:ext cx="325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…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lot, a lot of effort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75080" y="4079880"/>
            <a:ext cx="386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ill we fall down exhausted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1080" y="5410080"/>
            <a:ext cx="43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UT we are great profess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ith our valuable market shar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12193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花了很多的精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讓我們在工作上有好的表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95480" y="29718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很多很多的精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43200" y="45720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直到精疲力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b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728720" cy="21178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800600" y="380880"/>
            <a:ext cx="1504800" cy="13622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304920" y="2514600"/>
            <a:ext cx="1620720" cy="16034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4648320" y="2209680"/>
            <a:ext cx="1795320" cy="14018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380880" y="4724280"/>
            <a:ext cx="725760" cy="1824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2895480" y="4343400"/>
            <a:ext cx="1290600" cy="12542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7848720" y="4191120"/>
            <a:ext cx="709560" cy="13968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890360" y="345960"/>
            <a:ext cx="221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ime keeps  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assing, and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478200" y="533520"/>
            <a:ext cx="175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..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 sel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ew targe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10400" y="2666880"/>
            <a:ext cx="207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 m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sweethe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f our lif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706800" y="2514600"/>
            <a:ext cx="202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..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d prom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nevere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95280" y="4648320"/>
            <a:ext cx="173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assionate hug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67800" y="4343400"/>
            <a:ext cx="219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d here c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baby into 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14280" y="5105520"/>
            <a:ext cx="317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amned nigh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uldn’t close my eye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81080" y="13716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當時間慢慢過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791320" y="14479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我們改變新的目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3809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我們遇見了生命中的另一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91320" y="37339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而且承諾這段永恆的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19320" y="5638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激情過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00400" y="57913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家中增加了新的成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67280" y="579132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多少夜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不能合上我的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b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1198440" cy="21938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876920" y="457200"/>
            <a:ext cx="1987560" cy="1774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57200" y="2666880"/>
            <a:ext cx="1569960" cy="15764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4572000" y="2362320"/>
            <a:ext cx="1654200" cy="15681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533520" y="4495680"/>
            <a:ext cx="1976400" cy="1079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5334120" y="4114800"/>
            <a:ext cx="2955960" cy="1685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043360" y="345960"/>
            <a:ext cx="311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 keep on advan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the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53080" y="0"/>
            <a:ext cx="285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rying to m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bes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ur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33720" y="2971800"/>
            <a:ext cx="230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 are the st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rever we 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77120" y="2514600"/>
            <a:ext cx="251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d we are fin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IC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03680" y="430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13520" y="4800600"/>
            <a:ext cx="225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ut we n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ome time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81480" y="57150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 triumph complet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057400" y="14479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我們繼續提升社會地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05720" y="15238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試著表現更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828800" y="38098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無論到那都是受矚目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19920" y="35053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最後變成有錢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603576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但是我們需要更多的時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4120" y="60958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獲得完全的勝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b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2128680" cy="1774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952880" y="304920"/>
            <a:ext cx="1602000" cy="19573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762120" y="2514600"/>
            <a:ext cx="858600" cy="1797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4114800" y="2438280"/>
            <a:ext cx="2286000" cy="1346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380880" y="4572000"/>
            <a:ext cx="1311480" cy="1971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4648320" y="4038480"/>
            <a:ext cx="1628640" cy="18147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269080" y="270000"/>
            <a:ext cx="325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osh! One day they t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y can 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ithout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173280" y="1219320"/>
            <a:ext cx="247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y this tim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ou think get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raz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61760" y="2860560"/>
            <a:ext cx="152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ou fe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estroye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29400" y="2362320"/>
            <a:ext cx="227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ou feel y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ost mean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mmuni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99120" y="4800600"/>
            <a:ext cx="328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ou realise you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ut off from every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327000" y="4267080"/>
            <a:ext cx="189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w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oes not p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y long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till you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oos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14600" y="13716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天啊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!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有一天公司對你說不再需要你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24480" y="38088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在這時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你快瘋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37339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你感到破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失去和他人溝通的意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5791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你發現你被所有事擊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4120" y="6035760"/>
            <a:ext cx="304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時間不再長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而你失去了一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b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1752480" cy="12096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562720" y="228600"/>
            <a:ext cx="1523880" cy="15447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685800" y="2438280"/>
            <a:ext cx="685800" cy="1771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4038480" y="2362320"/>
            <a:ext cx="2362320" cy="15145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685800" y="4724280"/>
            <a:ext cx="1538280" cy="18576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4800600" y="4800600"/>
            <a:ext cx="2055960" cy="15732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70160" y="345960"/>
            <a:ext cx="253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ou real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ou’ve been li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the f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23400" y="914400"/>
            <a:ext cx="186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search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silly targ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1640" y="2438280"/>
            <a:ext cx="185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ou beco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wal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613560" y="240336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ying to esc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r enem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10040" y="4343400"/>
            <a:ext cx="2096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ou ar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l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onging for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ours to p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992640" y="4613400"/>
            <a:ext cx="187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ill your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28800" y="1676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你發現你生活在霧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67280" y="1752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追求可笑的目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752480" y="3809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像行屍走肉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629400" y="35812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想要消滅所有的敵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47920" y="60199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你渴望時間趕快過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10280" y="57913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直到你倒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b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676520" y="1143000"/>
            <a:ext cx="1295280" cy="39337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195720" y="2057400"/>
            <a:ext cx="523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pon this evaluation, an id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me to my mi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 how to improve my lif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352680" y="4038480"/>
            <a:ext cx="4953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根據上述評斷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腦中出現新的點子來改善我的生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2T10:52:34Z</dcterms:created>
  <dc:creator>Javier Peña</dc:creator>
  <dc:description/>
  <dc:language>en-US</dc:language>
  <cp:lastModifiedBy>Adigu</cp:lastModifiedBy>
  <cp:lastPrinted>2000-11-23T23:44:47Z</cp:lastPrinted>
  <dcterms:modified xsi:type="dcterms:W3CDTF">2001-02-25T19:35:51Z</dcterms:modified>
  <cp:revision>32</cp:revision>
  <dc:subject/>
  <dc:title>Sin título de diapositiva</dc:title>
</cp:coreProperties>
</file>