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D8E-03F1-42DE-90A2-9A046305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CC4-F5D5-4126-83BC-6316D0DE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8F5-F3C4-4B28-A267-45092F34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777-ABBD-4F55-8CCC-564210E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1E8-7C1A-466F-9ACD-3D3A7924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FFD-8825-4410-87B0-E467D87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501-8DC8-404B-9B5D-F58E6465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62F-1404-4B8D-B3C6-66EC517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207-7C04-471A-A512-112E3F7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096-02D4-4D50-A2D9-78FE8B2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B4-589F-4E69-B3E7-FADC296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E7D-2CA7-44E0-A5F6-63C1ACD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CC80-5E88-4C7C-9FCE-8716A76A89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Karl  Marx  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星期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 15: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222120"/>
            <a:ext cx="79246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C. knew some English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6964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447920"/>
            <a:ext cx="5715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Unit 21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Karl  Mar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2880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1337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. Why did Marx leave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homeland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 was forced to leave his homeland for political reas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. How many countries did he g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after he left German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3434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ance, Belgium and Engl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3623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How did he feel about his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when he first got to Englan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73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found his English was too limited / was not good enou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1337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What did he do to improve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6576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orked very hard and so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an to  write article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a newspap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5. Why did Engels write to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581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rote him a letter to pra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rx for his good Englis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143000"/>
            <a:ext cx="86104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Marx went to Russia in the 1870’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It took Marx six months to lear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ough Russian for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rtic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70120"/>
            <a:ext cx="86104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Marx gave some advice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earning English in one of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ook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86104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You can not master a fore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anguage unless you trans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it into your 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21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17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导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36920"/>
            <a:ext cx="7315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e dialogue quickly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the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362320"/>
          <a:ext cx="7315200" cy="2945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d i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d (languages)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 close friend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90720" y="990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uch do you know about Carl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, France, Belgium, Eng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352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nch, English, Russian  (German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523880"/>
          <a:ext cx="7315200" cy="4229280"/>
        </p:xfrm>
        <a:graphic>
          <a:graphicData uri="http://schemas.openxmlformats.org/drawingml/2006/table">
            <a:tbl>
              <a:tblPr/>
              <a:tblGrid>
                <a:gridCol w="3200400"/>
                <a:gridCol w="41148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 articl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3434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181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4343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school,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German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problem,  the hard life of the peasa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762120"/>
            <a:ext cx="6248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听力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685800"/>
            <a:ext cx="7467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读课文，每日三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记住新单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0—2    P81—1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3—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查找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英语的资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80010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What are they tal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767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y are talking about English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668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. Is Yang Pei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nglish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670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Yes, but she has some difficulty with idio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657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tch a cold”is something you do; “have a cold” is something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952880"/>
            <a:ext cx="8076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down” is to let something fall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up” is to cut something into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"/>
            <a:ext cx="792504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o you know the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tch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ve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dow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u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根据地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基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048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volutionary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革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78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mited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apid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迅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cl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ai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 &amp;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赞扬；表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ncourag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鼓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s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ster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通；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听课文前四段录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6:47:41Z</dcterms:created>
  <dc:creator>User</dc:creator>
  <dc:description/>
  <dc:language>en-US</dc:language>
  <cp:lastModifiedBy>Zhang Lingdi</cp:lastModifiedBy>
  <dcterms:modified xsi:type="dcterms:W3CDTF">2003-06-10T09:33:18Z</dcterms:modified>
  <cp:revision>33</cp:revision>
  <dc:subject/>
  <dc:title>PowerPoint 演示文稿</dc:title>
</cp:coreProperties>
</file>