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25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3F4-9C79-4F29-9894-AFD17E25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EC0-DBF9-4787-A2EB-3C3101F5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982-769B-4C72-BA4F-6EE4B6D0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B6C-93D6-45C7-8E29-F362890C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0179-C197-46DD-8134-63D33898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5364-83F5-4E30-B087-28BBDC41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E374-7B7D-43B7-BB48-5EB1660B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14FB-08F3-47AD-AF99-49C5846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252E-8279-4E7C-A615-C13E2E1E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76F6-BDF3-4E22-9B4A-E0AD99B8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DA1D-8AF6-49F4-A41F-375DE2D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347-E060-494B-B27B-506B784C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A8F1-4A89-42CA-B05E-BBD9835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4A1A-74B5-447C-9AFC-E2F8C884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8EB-C048-4AD5-83E3-00C9DAC9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C723-5B31-48FF-BFF2-D3229EF4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D234-270A-46D2-8A7B-A1DF5862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445-47E2-4A1B-9F2A-E885D3D4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802-A2C7-46E9-9F6F-AB6D9AEC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009-154B-4AA1-851C-DA56ACFA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649-A51B-45FA-9808-5C36081A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4AE-FDCC-44A8-9133-294B683B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5B4-4DA6-458B-87D6-3B2D6B3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44C-B3A7-4FB2-9F61-9DA1706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85D6-D986-41E4-9A59-6C855F8B7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BD82-8122-481D-8B6D-56EC392A5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6.xml"/><Relationship Id="rId7" Type="http://schemas.openxmlformats.org/officeDocument/2006/relationships/image" Target="../media/image35.jpeg"/><Relationship Id="rId8" Type="http://schemas.openxmlformats.org/officeDocument/2006/relationships/image" Target="../media/image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9.xml"/><Relationship Id="rId3" Type="http://schemas.openxmlformats.org/officeDocument/2006/relationships/image" Target="../media/image15.jpeg"/><Relationship Id="rId4" Type="http://schemas.openxmlformats.org/officeDocument/2006/relationships/slide" Target="slide28.xm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4.xm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6.jpeg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480" y="0"/>
            <a:ext cx="57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A Garden of Po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19447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9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2" descr=""/>
          <p:cNvPicPr/>
          <p:nvPr/>
        </p:nvPicPr>
        <p:blipFill>
          <a:blip r:embed="rId4"/>
          <a:stretch/>
        </p:blipFill>
        <p:spPr>
          <a:xfrm>
            <a:off x="1752480" y="3962520"/>
            <a:ext cx="18050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6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2" descr=""/>
          <p:cNvPicPr/>
          <p:nvPr/>
        </p:nvPicPr>
        <p:blipFill>
          <a:blip r:embed="rId6"/>
          <a:stretch/>
        </p:blipFill>
        <p:spPr>
          <a:xfrm>
            <a:off x="7620120" y="39625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3" descr=""/>
          <p:cNvPicPr/>
          <p:nvPr/>
        </p:nvPicPr>
        <p:blipFill>
          <a:blip r:embed="rId7"/>
          <a:stretch/>
        </p:blipFill>
        <p:spPr>
          <a:xfrm>
            <a:off x="0" y="106668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15" descr=""/>
          <p:cNvPicPr/>
          <p:nvPr/>
        </p:nvPicPr>
        <p:blipFill>
          <a:blip r:embed="rId8"/>
          <a:stretch/>
        </p:blipFill>
        <p:spPr>
          <a:xfrm>
            <a:off x="7620120" y="1066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1" descr=""/>
          <p:cNvPicPr/>
          <p:nvPr/>
        </p:nvPicPr>
        <p:blipFill>
          <a:blip r:embed="rId10"/>
          <a:stretch/>
        </p:blipFill>
        <p:spPr>
          <a:xfrm>
            <a:off x="0" y="39625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6" descr=""/>
          <p:cNvPicPr/>
          <p:nvPr/>
        </p:nvPicPr>
        <p:blipFill>
          <a:blip r:embed="rId11"/>
          <a:stretch/>
        </p:blipFill>
        <p:spPr>
          <a:xfrm>
            <a:off x="5791320" y="396252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4142520" y="45720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49240" y="5181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0320" y="3733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2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24080" y="2209680"/>
            <a:ext cx="914400" cy="2514600"/>
          </a:xfrm>
          <a:custGeom>
            <a:avLst/>
            <a:gdLst>
              <a:gd name="textAreaLeft" fmla="*/ 584280 w 914400"/>
              <a:gd name="textAreaRight" fmla="*/ 914760 w 9144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154 son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5520" y="25909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2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080" y="4419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7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3657600"/>
            <a:ext cx="685800" cy="22860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24120" y="41148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324480" y="3352680"/>
            <a:ext cx="19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6323760" y="48006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pl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399720" y="556272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6094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Shakespeare’s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2362320"/>
            <a:ext cx="177012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2" descr=""/>
          <p:cNvPicPr/>
          <p:nvPr/>
        </p:nvPicPr>
        <p:blipFill>
          <a:blip r:embed="rId8"/>
          <a:stretch/>
        </p:blipFill>
        <p:spPr>
          <a:xfrm>
            <a:off x="6324480" y="1676520"/>
            <a:ext cx="1432080" cy="175248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rId9" action="ppaction://hlinksldjump"/>
          </p:cNvPr>
          <p:cNvSpPr/>
          <p:nvPr/>
        </p:nvSpPr>
        <p:spPr>
          <a:xfrm>
            <a:off x="7467480" y="762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0:  Henry VI , Pa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I ,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1:  Henry VI , Part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2:  Richard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Comedy of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3:  Titus Andron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Taming of the sh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4:  The Two Gentlemen of Ve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Love’s Labour’s L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Romeo and Jul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5:   Richard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 Mid-Summer Night’s D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6:   King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chant of V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7:   Henry IV , Part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IV , Part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8:   Much Ado About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ry Wives of Wind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9:   Julius Ca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s You Like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600:   Twelfth Night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22860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firs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(1590– 16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 Plays and 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7240" y="12193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400" y="2743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7240" y="3352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8480" y="5486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520" y="6461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0384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10520" y="4495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10520" y="914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520" y="3808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10160" y="30481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10160" y="518148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3440" y="3733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92320" y="586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10520" y="4876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64320" y="21337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洛那二绅士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10520" y="2438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爱的徒劳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73560" y="152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520" y="6172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3440" y="18288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3915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921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1:  Ham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2:  Troilus and Cres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All’s Well That End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4:  Measure for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Ot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5:  King 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6:   Antony and Cleopa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7:   Coriol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Timon of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8:   Pe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9:   Cymb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0:   The Winter’s 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2:   The Temp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Henry VIII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Second period(1601– 1608)   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72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Third period(1609– 1612)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tic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11360" y="3200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6960" y="609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44680" y="2133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49600" y="3886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4680" y="2438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1360" y="990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812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96960" y="13716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4680" y="2819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255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冬天的故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2064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辛白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73280" y="6172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360" y="57913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暴风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188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924680" y="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9080" y="4267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尔亲王佩里克利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89520" y="609480"/>
            <a:ext cx="72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Four 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2560" y="1781280"/>
            <a:ext cx="23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amle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27640" y="2743200"/>
            <a:ext cx="28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Lea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648320"/>
            <a:ext cx="4724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omeo and Juli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960" y="3657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Macbe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7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119320" cy="2620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086600" y="5334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9000" y="228600"/>
            <a:ext cx="74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Major 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50720" y="9144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Merchant of Ven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3800" y="4343400"/>
            <a:ext cx="56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ll’s Well That Ends Well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50360" y="2133720"/>
            <a:ext cx="47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Comedy of Err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8080" y="2717640"/>
            <a:ext cx="58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Mid-Summer Night’s Dre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88240" y="3200400"/>
            <a:ext cx="54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Merry Wives of Winds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4000" y="3733920"/>
            <a:ext cx="32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welfth N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1480" y="4952880"/>
            <a:ext cx="60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easure for Measur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22200" y="54864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uch Ado About N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3640" y="594360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s You Like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44280" y="1523880"/>
            <a:ext cx="54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Taming of the shr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0102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李白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90960" y="60948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History P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67652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76920" y="4419720"/>
            <a:ext cx="32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58640" y="5105520"/>
            <a:ext cx="31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</a:t>
            </a: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23623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I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3048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8000" y="3733920"/>
            <a:ext cx="32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6920" y="5715000"/>
            <a:ext cx="307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Joh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240" y="320040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roilus and Cress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87680" y="3276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20400" y="17524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t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7280" y="1828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640" y="3886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ntony and Cleopa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996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3760" y="46483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mon of Ath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468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840" y="17524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lius Cae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18288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636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tus Andron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91800" y="25146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111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riol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0960" y="60948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Roman Play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1143000"/>
            <a:ext cx="78483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nnet 18 is one of the most beautiful sonnets written by Shakespeare , in which he has a profound meditation on the destructive power of time and the eternal beauty brought forth by poetry to the one he loves . A nice summer’s day is usually transient , but the beauty in poetry can last for ever . Thus Shakespeare has a faith in the permanence of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6560" y="22860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Times New Roman"/>
              </a:rPr>
              <a:t>Sonnet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143000"/>
            <a:ext cx="670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hall I compare thee to a summer’s d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hou art more lovely and more temper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ough winds do shake the darling buds of May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summer’s lease hath all too short a d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metime too hot the eye of heaven s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often is his gold complexion dimme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every fair from fair sometimes declines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y chance or nature’s changing course untrimm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t thy eternal summer shall not f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lose possession of that fair thou ow’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shall death brag thou wander’st in his sh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When in eternal lines to time thou grow’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as men can breathe , or eyes can see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lives this , and this gives life to th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1752480" y="457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0904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9059" y="3794"/>
                </a:lnTo>
                <a:lnTo>
                  <a:pt x="9059" y="17806"/>
                </a:lnTo>
                <a:lnTo>
                  <a:pt x="739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701440" y="1231920"/>
            <a:ext cx="383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不能让我来把你比拟作夏日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可是更加温和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更加可爱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狂风会吹落五月里开的好花儿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夏季的生命又未免结束得太快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有时候苍天的巨眼照得太灼热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他那金彩的脸色也会被遮暗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每一样美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总会离开美而凋落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被时机或自然的代谢所摧残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但是你永久的夏天决不会凋枯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永远不会失去你美的仪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死神夸不着你在他影子里踯躅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将在不朽的诗中与时间同在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只要人类在呼吸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眼睛看得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我这诗就活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使你的生命绵延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57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十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914400" y="228600"/>
          <a:ext cx="7924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92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066680" y="2286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6934320" y="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7301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  <a:path fill="darken" w="21600" h="22622">
                <a:moveTo>
                  <a:pt x="3794" y="4305"/>
                </a:moveTo>
                <a:lnTo>
                  <a:pt x="5456" y="4305"/>
                </a:lnTo>
                <a:lnTo>
                  <a:pt x="5456" y="18317"/>
                </a:lnTo>
                <a:lnTo>
                  <a:pt x="3794" y="18317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7320" y="228600"/>
            <a:ext cx="48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Ode to the West Wi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720" y="974880"/>
            <a:ext cx="5261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ake me thy lyre , even as the fores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hat if my leaves are falling like its ow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umult of thy mighty harmon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ill take from both a deep , autumnal ton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weet though in sadness. Be thou , Spirit fierc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y spirit! Be thou me , impetuous 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Drive my dead thoughts over the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Like withered leaves to quicken a new birth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nd , by the incantation of this vers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catter , as from an unextinguished h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shes and sparks , my words among mankin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Be through my lips to unawakened 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rumpet of a prophecy! O , Wind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If Winter comes , can Spring be far behin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du4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328" name="du2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3810240" cy="2743200"/>
          </a:xfrm>
          <a:prstGeom prst="rect">
            <a:avLst/>
          </a:prstGeom>
          <a:ln w="0">
            <a:noFill/>
          </a:ln>
        </p:spPr>
      </p:pic>
      <p:pic>
        <p:nvPicPr>
          <p:cNvPr id="329" name="dufu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330" name="5" descr=""/>
          <p:cNvPicPr/>
          <p:nvPr/>
        </p:nvPicPr>
        <p:blipFill>
          <a:blip r:embed="rId4"/>
          <a:stretch/>
        </p:blipFill>
        <p:spPr>
          <a:xfrm>
            <a:off x="5105520" y="457200"/>
            <a:ext cx="3504960" cy="274320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5" action="ppaction://hlinksldjump"/>
          </p:cNvPr>
          <p:cNvSpPr/>
          <p:nvPr/>
        </p:nvSpPr>
        <p:spPr>
          <a:xfrm>
            <a:off x="8077320" y="2666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772400" cy="640080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1066680" y="304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92400" y="54864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ea typeface="宋体"/>
                <a:hlinkClick r:id="rId2" action="ppaction://hlinksldjump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1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205740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6400800" y="52578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3:30:57Z</dcterms:created>
  <dc:creator>huanglan</dc:creator>
  <dc:description/>
  <dc:language>en-US</dc:language>
  <cp:lastModifiedBy>huanglan</cp:lastModifiedBy>
  <dcterms:modified xsi:type="dcterms:W3CDTF">2004-10-18T09:01:20Z</dcterms:modified>
  <cp:revision>35</cp:revision>
  <dc:subject/>
  <dc:title>PowerPoint 演示文稿</dc:title>
</cp:coreProperties>
</file>