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A400-A3E2-42E7-820C-A7F878BD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1FC-3063-4FFA-8972-887699AB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8A1-FAB2-4DEF-9E8D-ACF93EB4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7E6D-1D62-4960-A6D8-5C507C60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F5E-541B-485B-AA3B-227D2FFA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971-DDE3-4121-8659-7BB4F6D8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9CF-2718-4046-B923-AC4FBC07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617-A0F4-4E62-A05E-16DCAF01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DC7-A2F1-4261-9BA0-DB78A5DE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226-9ADF-4B58-ACCD-57172057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C71-BFE0-4AD1-AA90-E32847B9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876-6F84-4D3B-9D7F-1244227C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A028-87AE-4B3C-922C-06E2CC9D16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1812f"/>
                </a:solidFill>
                <a:latin typeface="Arial"/>
              </a:rPr>
              <a:t>英语中的“非常”系列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43160" y="576360"/>
            <a:ext cx="8689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book is _____worth rea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girl is_______ like her mot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feel _______ ashamed for what I sai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She was _______afraid of dog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______likes to join the arm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4840" y="53352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8480" y="10666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本书很值得一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1320" y="16765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00440" y="2209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那个女孩很像她妈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96320" y="3276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为自己所说的话感到惭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30600" y="27432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14640" y="4495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她特别怕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0080" y="38862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23800" y="54864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非常想参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5680" y="49528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7360" y="990720"/>
            <a:ext cx="895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07a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ver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原级形容词和副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以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完全形容词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现在分词或过去分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tired, ashamed, pleased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excit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boy ran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ver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fast to catch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early bu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个孩子跑得很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赶上早班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3657600"/>
            <a:ext cx="772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ou are ______ wrong.(very/ qui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全错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【注】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表示极端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极其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不能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very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但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用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completely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0960" y="358920"/>
            <a:ext cx="787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very pleased wit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is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对他的话很满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much pleased b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is word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的话使她很满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【注】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非形容词化的分词不能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但可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much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0800" y="365760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64080" y="423720"/>
            <a:ext cx="765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用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动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修饰介词以及形容词和副词的比较级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3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修饰部分以字母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a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开头的形容词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alive, afraid, ashamed, alone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5440" y="3471840"/>
            <a:ext cx="686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wel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“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非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当”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用来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修饰动词、介词短语或用于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固定搭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be well worth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be well-known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speak well of=speak highly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040" y="609480"/>
            <a:ext cx="7643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 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用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表示绝对意义的形容词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副词。如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sure, certain, possibl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rong, right, perfect, dead, read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impossible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修饰动词或名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likes the bike, b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not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ready to buy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非常喜欢那辆自行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她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准备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49520" y="957240"/>
            <a:ext cx="731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程度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含有迫切之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在口语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ant, nee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或表示不良情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短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driver with a clean driv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icense is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wan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om was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ur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040" y="1219320"/>
            <a:ext cx="7193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enoug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意为“足够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非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很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形容词、副词、动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但须放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这些词的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后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。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boy ran fast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enoug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atch up with the do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小孩子跑得很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追上了那只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7480" y="838080"/>
            <a:ext cx="836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7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fast, sound, wide, wide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等用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程度副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主要用在一些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固定搭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baby wa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fast/sound aslee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那小孩儿在熟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wa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ide awak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at that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时她非常清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9080" y="880920"/>
            <a:ext cx="826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y are _______in need of teach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as _______ wound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am _______sure that the cat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dea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His house is over there, _____ab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other hou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6400" y="8380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bad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7800" y="19810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bad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8680" y="312408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640" y="365760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7160" y="472428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3240" y="1447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他们急需教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24960" y="25146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伤得很厉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10520" y="4191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完全确信那只猫彻底死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35320" y="5867280"/>
            <a:ext cx="56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他的房子在那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远在其他房子之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03:03:33Z</dcterms:created>
  <dc:creator>gs6</dc:creator>
  <dc:description/>
  <dc:language>en-US</dc:language>
  <cp:lastModifiedBy>gs6</cp:lastModifiedBy>
  <dcterms:modified xsi:type="dcterms:W3CDTF">2004-10-04T10:17:33Z</dcterms:modified>
  <cp:revision>2</cp:revision>
  <dc:subject/>
  <dc:title>英语中的“非常”系列 </dc:title>
</cp:coreProperties>
</file>