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9385-27D3-4868-A26D-937872773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C3FE-82F2-4DFA-808D-E7156A05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8016-5F91-4A51-9DDD-8C6AEE3DF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752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952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1124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752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952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4EF7-5B61-4FBF-B430-BC1F3DBF7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E045-E037-49E1-B3BC-516E24092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6160-BC6F-49C6-82E4-EAA86E44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D628-0EDC-4CBA-93D8-1F00B5BC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F47F-62D8-4B59-AB49-EE626A74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2A92-4661-4C53-9C05-5E236328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04760" y="1676520"/>
            <a:ext cx="693396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C102-6EF1-45C9-8F98-F104F1D8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CB01-82D5-4A0B-982F-7F90AA5B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F641-44EF-4363-8E93-CDC74DC9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EA07-3F48-45D3-B5C5-EACFD1E4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EB1F-E2C4-4CA9-A01B-D5BD9264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7C5D-F232-44B1-AEA4-7B25451A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B75E-F967-4359-B339-2A1CCC66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0752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3952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91124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0752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3952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C712-2105-4C7A-9F15-D1879C74B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0F5B-18F5-409B-A1E0-C5CDFB00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2ADA-F638-4FAE-8633-92C49247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A0A1-6404-4281-B05A-F8E3E0AF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1676520"/>
            <a:ext cx="693396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5E86-2429-4069-A483-E72152CB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F4B0-364A-4FD5-9A5A-FB6C60FB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912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F019-B76F-42AF-B606-BC22D21E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1124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912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1124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3C90-139C-42A3-84A6-BDFB3192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E886-EAD6-4F55-9E92-BD5B7787A3FD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BBDE-D5E0-4C11-B62D-A7EDA83AFA34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newpag41" descr=""/>
          <p:cNvPicPr/>
          <p:nvPr/>
        </p:nvPicPr>
        <p:blipFill>
          <a:blip r:embed="rId1"/>
          <a:stretch/>
        </p:blipFill>
        <p:spPr>
          <a:xfrm>
            <a:off x="1590840" y="1030320"/>
            <a:ext cx="5962320" cy="4795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562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           </a:t>
            </a:r>
            <a:r>
              <a:rPr b="0" lang="en-US" sz="4800" spc="-1" strike="noStrike">
                <a:solidFill>
                  <a:srgbClr val="ffcc66"/>
                </a:solidFill>
                <a:latin typeface="Monotype Corsiva"/>
              </a:rPr>
              <a:t>That is all</a:t>
            </a: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          </a:t>
            </a:r>
            <a:r>
              <a:rPr b="0" lang="en-US" sz="4800" spc="-1" strike="noStrike">
                <a:solidFill>
                  <a:srgbClr val="ffcc66"/>
                </a:solidFill>
                <a:latin typeface="Verdana"/>
              </a:rPr>
              <a:t>thank you!</a:t>
            </a:r>
            <a:br>
              <a:rPr sz="4800"/>
            </a:b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834920" y="2491920"/>
            <a:ext cx="76676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1045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1045"/>
                </a:solidFill>
                <a:latin typeface="Times New Roman"/>
              </a:rPr>
              <a:t>chen  longbo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1045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1045"/>
                </a:solidFill>
                <a:latin typeface="Times New Roman"/>
              </a:rPr>
              <a:t>Tai Shan Foreign   Language School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3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cover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5029200" cy="3429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Guess : who is he or she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4648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He is an excellent </a:t>
            </a:r>
            <a:r>
              <a:rPr b="1" lang="zh-CN" sz="2800" spc="-1" strike="noStrike" u="sng">
                <a:solidFill>
                  <a:srgbClr val="ff1045"/>
                </a:solidFill>
                <a:uFillTx/>
                <a:latin typeface="Times New Roman"/>
              </a:rPr>
              <a:t>gymnast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and won three golden Olympic Games medals, and now he works in International </a:t>
            </a:r>
            <a:r>
              <a:rPr b="1" i="1" lang="zh-CN" sz="3200" spc="-1" strike="noStrike" u="sng">
                <a:solidFill>
                  <a:srgbClr val="ff1045"/>
                </a:solidFill>
                <a:uFillTx/>
                <a:latin typeface="Times New Roman"/>
              </a:rPr>
              <a:t>Gymnastics</a:t>
            </a:r>
            <a:r>
              <a:rPr b="1" i="1" lang="zh-CN" sz="3200" spc="-1" strike="noStrike">
                <a:solidFill>
                  <a:srgbClr val="ff1045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Union . He runs a firm selling shoes and T-shirts and so o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隶书"/>
              </a:rPr>
              <a:t>李宁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81480" y="1066680"/>
            <a:ext cx="3810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In 1998, a young and beautiful Chinese girl was doing exercises on a </a:t>
            </a:r>
            <a:r>
              <a:rPr b="1" lang="zh-CN" sz="2800" spc="-1" strike="noStrike" u="sng">
                <a:solidFill>
                  <a:srgbClr val="eaeaea"/>
                </a:solidFill>
                <a:uFillTx/>
                <a:latin typeface="Times New Roman"/>
              </a:rPr>
              <a:t>beam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in the USA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when she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landed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unfortunately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she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fell </a:t>
            </a:r>
            <a:r>
              <a:rPr b="1" lang="zh-CN" sz="2800" spc="-1" strike="noStrike" u="sng">
                <a:solidFill>
                  <a:srgbClr val="eaeaea"/>
                </a:solidFill>
                <a:uFillTx/>
                <a:latin typeface="Times New Roman"/>
              </a:rPr>
              <a:t>over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and hurt badly. Now she is a disabled one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桑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o you like doing sports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1600200"/>
            <a:ext cx="504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1219320"/>
            <a:ext cx="807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If you hurt yourself, what will do at once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see the doctor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use  special medicine 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rub down , put hot and cold cloth on the </a:t>
            </a:r>
            <a:r>
              <a:rPr b="0" lang="zh-CN" sz="3600" spc="-1" strike="noStrike" u="sng">
                <a:solidFill>
                  <a:srgbClr val="eaeaea"/>
                </a:solidFill>
                <a:uFillTx/>
                <a:latin typeface="Times New Roman"/>
              </a:rPr>
              <a:t>damaged part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eaeaea"/>
                </a:solidFill>
                <a:uFillTx/>
                <a:latin typeface="Times New Roman"/>
              </a:rPr>
              <a:t>  </a:t>
            </a:r>
            <a:r>
              <a:rPr b="0" lang="zh-CN" sz="3600" spc="-1" strike="noStrike" u="sng">
                <a:solidFill>
                  <a:srgbClr val="eaeaea"/>
                </a:solidFill>
                <a:uFillTx/>
                <a:latin typeface="Times New Roman"/>
              </a:rPr>
              <a:t>(hot-cloth-and –frozen-peas)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The temperatures makes the blood move a,the damaged part begin to repair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ffcc66"/>
                </a:solidFill>
                <a:latin typeface="Ravie"/>
              </a:rPr>
              <a:t>isten and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1180800"/>
            <a:ext cx="77724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隶书"/>
                <a:ea typeface="隶书"/>
              </a:rPr>
              <a:t>1,What is the matter with Sharon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隶书"/>
                <a:ea typeface="隶书"/>
              </a:rPr>
              <a:t>2,What does the doctor tell her to do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隶书"/>
                <a:ea typeface="隶书"/>
              </a:rPr>
              <a:t>To 1  is that she has hurt her </a:t>
            </a:r>
            <a:r>
              <a:rPr b="1" i="1" lang="en-US" sz="3600" spc="-1" strike="noStrike" u="sng">
                <a:solidFill>
                  <a:srgbClr val="99ff33"/>
                </a:solidFill>
                <a:uFillTx/>
                <a:latin typeface="隶书"/>
                <a:ea typeface="隶书"/>
              </a:rPr>
              <a:t>shoulder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隶书"/>
                <a:ea typeface="隶书"/>
              </a:rPr>
              <a:t>To 2  is that the doctor tells her to use a special treatment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Do the questions with your partner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6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o is Sharo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did she hurt her should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y was she very   fortunate 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at does the doctor advise her to us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to use the treatmen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ow often does she must take the treatmen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 you think it is effectiv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00240" y="1066320"/>
            <a:ext cx="4343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Gymna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Do exercises, high-and low bar, land,fell forward, too close,knocked into,fell over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Nothing seriou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Put hot wet cloth one minute,frozen peas for one minute again and agai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Twice a day for a wee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You were sharon,tell the sto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7621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Monotype Corsiva"/>
              </a:rPr>
              <a:t>   </a:t>
            </a:r>
            <a:r>
              <a:rPr b="0" lang="zh-CN" sz="3200" spc="-1" strike="noStrike">
                <a:solidFill>
                  <a:srgbClr val="ffcc66"/>
                </a:solidFill>
                <a:latin typeface="Monotype Corsiva"/>
              </a:rPr>
              <a:t>practise with your partner</a:t>
            </a:r>
            <a:br>
              <a:rPr sz="3200"/>
            </a:br>
            <a:r>
              <a:rPr b="0" lang="zh-CN" sz="3200" spc="-1" strike="noStrike">
                <a:solidFill>
                  <a:srgbClr val="ffcc66"/>
                </a:solidFill>
                <a:latin typeface="Monotype Corsiva"/>
              </a:rPr>
              <a:t>  one to be sharon and one to be docto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971800"/>
            <a:ext cx="4648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Take (have )a look at s.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Have a walk/rest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Be fit to do sth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Be fit for s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38320" y="3504960"/>
            <a:ext cx="30481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7" name="AN02122_" descr=""/>
          <p:cNvPicPr/>
          <p:nvPr/>
        </p:nvPicPr>
        <p:blipFill>
          <a:blip r:embed="rId1"/>
          <a:stretch/>
        </p:blipFill>
        <p:spPr>
          <a:xfrm>
            <a:off x="5791320" y="3505320"/>
            <a:ext cx="2601720" cy="2604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w Cen MT Condensed Extra Bold"/>
              </a:rPr>
              <a:t>If you were a patient at doctor’s ,and make  a dialogue with your friend.(</a:t>
            </a:r>
            <a:r>
              <a:rPr b="0" i="1" lang="en-US" sz="2800" spc="-1" strike="noStrike">
                <a:solidFill>
                  <a:srgbClr val="ffcc66"/>
                </a:solidFill>
                <a:latin typeface="Tw Cen MT Condensed Extra Bold"/>
              </a:rPr>
              <a:t>headache </a:t>
            </a:r>
            <a:r>
              <a:rPr b="0" i="1" lang="en-US" sz="3600" spc="-1" strike="noStrike">
                <a:solidFill>
                  <a:srgbClr val="ffcc66"/>
                </a:solidFill>
                <a:latin typeface="Tw Cen MT Condensed Extra Bold"/>
              </a:rPr>
              <a:t>…)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PE02716_" descr=""/>
          <p:cNvPicPr/>
          <p:nvPr/>
        </p:nvPicPr>
        <p:blipFill>
          <a:blip r:embed="rId1"/>
          <a:stretch/>
        </p:blipFill>
        <p:spPr>
          <a:xfrm>
            <a:off x="4952880" y="2971800"/>
            <a:ext cx="3772080" cy="3557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fcc66"/>
                </a:solidFill>
                <a:latin typeface="DFPhonetic"/>
                <a:ea typeface="MingLiU"/>
              </a:rPr>
              <a:t>exercises to homewor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11430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ercises                 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nock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hould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ur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amin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81480" y="129492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riou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eat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o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cke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loo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pai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5T13:14:11Z</dcterms:created>
  <dc:creator>陈金钱</dc:creator>
  <dc:description/>
  <dc:language>en-US</dc:language>
  <cp:lastModifiedBy>User</cp:lastModifiedBy>
  <dcterms:modified xsi:type="dcterms:W3CDTF">2004-03-15T14:44:52Z</dcterms:modified>
  <cp:revision>7</cp:revision>
  <dc:subject/>
  <dc:title>    Guess : who is he or she</dc:title>
</cp:coreProperties>
</file>