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459-3D4A-42AA-9E06-B942E728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051-9FB2-4CD1-9633-7F086FC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CDB-BB4E-491C-B8FD-171F28D3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50B-CD06-4210-9B33-38919D8A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086D-E651-43E3-A853-DDF64EE5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B92-1060-45C1-A30D-24231D79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B31D-2894-4CC3-8494-E6AF442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1A0E-4FAD-46BB-AAA0-FECAEDF6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758-40DE-4EDB-AE43-C7A08E6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F7D8-00A7-4AF7-BE47-B9FA593D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849F-9206-40A1-BDCA-B147C34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E58-4F34-4CC1-8DE0-C0E89903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1A1-2486-42F8-9B06-1991839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CA56-DB4F-4DC7-BDDB-D9BC6AA1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A04C-A915-41E0-84E6-CF81B1CF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149A-C015-43AD-AC5C-33A8C228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400A-C52E-4AC8-BB32-70FEF7BE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252-0DDF-48DE-8948-17B15CC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846-27E7-48D0-A829-9522EF6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F2F-35B5-4A62-ABA9-DCEF988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289-C57D-4D90-B09A-CD2550C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93F-1E80-47BE-9163-4D6DD7F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85D-01D0-4E59-8A51-1AB47F4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262-1208-4FDB-8C60-FFFEEBB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1575-25DC-4C72-8379-91D520B9BB7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4E9-D52F-446C-9121-542D96E6F9F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0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osite Sketc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program creates a sketch of your face according to the information entered by you regarding your facial fea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ar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tick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orma de la ca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N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hub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B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lexion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D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thnicity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Europ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Afri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Or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acial Hai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e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Hand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oust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Goa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ender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g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0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0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4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17-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25-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7" action="ppaction://hlinksldjump"/>
              </a:rPr>
              <a:t>36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8" action="ppaction://hlinksldjump"/>
              </a:rPr>
              <a:t>46-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9" action="ppaction://hlinksldjump"/>
              </a:rPr>
              <a:t>56-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0" action="ppaction://hlinksldjump"/>
              </a:rPr>
              <a:t>+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rocessing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information will now be processed. In a few seconds, you will be able to see the results. Hopefully,it will be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yzing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2840" y="19807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257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analyzed, press to see your composite sk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d you come out ok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hoto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067360" cy="49914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xampl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results can be decent, but will be close enough to your features. It all depends on the characteristics you enter.  Here are some exampl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mg13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4275000" cy="2274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Questionnai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 a few seconds a questionnaire will appear, asking you about your features in order to be able to do a sketch of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5438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o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Red/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Styl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al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Green/Haz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ose Shap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out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ips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h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 thic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ixa Vazquez</cp:lastModifiedBy>
  <dcterms:modified xsi:type="dcterms:W3CDTF">2001-03-01T15:06:17Z</dcterms:modified>
  <cp:revision>5</cp:revision>
  <dc:subject/>
  <dc:title>Presentación de PowerPoint</dc:title>
</cp:coreProperties>
</file>