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wmf" ContentType="image/x-wmf"/>
  <Override PartName="/ppt/media/image2.gif" ContentType="image/gif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AFD-4497-481E-B099-79FF2325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F67-9537-4738-9987-320A51E5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ECE-23AC-486A-8B27-66E33982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CBB-E615-4E54-B9D3-004A9828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4A5-87F1-4A1D-AB29-FBF76C1F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D26-D353-41B6-828B-2DE8DB55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A254-B39C-4B4E-A151-38275A79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C9C-8943-4097-95BA-09B60050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F1E-A6AE-485A-AE69-C3538579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EE8-E954-4516-9400-4A55D84A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8AF-5114-4B83-AC76-4F0E029C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A48-BEC2-41C2-BCD7-B7D1FD59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56AD-3149-4CA9-AE70-2EE9E5E8A7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cean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800600"/>
          </a:xfrm>
          <a:prstGeom prst="rect">
            <a:avLst/>
          </a:prstGeom>
          <a:ln w="0">
            <a:noFill/>
          </a:ln>
        </p:spPr>
      </p:pic>
      <p:pic>
        <p:nvPicPr>
          <p:cNvPr id="42" name="B_023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1589040" cy="1235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3480" y="32544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oper Black"/>
              </a:rPr>
              <a:t>Lesson 62      The 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33120" y="60958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March 16</a:t>
            </a:r>
            <a:r>
              <a:rPr b="1" lang="en-US" sz="1800" spc="-1" strike="noStrike" baseline="30000">
                <a:solidFill>
                  <a:srgbClr val="ff0066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62000" y="609588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Times New Roman"/>
              </a:rPr>
              <a:t>浙江椒江一中   田逢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BJ_046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200" y="152280"/>
            <a:ext cx="25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8560" y="914400"/>
            <a:ext cx="79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.The earth looks blue from the space because it is so fa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640" y="1523880"/>
            <a:ext cx="80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2.Only a few people have seen much of the earth’s solid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133720"/>
            <a:ext cx="81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3.Altogether there are eleven minerals that make up the sal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of the oc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280" y="289548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4.Chemicals produced by seaweeds help keep the seawater cl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7120" y="350532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5.The surface water of the Mediterranean in summer can reach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o 25°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7120" y="4343400"/>
            <a:ext cx="82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6.According to the passage,if the sea loses a lot of water to the ai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here Might be parts of salt per thousand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280" y="5257800"/>
            <a:ext cx="82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7.Carol beds can be seen everywhere in the sea all over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960" y="5791320"/>
            <a:ext cx="79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8.Corals must live in clean water and dirty water will kill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6440" y="757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6440" y="144792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20574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000" y="27432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000" y="33526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440" y="4267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6440" y="51814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9320" y="5715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73915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FJ01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790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1960" y="457200"/>
            <a:ext cx="312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985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352680"/>
            <a:ext cx="86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How can we protect our se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51055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BJ_00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334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2440" y="228600"/>
            <a:ext cx="22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40680" y="2076480"/>
            <a:ext cx="75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◇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 the text again and try to re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◇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inish off the exercises in the work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asd" descr=""/>
          <p:cNvPicPr/>
          <p:nvPr/>
        </p:nvPicPr>
        <p:blipFill>
          <a:blip r:embed="rId2"/>
          <a:stretch/>
        </p:blipFill>
        <p:spPr>
          <a:xfrm>
            <a:off x="2362320" y="198108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_00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32640" cy="5105160"/>
          </a:xfrm>
          <a:prstGeom prst="rect">
            <a:avLst/>
          </a:prstGeom>
          <a:ln w="0">
            <a:noFill/>
          </a:ln>
        </p:spPr>
      </p:pic>
      <p:pic>
        <p:nvPicPr>
          <p:cNvPr id="48" name="B_018" descr=""/>
          <p:cNvPicPr/>
          <p:nvPr/>
        </p:nvPicPr>
        <p:blipFill>
          <a:blip r:embed="rId2"/>
          <a:stretch/>
        </p:blipFill>
        <p:spPr>
          <a:xfrm>
            <a:off x="762120" y="5029200"/>
            <a:ext cx="7543800" cy="92232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035000" y="1066680"/>
            <a:ext cx="26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re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1041120" y="1752480"/>
            <a:ext cx="28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ast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1041840" y="2438280"/>
            <a:ext cx="34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reful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1068120" y="3124080"/>
            <a:ext cx="39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anguage 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33560" y="4343400"/>
            <a:ext cx="26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1035000" y="3733920"/>
            <a:ext cx="31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nsoli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LOBE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86600" cy="5214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3071400">
            <a:off x="1084320" y="432324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Pacif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240" y="9907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Arct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3200400">
            <a:off x="2935440" y="3312720"/>
            <a:ext cx="240048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Atlantic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 rot="3411600">
            <a:off x="5750280" y="3621960"/>
            <a:ext cx="1600200" cy="75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1204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Indian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6097320" y="1752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440" y="1676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960" y="28954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3080" y="17524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320" y="35812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ou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2680" y="5410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ntarc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6520" y="282600"/>
            <a:ext cx="36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lk about th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38098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ce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105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3581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BJ_01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497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0720" y="2514600"/>
            <a:ext cx="71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.How does sea water stay cl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4600" y="3809880"/>
            <a:ext cx="681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Where is the longest coral bed in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81720" y="1600200"/>
            <a:ext cx="713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How salty is the water in the ocean?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5%    11%    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84240" y="5181480"/>
            <a:ext cx="73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.Where is  the saltiest lake in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040" y="380880"/>
            <a:ext cx="86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sten to the tape and then answer the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273800">
            <a:off x="2254320" y="174276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7800" y="2971800"/>
            <a:ext cx="582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eaweeds produce various chemic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at keep the sea cl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7080" y="472428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It lies off the north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8520" y="57150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e Grand Salt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4876920" y="63244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358128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J_04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4876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4920" y="1600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ow salty are different lakes and s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280" y="2610000"/>
            <a:ext cx="4511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b6f"/>
                </a:solidFill>
                <a:latin typeface="Times New Roman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cea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diterranea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ad Se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reat Salt Lak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29200" y="23860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1b6f"/>
                </a:solidFill>
                <a:latin typeface="Times New Roman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680" y="32004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3.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0240" y="388620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3.7—3.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8000" y="449568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8000" y="51055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2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384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54380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3794"/>
                </a:moveTo>
                <a:lnTo>
                  <a:pt x="28586" y="10800"/>
                </a:lnTo>
                <a:lnTo>
                  <a:pt x="1457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s206_01b_pic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03400" y="201600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ngth: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2680" y="331164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idth: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440" y="45306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mperature: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1480" y="56736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alt: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46440" y="194004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,70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22760" y="32353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,80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14360" y="44956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5℃-29 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32400" y="567360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7-39 parts per thou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560" y="1295280"/>
            <a:ext cx="45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mething about Mediterran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7162920" y="63244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h0026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69080" y="4724280"/>
            <a:ext cx="21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oral 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3720" y="137160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ditions for co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00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0040" y="220968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920" y="324180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4200" y="415620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760" y="518148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280" y="2209680"/>
            <a:ext cx="41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ater temperature above 20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640" y="32418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lent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1911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lea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3640" y="514656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depth of less than 60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6781680" y="60199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00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7160" y="1523880"/>
            <a:ext cx="80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y did the Dead Sea become the saltiest lake in the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8640" y="243828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.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9000" y="3733920"/>
            <a:ext cx="42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280" y="49528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israel99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5909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723080" y="3452760"/>
            <a:ext cx="405000" cy="1014480"/>
          </a:xfrm>
          <a:custGeom>
            <a:avLst/>
            <a:gdLst/>
            <a:ahLst/>
            <a:rect l="l" t="t" r="r" b="b"/>
            <a:pathLst>
              <a:path w="255" h="639">
                <a:moveTo>
                  <a:pt x="214" y="50"/>
                </a:moveTo>
                <a:cubicBezTo>
                  <a:pt x="166" y="83"/>
                  <a:pt x="167" y="143"/>
                  <a:pt x="136" y="190"/>
                </a:cubicBezTo>
                <a:cubicBezTo>
                  <a:pt x="128" y="244"/>
                  <a:pt x="124" y="315"/>
                  <a:pt x="83" y="356"/>
                </a:cubicBezTo>
                <a:cubicBezTo>
                  <a:pt x="69" y="416"/>
                  <a:pt x="80" y="380"/>
                  <a:pt x="40" y="461"/>
                </a:cubicBezTo>
                <a:cubicBezTo>
                  <a:pt x="24" y="493"/>
                  <a:pt x="14" y="539"/>
                  <a:pt x="5" y="574"/>
                </a:cubicBezTo>
                <a:cubicBezTo>
                  <a:pt x="8" y="589"/>
                  <a:pt x="0" y="612"/>
                  <a:pt x="14" y="618"/>
                </a:cubicBezTo>
                <a:cubicBezTo>
                  <a:pt x="67" y="639"/>
                  <a:pt x="83" y="617"/>
                  <a:pt x="110" y="592"/>
                </a:cubicBezTo>
                <a:cubicBezTo>
                  <a:pt x="148" y="513"/>
                  <a:pt x="106" y="610"/>
                  <a:pt x="136" y="469"/>
                </a:cubicBezTo>
                <a:cubicBezTo>
                  <a:pt x="143" y="436"/>
                  <a:pt x="188" y="382"/>
                  <a:pt x="188" y="382"/>
                </a:cubicBezTo>
                <a:cubicBezTo>
                  <a:pt x="191" y="370"/>
                  <a:pt x="193" y="358"/>
                  <a:pt x="197" y="347"/>
                </a:cubicBezTo>
                <a:cubicBezTo>
                  <a:pt x="202" y="335"/>
                  <a:pt x="210" y="324"/>
                  <a:pt x="214" y="312"/>
                </a:cubicBezTo>
                <a:cubicBezTo>
                  <a:pt x="229" y="266"/>
                  <a:pt x="233" y="218"/>
                  <a:pt x="249" y="173"/>
                </a:cubicBezTo>
                <a:cubicBezTo>
                  <a:pt x="246" y="123"/>
                  <a:pt x="255" y="72"/>
                  <a:pt x="240" y="24"/>
                </a:cubicBezTo>
                <a:cubicBezTo>
                  <a:pt x="233" y="0"/>
                  <a:pt x="157" y="80"/>
                  <a:pt x="214" y="5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7720" y="2362320"/>
            <a:ext cx="48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inerals from thousands of 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prings and the River Jor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2240" y="37339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ttle rai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5920" y="487692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 river flowing out of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40878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The Dead 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105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4400" y="152280"/>
            <a:ext cx="85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proper words or phr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68580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from space,the earth looks blue.This is 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 _____of the earth’s surface is_____ __ ___v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ceans.The oceans of the world are_____.The Dead Sea,where there is merely 60mm rain in a year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,is the most famous salt lake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water of the Dead Sea_______about 250 part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alt to every thousand parts of water,or25%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ight.The saltiest lake in the World is the______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.Hot parts of the world where the sea is not deep have______ ______.The largest coral bed _____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north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9760" y="736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5880" y="119376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wo th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40480" y="11430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ade  up 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2800" y="1574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596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24382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7120" y="2819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41040" y="3276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240" y="36576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Great  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5320" y="41148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2320" y="45720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ral   b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560" y="45720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es 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5334120"/>
            <a:ext cx="8229600" cy="1523880"/>
          </a:xfrm>
          <a:prstGeom prst="horizontalScroll">
            <a:avLst>
              <a:gd name="adj" fmla="val 93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n from the plane,(=When it is seen from the plane,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.Folded up along the lines, the paper will be a little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When/If it is folded up along the lines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334120"/>
            <a:ext cx="8305920" cy="16761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up /be made u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hree stories make up the whol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ok is made up of these three s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181480"/>
            <a:ext cx="8305920" cy="19051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kers are pai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 is s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pound, eggs by the do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cloth by the y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77240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5:02:01Z</dcterms:created>
  <dc:creator>Terence</dc:creator>
  <dc:description/>
  <dc:language>en-US</dc:language>
  <cp:lastModifiedBy>Terence</cp:lastModifiedBy>
  <dcterms:modified xsi:type="dcterms:W3CDTF">1999-12-16T17:06:39Z</dcterms:modified>
  <cp:revision>16</cp:revision>
  <dc:subject/>
  <dc:title>PowerPoint 演示文稿</dc:title>
</cp:coreProperties>
</file>