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B468-9B0F-44E6-9400-620E673A2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1E31-D4B7-4837-B65C-293CF0E42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8B79-62B4-4978-A5A4-B0E292905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1EF1-F3DE-4BFC-B063-DF726C720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ADD0-43D1-4109-9AFF-F6A17A43E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0721-1AB7-4C39-ABB0-45D3CB6C8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6736-6E5C-41FF-8B43-90AF8887C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7F61-297E-4C3C-A540-E09FE407B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F329-DEE2-4B2D-815F-948EA30DF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7311-4A85-4132-9254-F8D60FEA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C8F0-5C41-4BBD-9569-CECA0239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E83B-479B-4F4F-A5B3-1B4D38AF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29AF-2238-458F-BA2C-1EA26F5FE5E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828800" y="2209680"/>
            <a:ext cx="5486400" cy="16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Unit 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宋体"/>
              </a:rPr>
              <a:t>Making a differenc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4267080"/>
            <a:ext cx="5410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rming u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steni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ea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295280" y="1828800"/>
            <a:ext cx="6934320" cy="331992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t’s read some famous quotes and think abo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What do they mea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you explain them in your own word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Do you agree with them? Why or why no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38080" y="1981080"/>
            <a:ext cx="7543800" cy="116928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agination is more important than knowled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bert Einste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34290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you want to succeed,it’s more important for you to have imagination than knowled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066680" y="1752480"/>
            <a:ext cx="7086600" cy="159588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nius is one percent inspiration and ninety-nine percent perspir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omas Alva Edi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3886200"/>
            <a:ext cx="70866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f we make great efforts to do something, we’ll succe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No matter how clever he is, a person will fail if he doesn’t try his b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143000" y="1447920"/>
            <a:ext cx="6781680" cy="159588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hing in life is to be feared. It is only to be understo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ie Cur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43000" y="3352680"/>
            <a:ext cx="6781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re is nothing to be feared in the world,while there are only things to be understo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219320" y="1676520"/>
            <a:ext cx="7010280" cy="159588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 takes a very unusual mind to undertake analysis of the obvio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fred North Whiteh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19320" y="3657600"/>
            <a:ext cx="7010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explore or study the obvious things is not so easy. It needs a very unusual mind, that is to say,original ideas and opin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295280" y="1600200"/>
            <a:ext cx="6629400" cy="159588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ou cannot teach a man anything;you can only help him find it within himsel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Galileo Galile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3352680"/>
            <a:ext cx="6629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 cannot teach a man anything; you can only help him discover something by himself or help him teach himsel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676520" y="160020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宋体"/>
              </a:rPr>
              <a:t>Discuss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95" name=""/>
          <p:cNvSpPr/>
          <p:nvPr/>
        </p:nvSpPr>
        <p:spPr>
          <a:xfrm>
            <a:off x="1600200" y="2514600"/>
            <a:ext cx="6400800" cy="181800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makes a scientist success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do they have in comm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ke a list of good qualities they ha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429000" y="1295280"/>
            <a:ext cx="2057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Listening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2286000"/>
            <a:ext cx="6858000" cy="289332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n fire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着火，燃烧着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he house was on fi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热衷于，充满热情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hese students are on fire for what they are learning in the computer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124080" y="1143000"/>
            <a:ext cx="30481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Debate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" name=""/>
          <p:cNvSpPr/>
          <p:nvPr/>
        </p:nvSpPr>
        <p:spPr>
          <a:xfrm>
            <a:off x="3124080" y="228600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228600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62520" y="25909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29718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Biology    2.Maths      3.Physics       4.Computer 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3581280"/>
            <a:ext cx="72388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olog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ate your point of vie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think that biology is the most important and useful science,becaus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easons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……                2. ……                 3. 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52480" y="1143000"/>
            <a:ext cx="6019920" cy="1068840"/>
          </a:xfrm>
          <a:prstGeom prst="rect">
            <a:avLst/>
          </a:prstGeom>
          <a:noFill/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man who is called the greatest scientist in the 2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entu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2133720" y="2438280"/>
            <a:ext cx="4495680" cy="3124440"/>
            <a:chOff x="2133720" y="2438280"/>
            <a:chExt cx="4495680" cy="3124440"/>
          </a:xfrm>
        </p:grpSpPr>
        <p:pic>
          <p:nvPicPr>
            <p:cNvPr id="45" name="爱因斯坦4" descr=""/>
            <p:cNvPicPr/>
            <p:nvPr/>
          </p:nvPicPr>
          <p:blipFill>
            <a:blip r:embed="rId2"/>
            <a:stretch/>
          </p:blipFill>
          <p:spPr>
            <a:xfrm>
              <a:off x="2133720" y="2438280"/>
              <a:ext cx="2209680" cy="312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爱因斯坦２" descr=""/>
            <p:cNvPicPr/>
            <p:nvPr/>
          </p:nvPicPr>
          <p:blipFill>
            <a:blip r:embed="rId3"/>
            <a:stretch/>
          </p:blipFill>
          <p:spPr>
            <a:xfrm>
              <a:off x="4343400" y="2438280"/>
              <a:ext cx="2286000" cy="3124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"/>
          <p:cNvSpPr/>
          <p:nvPr/>
        </p:nvSpPr>
        <p:spPr>
          <a:xfrm>
            <a:off x="2590920" y="579132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bert Einste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295280" y="1066680"/>
            <a:ext cx="6477120" cy="1068840"/>
          </a:xfrm>
          <a:prstGeom prst="rect">
            <a:avLst/>
          </a:prstGeom>
          <a:noFill/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woman who was the first woman scientist to receive the Nobel Priz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438280" y="2438280"/>
            <a:ext cx="4038840" cy="2819520"/>
            <a:chOff x="2438280" y="2438280"/>
            <a:chExt cx="4038840" cy="2819520"/>
          </a:xfrm>
        </p:grpSpPr>
        <p:pic>
          <p:nvPicPr>
            <p:cNvPr id="50" name="居里3" descr=""/>
            <p:cNvPicPr/>
            <p:nvPr/>
          </p:nvPicPr>
          <p:blipFill>
            <a:blip r:embed="rId2"/>
            <a:stretch/>
          </p:blipFill>
          <p:spPr>
            <a:xfrm>
              <a:off x="4419720" y="2438280"/>
              <a:ext cx="2057400" cy="281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居里4" descr=""/>
            <p:cNvPicPr/>
            <p:nvPr/>
          </p:nvPicPr>
          <p:blipFill>
            <a:blip r:embed="rId3"/>
            <a:stretch/>
          </p:blipFill>
          <p:spPr>
            <a:xfrm>
              <a:off x="2438280" y="2438280"/>
              <a:ext cx="1981440" cy="28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"/>
          <p:cNvSpPr/>
          <p:nvPr/>
        </p:nvSpPr>
        <p:spPr>
          <a:xfrm>
            <a:off x="2286000" y="556272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dame / Marie Cur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371600" y="1143000"/>
            <a:ext cx="6629400" cy="1556280"/>
          </a:xfrm>
          <a:prstGeom prst="rect">
            <a:avLst/>
          </a:prstGeom>
          <a:noFill/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man who made more than 1,000 inventions in his life and invented electric bulb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2514600" y="2971800"/>
            <a:ext cx="4038480" cy="2819520"/>
            <a:chOff x="2514600" y="2971800"/>
            <a:chExt cx="4038480" cy="2819520"/>
          </a:xfrm>
        </p:grpSpPr>
        <p:pic>
          <p:nvPicPr>
            <p:cNvPr id="55" name="爱迪生2" descr=""/>
            <p:cNvPicPr/>
            <p:nvPr/>
          </p:nvPicPr>
          <p:blipFill>
            <a:blip r:embed="rId2"/>
            <a:stretch/>
          </p:blipFill>
          <p:spPr>
            <a:xfrm>
              <a:off x="2514600" y="2971800"/>
              <a:ext cx="2133720" cy="281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爱迪生3" descr=""/>
            <p:cNvPicPr/>
            <p:nvPr/>
          </p:nvPicPr>
          <p:blipFill>
            <a:blip r:embed="rId3"/>
            <a:stretch/>
          </p:blipFill>
          <p:spPr>
            <a:xfrm>
              <a:off x="4648320" y="2971800"/>
              <a:ext cx="1904760" cy="28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"/>
          <p:cNvSpPr/>
          <p:nvPr/>
        </p:nvSpPr>
        <p:spPr>
          <a:xfrm>
            <a:off x="2819520" y="58672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omas Alva Ed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23880" y="914400"/>
            <a:ext cx="6400800" cy="581400"/>
          </a:xfrm>
          <a:prstGeom prst="rect">
            <a:avLst/>
          </a:prstGeom>
          <a:noFill/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man who invented lightning r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286000" y="1752480"/>
            <a:ext cx="4648320" cy="4191120"/>
            <a:chOff x="2286000" y="1752480"/>
            <a:chExt cx="4648320" cy="4191120"/>
          </a:xfrm>
        </p:grpSpPr>
        <p:pic>
          <p:nvPicPr>
            <p:cNvPr id="60" name="富兰克林1" descr=""/>
            <p:cNvPicPr/>
            <p:nvPr/>
          </p:nvPicPr>
          <p:blipFill>
            <a:blip r:embed="rId2"/>
            <a:stretch/>
          </p:blipFill>
          <p:spPr>
            <a:xfrm>
              <a:off x="2286000" y="1752480"/>
              <a:ext cx="2438280" cy="419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富兰克林3" descr=""/>
            <p:cNvPicPr/>
            <p:nvPr/>
          </p:nvPicPr>
          <p:blipFill>
            <a:blip r:embed="rId3"/>
            <a:stretch/>
          </p:blipFill>
          <p:spPr>
            <a:xfrm>
              <a:off x="4724280" y="1752480"/>
              <a:ext cx="2210040" cy="419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"/>
          <p:cNvSpPr/>
          <p:nvPr/>
        </p:nvSpPr>
        <p:spPr>
          <a:xfrm>
            <a:off x="2895480" y="586728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njamin Frankl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295280" y="1143000"/>
            <a:ext cx="6553440" cy="1068840"/>
          </a:xfrm>
          <a:prstGeom prst="rect">
            <a:avLst/>
          </a:prstGeom>
          <a:noFill/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man who discovered the force of grav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2438280" y="2514600"/>
            <a:ext cx="4343400" cy="3276720"/>
            <a:chOff x="2438280" y="2514600"/>
            <a:chExt cx="4343400" cy="3276720"/>
          </a:xfrm>
        </p:grpSpPr>
        <p:pic>
          <p:nvPicPr>
            <p:cNvPr id="65" name="牛顿3" descr=""/>
            <p:cNvPicPr/>
            <p:nvPr/>
          </p:nvPicPr>
          <p:blipFill>
            <a:blip r:embed="rId2"/>
            <a:stretch/>
          </p:blipFill>
          <p:spPr>
            <a:xfrm>
              <a:off x="4572000" y="2514600"/>
              <a:ext cx="2209680" cy="327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牛顿5" descr=""/>
            <p:cNvPicPr/>
            <p:nvPr/>
          </p:nvPicPr>
          <p:blipFill>
            <a:blip r:embed="rId3"/>
            <a:stretch/>
          </p:blipFill>
          <p:spPr>
            <a:xfrm>
              <a:off x="2438280" y="2514600"/>
              <a:ext cx="2163960" cy="327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" name=""/>
          <p:cNvSpPr/>
          <p:nvPr/>
        </p:nvSpPr>
        <p:spPr>
          <a:xfrm>
            <a:off x="2971800" y="59436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wt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295280" y="1066680"/>
            <a:ext cx="6400800" cy="1068840"/>
          </a:xfrm>
          <a:prstGeom prst="rect">
            <a:avLst/>
          </a:prstGeom>
          <a:noFill/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famous biologist who is known for his theory of evo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362320" y="2438280"/>
            <a:ext cx="4114800" cy="3353040"/>
            <a:chOff x="2362320" y="2438280"/>
            <a:chExt cx="4114800" cy="3353040"/>
          </a:xfrm>
        </p:grpSpPr>
        <p:pic>
          <p:nvPicPr>
            <p:cNvPr id="70" name="达尔文1" descr=""/>
            <p:cNvPicPr/>
            <p:nvPr/>
          </p:nvPicPr>
          <p:blipFill>
            <a:blip r:embed="rId2"/>
            <a:stretch/>
          </p:blipFill>
          <p:spPr>
            <a:xfrm>
              <a:off x="4495680" y="2438280"/>
              <a:ext cx="1981440" cy="335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达尔文3" descr=""/>
            <p:cNvPicPr/>
            <p:nvPr/>
          </p:nvPicPr>
          <p:blipFill>
            <a:blip r:embed="rId3"/>
            <a:stretch/>
          </p:blipFill>
          <p:spPr>
            <a:xfrm>
              <a:off x="2362320" y="2438280"/>
              <a:ext cx="2133360" cy="335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" name=""/>
          <p:cNvSpPr/>
          <p:nvPr/>
        </p:nvSpPr>
        <p:spPr>
          <a:xfrm>
            <a:off x="3048120" y="59436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arles Darw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295280" y="990720"/>
            <a:ext cx="6553440" cy="1068840"/>
          </a:xfrm>
          <a:prstGeom prst="rect">
            <a:avLst/>
          </a:prstGeom>
          <a:noFill/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Chinese who made the earliest seismogra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666880" y="2438280"/>
            <a:ext cx="3657600" cy="3276720"/>
            <a:chOff x="2666880" y="2438280"/>
            <a:chExt cx="3657600" cy="3276720"/>
          </a:xfrm>
        </p:grpSpPr>
        <p:pic>
          <p:nvPicPr>
            <p:cNvPr id="75" name="张衡" descr=""/>
            <p:cNvPicPr/>
            <p:nvPr/>
          </p:nvPicPr>
          <p:blipFill>
            <a:blip r:embed="rId2"/>
            <a:stretch/>
          </p:blipFill>
          <p:spPr>
            <a:xfrm>
              <a:off x="2666880" y="2438280"/>
              <a:ext cx="1920960" cy="327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地动仪" descr=""/>
            <p:cNvPicPr/>
            <p:nvPr/>
          </p:nvPicPr>
          <p:blipFill>
            <a:blip r:embed="rId3"/>
            <a:stretch/>
          </p:blipFill>
          <p:spPr>
            <a:xfrm>
              <a:off x="4572000" y="2438280"/>
              <a:ext cx="1752480" cy="327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" name=""/>
          <p:cNvSpPr/>
          <p:nvPr/>
        </p:nvSpPr>
        <p:spPr>
          <a:xfrm>
            <a:off x="3048120" y="57913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Zhang He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523880" y="838080"/>
            <a:ext cx="6096240" cy="1068840"/>
          </a:xfrm>
          <a:prstGeom prst="rect">
            <a:avLst/>
          </a:prstGeom>
          <a:noFill/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Chinese who is called the father of modern r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2286000" y="2362320"/>
            <a:ext cx="5029200" cy="3429000"/>
            <a:chOff x="2286000" y="2362320"/>
            <a:chExt cx="5029200" cy="3429000"/>
          </a:xfrm>
        </p:grpSpPr>
        <p:pic>
          <p:nvPicPr>
            <p:cNvPr id="80" name="袁隆平1" descr=""/>
            <p:cNvPicPr/>
            <p:nvPr/>
          </p:nvPicPr>
          <p:blipFill>
            <a:blip r:embed="rId2"/>
            <a:stretch/>
          </p:blipFill>
          <p:spPr>
            <a:xfrm>
              <a:off x="4419720" y="3429000"/>
              <a:ext cx="2895480" cy="236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袁隆平2" descr=""/>
            <p:cNvPicPr/>
            <p:nvPr/>
          </p:nvPicPr>
          <p:blipFill>
            <a:blip r:embed="rId3"/>
            <a:stretch/>
          </p:blipFill>
          <p:spPr>
            <a:xfrm>
              <a:off x="2286000" y="2362320"/>
              <a:ext cx="2197080" cy="342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" name=""/>
          <p:cNvSpPr/>
          <p:nvPr/>
        </p:nvSpPr>
        <p:spPr>
          <a:xfrm>
            <a:off x="4800600" y="25909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Yuan Long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13:07:45Z</dcterms:created>
  <dc:creator>Legend User</dc:creator>
  <dc:description/>
  <dc:language>en-US</dc:language>
  <cp:lastModifiedBy>Legend User</cp:lastModifiedBy>
  <dcterms:modified xsi:type="dcterms:W3CDTF">2004-09-01T14:53:51Z</dcterms:modified>
  <cp:revision>5</cp:revision>
  <dc:subject/>
  <dc:title>PowerPoint 演示文稿</dc:title>
</cp:coreProperties>
</file>