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9.wmf" ContentType="image/x-wmf"/>
  <Override PartName="/ppt/media/image34.wmf" ContentType="image/x-wmf"/>
  <Override PartName="/ppt/media/image25.jpeg" ContentType="image/jpeg"/>
  <Override PartName="/ppt/media/image10.wmf" ContentType="image/x-wmf"/>
  <Override PartName="/ppt/media/image27.jpeg" ContentType="image/jpeg"/>
  <Override PartName="/ppt/media/image6.jpeg" ContentType="image/jpeg"/>
  <Override PartName="/ppt/media/image4.jpeg" ContentType="image/jpeg"/>
  <Override PartName="/ppt/media/image8.wmf" ContentType="image/x-wmf"/>
  <Override PartName="/ppt/media/image12.jpeg" ContentType="image/jpeg"/>
  <Override PartName="/ppt/media/image29.wmf" ContentType="image/x-wmf"/>
  <Override PartName="/ppt/media/image30.png" ContentType="image/png"/>
  <Override PartName="/ppt/media/image11.jpeg" ContentType="image/jpeg"/>
  <Override PartName="/ppt/media/image36.wmf" ContentType="image/x-wmf"/>
  <Override PartName="/ppt/media/image5.jpeg" ContentType="image/jpeg"/>
  <Override PartName="/ppt/media/image26.jpeg" ContentType="image/jpeg"/>
  <Override PartName="/ppt/media/image13.jpeg" ContentType="image/jpeg"/>
  <Override PartName="/ppt/media/image33.wmf" ContentType="image/x-wmf"/>
  <Override PartName="/ppt/media/image3.wmf" ContentType="image/x-wmf"/>
  <Override PartName="/ppt/media/image15.jpeg" ContentType="image/jpeg"/>
  <Override PartName="/ppt/media/whoosh.wav" ContentType="audio/x-wav"/>
  <Override PartName="/ppt/media/image23.wmf" ContentType="image/x-wmf"/>
  <Override PartName="/ppt/media/image28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jpeg" ContentType="image/jpeg"/>
  <Override PartName="/ppt/media/image16.jpeg" ContentType="image/jpeg"/>
  <Override PartName="/ppt/media/image3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59F-B554-4A9A-A2D9-C9EA32C6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1E5-F234-4C06-85E0-4CDC73CB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DAB-5C77-4D18-AEA0-1B9B7945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400-B42E-4995-81F1-749573A5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2A12-D7BD-4732-A674-DC20D999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0F87-A126-489C-BD98-74E70014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5936-32CD-4422-9188-24B27910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21B8-01C2-4A7A-BA93-894839EA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B1BA-8BC7-4A15-8FBD-426EBA52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5571-B698-4A3B-BA2B-92068673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161C-4134-4E28-B142-9D5DB99C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62D-91D1-4BF3-A054-AF7DDDA6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57D1-F457-4CBC-BE66-475B2B15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788A-F9DC-4A25-AF34-07416F01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579E-C7B9-41D1-B371-8F8C014C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E833-2F9A-42A3-AD94-1F565FE0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1FA5-57ED-4DB3-B375-AEE94D5E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16735-7889-49CF-810C-7FFCA54E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3CC84-E7FC-4C45-9870-7D964ABA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04389-9FC0-4C9E-A369-160464BD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0A3AC-FDCB-414F-89BB-C458D2A2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14AEF-404B-4C02-9F9D-0026C954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2DC-AC60-46EB-9D07-A400A7CB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3B0B7-3C51-4DF5-BCED-0B495FF9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5271E-29FF-4873-B927-9879C727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CEC2B-ED93-4BCC-BD79-2E647A9A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02762-95AE-47C8-B9DC-C432F3E1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17FC9-88B1-4DD7-8300-F2C1D6AE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4C362-3A0B-4C22-AA43-C2ECE7D2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3C9A2-5170-40D3-B2A9-DC9049B7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C338-AAC3-4872-BDD1-8A5181BE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DF8-822F-4C1F-B4E5-70908B29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7B8-B08E-4FBD-9A9E-29ABECC9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C46-F643-4F03-BBFA-829AEB31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94E-85BD-435B-93C8-90AEFA9C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64E-F274-46EE-8FEB-5F065EAB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2EBD-11E7-4346-9E14-CEF8AE2FCB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0785-1495-47AF-A432-06B55F2ABA78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DEDE-10C6-4802-8CAC-F7BC315701ED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" Target="slide19.xm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2320" y="1684080"/>
            <a:ext cx="58672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  <a:ea typeface="宋体"/>
              </a:rPr>
              <a:t>Unit 3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  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rave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276360" y="3352680"/>
            <a:ext cx="4343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Welcome everybod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1400" y="309240"/>
            <a:ext cx="687096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17640" y="5025600"/>
            <a:ext cx="4707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e is throwing rubbish on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98720" y="1811160"/>
          <a:ext cx="339552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811160"/>
                    <a:ext cx="339552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726080" y="1698480"/>
            <a:ext cx="3400200" cy="253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74440" y="5011200"/>
            <a:ext cx="4707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man is smoking where he shouldn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039680" y="18730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371840" y="1785960"/>
            <a:ext cx="2897280" cy="2387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25600" y="4997520"/>
            <a:ext cx="4227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car is parked at the wrong pl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068480" y="1944720"/>
            <a:ext cx="2973240" cy="2230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525920" y="1989000"/>
            <a:ext cx="2844720" cy="212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Means of transportatio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1019160" y="1957320"/>
            <a:ext cx="74566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do you have to consider before you decide which means of transportation you will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65240" y="3452760"/>
            <a:ext cx="332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for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475240" y="3357720"/>
            <a:ext cx="2693880" cy="2630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Means of transportatio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1019160" y="1957320"/>
            <a:ext cx="74566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means of transportation have we got when we trav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would you like to 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68280" y="3568680"/>
            <a:ext cx="653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shanghai to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Jingjing to Wu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Wuxi to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Dalian to Qingd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151600" y="4356000"/>
            <a:ext cx="3233520" cy="1724040"/>
          </a:xfrm>
          <a:prstGeom prst="rect">
            <a:avLst/>
          </a:prstGeom>
          <a:ln w="0">
            <a:noFill/>
          </a:ln>
        </p:spPr>
      </p:pic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4383000" y="2409840"/>
            <a:ext cx="363600" cy="260280"/>
          </a:xfrm>
          <a:custGeom>
            <a:avLst/>
            <a:gdLst>
              <a:gd name="textAreaLeft" fmla="*/ 16560 w 363600"/>
              <a:gd name="textAreaRight" fmla="*/ 347040 w 3636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0162" h="21600">
                <a:moveTo>
                  <a:pt x="0" y="0"/>
                </a:moveTo>
                <a:lnTo>
                  <a:pt x="30162" y="0"/>
                </a:lnTo>
                <a:lnTo>
                  <a:pt x="30162" y="21600"/>
                </a:lnTo>
                <a:lnTo>
                  <a:pt x="0" y="21600"/>
                </a:lnTo>
                <a:close/>
              </a:path>
              <a:path fill="lightenLess" w="30162" h="21600">
                <a:moveTo>
                  <a:pt x="0" y="0"/>
                </a:moveTo>
                <a:lnTo>
                  <a:pt x="30162" y="0"/>
                </a:lnTo>
                <a:lnTo>
                  <a:pt x="28762" y="1400"/>
                </a:lnTo>
                <a:lnTo>
                  <a:pt x="1400" y="1400"/>
                </a:lnTo>
                <a:close/>
              </a:path>
              <a:path fill="darken" w="30162" h="21600">
                <a:moveTo>
                  <a:pt x="30162" y="0"/>
                </a:moveTo>
                <a:lnTo>
                  <a:pt x="30162" y="21600"/>
                </a:lnTo>
                <a:lnTo>
                  <a:pt x="28762" y="20200"/>
                </a:lnTo>
                <a:lnTo>
                  <a:pt x="28762" y="1400"/>
                </a:lnTo>
                <a:close/>
              </a:path>
              <a:path fill="darkenLess" w="30162" h="21600">
                <a:moveTo>
                  <a:pt x="30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62" y="20200"/>
                </a:lnTo>
                <a:close/>
              </a:path>
              <a:path fill="lighten" w="30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0162" h="21600">
                <a:moveTo>
                  <a:pt x="9554" y="3985"/>
                </a:moveTo>
                <a:lnTo>
                  <a:pt x="16552" y="3985"/>
                </a:lnTo>
                <a:lnTo>
                  <a:pt x="20608" y="7484"/>
                </a:lnTo>
                <a:lnTo>
                  <a:pt x="20608" y="17615"/>
                </a:lnTo>
                <a:lnTo>
                  <a:pt x="9554" y="17615"/>
                </a:lnTo>
                <a:close/>
              </a:path>
              <a:path fill="darken" w="30162" h="21600">
                <a:moveTo>
                  <a:pt x="16552" y="3985"/>
                </a:moveTo>
                <a:lnTo>
                  <a:pt x="20608" y="7484"/>
                </a:lnTo>
                <a:lnTo>
                  <a:pt x="16552" y="748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s on trave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60120" y="2381400"/>
            <a:ext cx="4584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ey traffic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serve public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ard the right bus, the right train, or the right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et on board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845320" y="397980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33"/>
                                </p:to>
                              </p:animCl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20320"/>
            <a:ext cx="6870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be on tim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66840" y="3497400"/>
            <a:ext cx="2854440" cy="1939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417920" y="1278000"/>
            <a:ext cx="2819520" cy="2058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260360" y="1222200"/>
            <a:ext cx="2870280" cy="2135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4437000" y="3530520"/>
            <a:ext cx="2811600" cy="1913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003480" y="695160"/>
            <a:ext cx="434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sten to the announcements and write down the correct flight number, destination and g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42960" y="2233440"/>
          <a:ext cx="7450200" cy="2532240"/>
        </p:xfrm>
        <a:graphic>
          <a:graphicData uri="http://schemas.openxmlformats.org/drawingml/2006/table">
            <a:tbl>
              <a:tblPr/>
              <a:tblGrid>
                <a:gridCol w="1862280"/>
                <a:gridCol w="1863720"/>
                <a:gridCol w="1861920"/>
                <a:gridCol w="186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Flight 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Dest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G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1793880" y="5373720"/>
            <a:ext cx="687060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宋体"/>
              </a:rPr>
              <a:t>Listening practice: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  <a:ea typeface="宋体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boarding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81200" y="893880"/>
            <a:ext cx="1963440" cy="519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673520" y="297648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A 4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30680" y="3701880"/>
            <a:ext cx="13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ngs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46440" y="4295880"/>
            <a:ext cx="11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962440"/>
            <a:ext cx="11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 37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02320" y="370044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18160" y="431172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84520" y="2976480"/>
            <a:ext cx="15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 11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85960" y="3672000"/>
            <a:ext cx="13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k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42814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578400" y="2332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435640" y="234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7307280" y="23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258040" y="3005280"/>
            <a:ext cx="262080" cy="361800"/>
          </a:xfrm>
          <a:custGeom>
            <a:avLst/>
            <a:gdLst>
              <a:gd name="textAreaLeft" fmla="*/ 16920 w 262080"/>
              <a:gd name="textAreaRight" fmla="*/ 245160 w 262080"/>
              <a:gd name="textAreaTop" fmla="*/ 16920 h 361800"/>
              <a:gd name="textAreaBottom" fmla="*/ 344880 h 361800"/>
            </a:gdLst>
            <a:ahLst/>
            <a:rect l="textAreaLeft" t="textAreaTop" r="textAreaRight" b="textAreaBottom"/>
            <a:pathLst>
              <a:path w="21600" h="29807">
                <a:moveTo>
                  <a:pt x="0" y="0"/>
                </a:moveTo>
                <a:lnTo>
                  <a:pt x="21600" y="0"/>
                </a:lnTo>
                <a:lnTo>
                  <a:pt x="21600" y="29807"/>
                </a:lnTo>
                <a:lnTo>
                  <a:pt x="0" y="29807"/>
                </a:lnTo>
                <a:close/>
              </a:path>
              <a:path fill="lightenLess" w="21600" h="29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07">
                <a:moveTo>
                  <a:pt x="21600" y="0"/>
                </a:moveTo>
                <a:lnTo>
                  <a:pt x="21600" y="29807"/>
                </a:lnTo>
                <a:lnTo>
                  <a:pt x="20200" y="28407"/>
                </a:lnTo>
                <a:lnTo>
                  <a:pt x="20200" y="1400"/>
                </a:lnTo>
                <a:close/>
              </a:path>
              <a:path fill="darkenLess" w="21600" h="29807">
                <a:moveTo>
                  <a:pt x="21600" y="29807"/>
                </a:moveTo>
                <a:lnTo>
                  <a:pt x="0" y="29807"/>
                </a:lnTo>
                <a:lnTo>
                  <a:pt x="1400" y="28407"/>
                </a:lnTo>
                <a:lnTo>
                  <a:pt x="20200" y="28407"/>
                </a:lnTo>
                <a:close/>
              </a:path>
              <a:path fill="lighten" w="21600" h="29807">
                <a:moveTo>
                  <a:pt x="0" y="29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07"/>
                </a:lnTo>
                <a:close/>
              </a:path>
              <a:path fill="darkenLess" w="21600" h="29807">
                <a:moveTo>
                  <a:pt x="5273" y="8089"/>
                </a:moveTo>
                <a:lnTo>
                  <a:pt x="12271" y="8089"/>
                </a:lnTo>
                <a:lnTo>
                  <a:pt x="16327" y="11588"/>
                </a:lnTo>
                <a:lnTo>
                  <a:pt x="16327" y="21719"/>
                </a:lnTo>
                <a:lnTo>
                  <a:pt x="5273" y="21719"/>
                </a:lnTo>
                <a:close/>
              </a:path>
              <a:path fill="darken" w="21600" h="29807">
                <a:moveTo>
                  <a:pt x="12271" y="8089"/>
                </a:moveTo>
                <a:lnTo>
                  <a:pt x="16327" y="11588"/>
                </a:lnTo>
                <a:lnTo>
                  <a:pt x="12271" y="1158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72440" y="3716280"/>
            <a:ext cx="247680" cy="333360"/>
          </a:xfrm>
          <a:custGeom>
            <a:avLst/>
            <a:gdLst>
              <a:gd name="textAreaLeft" fmla="*/ 15840 w 247680"/>
              <a:gd name="textAreaRight" fmla="*/ 231840 w 247680"/>
              <a:gd name="textAreaTop" fmla="*/ 15840 h 333360"/>
              <a:gd name="textAreaBottom" fmla="*/ 317520 h 333360"/>
            </a:gdLst>
            <a:ahLst/>
            <a:rect l="textAreaLeft" t="textAreaTop" r="textAreaRight" b="textAreaBottom"/>
            <a:pathLst>
              <a:path w="21600" h="29061">
                <a:moveTo>
                  <a:pt x="0" y="0"/>
                </a:moveTo>
                <a:lnTo>
                  <a:pt x="21600" y="0"/>
                </a:lnTo>
                <a:lnTo>
                  <a:pt x="21600" y="29061"/>
                </a:lnTo>
                <a:lnTo>
                  <a:pt x="0" y="29061"/>
                </a:lnTo>
                <a:close/>
              </a:path>
              <a:path fill="lightenLess" w="21600" h="290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061">
                <a:moveTo>
                  <a:pt x="21600" y="0"/>
                </a:moveTo>
                <a:lnTo>
                  <a:pt x="21600" y="29061"/>
                </a:lnTo>
                <a:lnTo>
                  <a:pt x="20200" y="27661"/>
                </a:lnTo>
                <a:lnTo>
                  <a:pt x="20200" y="1400"/>
                </a:lnTo>
                <a:close/>
              </a:path>
              <a:path fill="darkenLess" w="21600" h="29061">
                <a:moveTo>
                  <a:pt x="21600" y="29061"/>
                </a:moveTo>
                <a:lnTo>
                  <a:pt x="0" y="29061"/>
                </a:lnTo>
                <a:lnTo>
                  <a:pt x="1400" y="27661"/>
                </a:lnTo>
                <a:lnTo>
                  <a:pt x="20200" y="27661"/>
                </a:lnTo>
                <a:close/>
              </a:path>
              <a:path fill="lighten" w="21600" h="29061">
                <a:moveTo>
                  <a:pt x="0" y="290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661"/>
                </a:lnTo>
                <a:close/>
              </a:path>
              <a:path fill="darkenLess" w="21600" h="29061">
                <a:moveTo>
                  <a:pt x="5273" y="7716"/>
                </a:moveTo>
                <a:lnTo>
                  <a:pt x="12271" y="7716"/>
                </a:lnTo>
                <a:lnTo>
                  <a:pt x="16327" y="11215"/>
                </a:lnTo>
                <a:lnTo>
                  <a:pt x="16327" y="21346"/>
                </a:lnTo>
                <a:lnTo>
                  <a:pt x="5273" y="21346"/>
                </a:lnTo>
                <a:close/>
              </a:path>
              <a:path fill="darken" w="21600" h="29061">
                <a:moveTo>
                  <a:pt x="12271" y="7716"/>
                </a:moveTo>
                <a:lnTo>
                  <a:pt x="16327" y="11215"/>
                </a:lnTo>
                <a:lnTo>
                  <a:pt x="12271" y="11215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85040" y="4295880"/>
            <a:ext cx="247680" cy="333360"/>
          </a:xfrm>
          <a:custGeom>
            <a:avLst/>
            <a:gdLst>
              <a:gd name="textAreaLeft" fmla="*/ 15840 w 247680"/>
              <a:gd name="textAreaRight" fmla="*/ 231840 w 247680"/>
              <a:gd name="textAreaTop" fmla="*/ 15840 h 333360"/>
              <a:gd name="textAreaBottom" fmla="*/ 317520 h 333360"/>
            </a:gdLst>
            <a:ahLst/>
            <a:rect l="textAreaLeft" t="textAreaTop" r="textAreaRight" b="textAreaBottom"/>
            <a:pathLst>
              <a:path w="21600" h="29061">
                <a:moveTo>
                  <a:pt x="0" y="0"/>
                </a:moveTo>
                <a:lnTo>
                  <a:pt x="21600" y="0"/>
                </a:lnTo>
                <a:lnTo>
                  <a:pt x="21600" y="29061"/>
                </a:lnTo>
                <a:lnTo>
                  <a:pt x="0" y="29061"/>
                </a:lnTo>
                <a:close/>
              </a:path>
              <a:path fill="lightenLess" w="21600" h="290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061">
                <a:moveTo>
                  <a:pt x="21600" y="0"/>
                </a:moveTo>
                <a:lnTo>
                  <a:pt x="21600" y="29061"/>
                </a:lnTo>
                <a:lnTo>
                  <a:pt x="20200" y="27661"/>
                </a:lnTo>
                <a:lnTo>
                  <a:pt x="20200" y="1400"/>
                </a:lnTo>
                <a:close/>
              </a:path>
              <a:path fill="darkenLess" w="21600" h="29061">
                <a:moveTo>
                  <a:pt x="21600" y="29061"/>
                </a:moveTo>
                <a:lnTo>
                  <a:pt x="0" y="29061"/>
                </a:lnTo>
                <a:lnTo>
                  <a:pt x="1400" y="27661"/>
                </a:lnTo>
                <a:lnTo>
                  <a:pt x="20200" y="27661"/>
                </a:lnTo>
                <a:close/>
              </a:path>
              <a:path fill="lighten" w="21600" h="29061">
                <a:moveTo>
                  <a:pt x="0" y="290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661"/>
                </a:lnTo>
                <a:close/>
              </a:path>
              <a:path fill="darkenLess" w="21600" h="29061">
                <a:moveTo>
                  <a:pt x="5273" y="7716"/>
                </a:moveTo>
                <a:lnTo>
                  <a:pt x="12271" y="7716"/>
                </a:lnTo>
                <a:lnTo>
                  <a:pt x="16327" y="11215"/>
                </a:lnTo>
                <a:lnTo>
                  <a:pt x="16327" y="21346"/>
                </a:lnTo>
                <a:lnTo>
                  <a:pt x="5273" y="21346"/>
                </a:lnTo>
                <a:close/>
              </a:path>
              <a:path fill="darken" w="21600" h="29061">
                <a:moveTo>
                  <a:pt x="12271" y="7716"/>
                </a:moveTo>
                <a:lnTo>
                  <a:pt x="16327" y="11215"/>
                </a:lnTo>
                <a:lnTo>
                  <a:pt x="12271" y="11215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8588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2429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20982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003480" y="69516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sten to the five world travellers and try to guess where they 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78040" y="5694480"/>
            <a:ext cx="687060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宋体"/>
              </a:rPr>
              <a:t>Listening practice: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  <a:ea typeface="宋体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spoken post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57080" y="1763640"/>
          <a:ext cx="7577280" cy="3657600"/>
        </p:xfrm>
        <a:graphic>
          <a:graphicData uri="http://schemas.openxmlformats.org/drawingml/2006/table">
            <a:tbl>
              <a:tblPr/>
              <a:tblGrid>
                <a:gridCol w="549360"/>
                <a:gridCol w="1800360"/>
                <a:gridCol w="3333600"/>
                <a:gridCol w="1893960"/>
              </a:tblGrid>
              <a:tr h="60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Wha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1335240" y="2511360"/>
            <a:ext cx="10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i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49280" y="3105000"/>
            <a:ext cx="9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08240" y="4311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60360" y="4905360"/>
            <a:ext cx="17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der the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75120" y="2397240"/>
            <a:ext cx="34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bidden City; Great Wall; Tian’anmen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19400" y="2989440"/>
            <a:ext cx="27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iffel Tower; Museum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w “Mona Li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05000" y="4368960"/>
            <a:ext cx="33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oked at the earth; jum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19400" y="4933800"/>
            <a:ext cx="35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oked at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73520" y="5630760"/>
            <a:ext cx="12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89800" y="250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30840" y="30909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 and l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02400" y="432432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pace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75400" y="492120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 swi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6200" y="37432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uth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17960" y="3614760"/>
            <a:ext cx="34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alked in the snow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w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89800" y="37306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ane, on f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19000" y="255600"/>
            <a:ext cx="1698840" cy="14414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008000" y="249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008000" y="3073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1008000" y="3683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1022400" y="430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1022400" y="4916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447040" y="2568600"/>
            <a:ext cx="203400" cy="276120"/>
          </a:xfrm>
          <a:custGeom>
            <a:avLst/>
            <a:gdLst>
              <a:gd name="textAreaLeft" fmla="*/ 12960 w 203400"/>
              <a:gd name="textAreaRight" fmla="*/ 190440 w 20340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09">
                <a:moveTo>
                  <a:pt x="0" y="0"/>
                </a:moveTo>
                <a:lnTo>
                  <a:pt x="21600" y="0"/>
                </a:lnTo>
                <a:lnTo>
                  <a:pt x="21600" y="29309"/>
                </a:lnTo>
                <a:lnTo>
                  <a:pt x="0" y="29309"/>
                </a:lnTo>
                <a:close/>
              </a:path>
              <a:path fill="lightenLess" w="21600" h="293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09">
                <a:moveTo>
                  <a:pt x="21600" y="0"/>
                </a:moveTo>
                <a:lnTo>
                  <a:pt x="21600" y="29309"/>
                </a:lnTo>
                <a:lnTo>
                  <a:pt x="20200" y="27909"/>
                </a:lnTo>
                <a:lnTo>
                  <a:pt x="20200" y="1400"/>
                </a:lnTo>
                <a:close/>
              </a:path>
              <a:path fill="darkenLess" w="21600" h="29309">
                <a:moveTo>
                  <a:pt x="21600" y="29309"/>
                </a:moveTo>
                <a:lnTo>
                  <a:pt x="0" y="29309"/>
                </a:lnTo>
                <a:lnTo>
                  <a:pt x="1400" y="27909"/>
                </a:lnTo>
                <a:lnTo>
                  <a:pt x="20200" y="27909"/>
                </a:lnTo>
                <a:close/>
              </a:path>
              <a:path fill="lighten" w="21600" h="29309">
                <a:moveTo>
                  <a:pt x="0" y="293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09"/>
                </a:lnTo>
                <a:close/>
              </a:path>
              <a:path fill="darkenLess" w="21600" h="29309">
                <a:moveTo>
                  <a:pt x="5273" y="7839"/>
                </a:moveTo>
                <a:lnTo>
                  <a:pt x="12271" y="7839"/>
                </a:lnTo>
                <a:lnTo>
                  <a:pt x="16327" y="11338"/>
                </a:lnTo>
                <a:lnTo>
                  <a:pt x="16327" y="21469"/>
                </a:lnTo>
                <a:lnTo>
                  <a:pt x="5273" y="21469"/>
                </a:lnTo>
                <a:close/>
              </a:path>
              <a:path fill="darken" w="21600" h="29309">
                <a:moveTo>
                  <a:pt x="12271" y="7839"/>
                </a:moveTo>
                <a:lnTo>
                  <a:pt x="16327" y="11338"/>
                </a:lnTo>
                <a:lnTo>
                  <a:pt x="12271" y="1133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48840" y="3098880"/>
            <a:ext cx="203040" cy="27612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61">
                <a:moveTo>
                  <a:pt x="0" y="0"/>
                </a:moveTo>
                <a:lnTo>
                  <a:pt x="21600" y="0"/>
                </a:lnTo>
                <a:lnTo>
                  <a:pt x="21600" y="29361"/>
                </a:lnTo>
                <a:lnTo>
                  <a:pt x="0" y="29361"/>
                </a:lnTo>
                <a:close/>
              </a:path>
              <a:path fill="lightenLess" w="21600" h="293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61">
                <a:moveTo>
                  <a:pt x="21600" y="0"/>
                </a:moveTo>
                <a:lnTo>
                  <a:pt x="21600" y="29361"/>
                </a:lnTo>
                <a:lnTo>
                  <a:pt x="20200" y="27961"/>
                </a:lnTo>
                <a:lnTo>
                  <a:pt x="20200" y="1400"/>
                </a:lnTo>
                <a:close/>
              </a:path>
              <a:path fill="darkenLess" w="21600" h="29361">
                <a:moveTo>
                  <a:pt x="21600" y="29361"/>
                </a:moveTo>
                <a:lnTo>
                  <a:pt x="0" y="29361"/>
                </a:lnTo>
                <a:lnTo>
                  <a:pt x="1400" y="27961"/>
                </a:lnTo>
                <a:lnTo>
                  <a:pt x="20200" y="27961"/>
                </a:lnTo>
                <a:close/>
              </a:path>
              <a:path fill="lighten" w="21600" h="29361">
                <a:moveTo>
                  <a:pt x="0" y="293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61"/>
                </a:lnTo>
                <a:close/>
              </a:path>
              <a:path fill="darkenLess" w="21600" h="29361">
                <a:moveTo>
                  <a:pt x="5273" y="7865"/>
                </a:moveTo>
                <a:lnTo>
                  <a:pt x="12271" y="7865"/>
                </a:lnTo>
                <a:lnTo>
                  <a:pt x="16327" y="11364"/>
                </a:lnTo>
                <a:lnTo>
                  <a:pt x="16327" y="21495"/>
                </a:lnTo>
                <a:lnTo>
                  <a:pt x="5273" y="21495"/>
                </a:lnTo>
                <a:close/>
              </a:path>
              <a:path fill="darken" w="21600" h="29361">
                <a:moveTo>
                  <a:pt x="12271" y="7865"/>
                </a:moveTo>
                <a:lnTo>
                  <a:pt x="16327" y="11364"/>
                </a:lnTo>
                <a:lnTo>
                  <a:pt x="12271" y="1136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48840" y="3727440"/>
            <a:ext cx="203040" cy="27612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61">
                <a:moveTo>
                  <a:pt x="0" y="0"/>
                </a:moveTo>
                <a:lnTo>
                  <a:pt x="21600" y="0"/>
                </a:lnTo>
                <a:lnTo>
                  <a:pt x="21600" y="29361"/>
                </a:lnTo>
                <a:lnTo>
                  <a:pt x="0" y="29361"/>
                </a:lnTo>
                <a:close/>
              </a:path>
              <a:path fill="lightenLess" w="21600" h="293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61">
                <a:moveTo>
                  <a:pt x="21600" y="0"/>
                </a:moveTo>
                <a:lnTo>
                  <a:pt x="21600" y="29361"/>
                </a:lnTo>
                <a:lnTo>
                  <a:pt x="20200" y="27961"/>
                </a:lnTo>
                <a:lnTo>
                  <a:pt x="20200" y="1400"/>
                </a:lnTo>
                <a:close/>
              </a:path>
              <a:path fill="darkenLess" w="21600" h="29361">
                <a:moveTo>
                  <a:pt x="21600" y="29361"/>
                </a:moveTo>
                <a:lnTo>
                  <a:pt x="0" y="29361"/>
                </a:lnTo>
                <a:lnTo>
                  <a:pt x="1400" y="27961"/>
                </a:lnTo>
                <a:lnTo>
                  <a:pt x="20200" y="27961"/>
                </a:lnTo>
                <a:close/>
              </a:path>
              <a:path fill="lighten" w="21600" h="29361">
                <a:moveTo>
                  <a:pt x="0" y="293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61"/>
                </a:lnTo>
                <a:close/>
              </a:path>
              <a:path fill="darkenLess" w="21600" h="29361">
                <a:moveTo>
                  <a:pt x="5273" y="7865"/>
                </a:moveTo>
                <a:lnTo>
                  <a:pt x="12271" y="7865"/>
                </a:lnTo>
                <a:lnTo>
                  <a:pt x="16327" y="11364"/>
                </a:lnTo>
                <a:lnTo>
                  <a:pt x="16327" y="21495"/>
                </a:lnTo>
                <a:lnTo>
                  <a:pt x="5273" y="21495"/>
                </a:lnTo>
                <a:close/>
              </a:path>
              <a:path fill="darken" w="21600" h="29361">
                <a:moveTo>
                  <a:pt x="12271" y="7865"/>
                </a:moveTo>
                <a:lnTo>
                  <a:pt x="16327" y="11364"/>
                </a:lnTo>
                <a:lnTo>
                  <a:pt x="12271" y="1136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459640" y="4395960"/>
            <a:ext cx="203400" cy="276120"/>
          </a:xfrm>
          <a:custGeom>
            <a:avLst/>
            <a:gdLst>
              <a:gd name="textAreaLeft" fmla="*/ 12960 w 203400"/>
              <a:gd name="textAreaRight" fmla="*/ 190440 w 20340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09">
                <a:moveTo>
                  <a:pt x="0" y="0"/>
                </a:moveTo>
                <a:lnTo>
                  <a:pt x="21600" y="0"/>
                </a:lnTo>
                <a:lnTo>
                  <a:pt x="21600" y="29309"/>
                </a:lnTo>
                <a:lnTo>
                  <a:pt x="0" y="29309"/>
                </a:lnTo>
                <a:close/>
              </a:path>
              <a:path fill="lightenLess" w="21600" h="293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09">
                <a:moveTo>
                  <a:pt x="21600" y="0"/>
                </a:moveTo>
                <a:lnTo>
                  <a:pt x="21600" y="29309"/>
                </a:lnTo>
                <a:lnTo>
                  <a:pt x="20200" y="27909"/>
                </a:lnTo>
                <a:lnTo>
                  <a:pt x="20200" y="1400"/>
                </a:lnTo>
                <a:close/>
              </a:path>
              <a:path fill="darkenLess" w="21600" h="29309">
                <a:moveTo>
                  <a:pt x="21600" y="29309"/>
                </a:moveTo>
                <a:lnTo>
                  <a:pt x="0" y="29309"/>
                </a:lnTo>
                <a:lnTo>
                  <a:pt x="1400" y="27909"/>
                </a:lnTo>
                <a:lnTo>
                  <a:pt x="20200" y="27909"/>
                </a:lnTo>
                <a:close/>
              </a:path>
              <a:path fill="lighten" w="21600" h="29309">
                <a:moveTo>
                  <a:pt x="0" y="293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09"/>
                </a:lnTo>
                <a:close/>
              </a:path>
              <a:path fill="darkenLess" w="21600" h="29309">
                <a:moveTo>
                  <a:pt x="5273" y="7839"/>
                </a:moveTo>
                <a:lnTo>
                  <a:pt x="12271" y="7839"/>
                </a:lnTo>
                <a:lnTo>
                  <a:pt x="16327" y="11338"/>
                </a:lnTo>
                <a:lnTo>
                  <a:pt x="16327" y="21469"/>
                </a:lnTo>
                <a:lnTo>
                  <a:pt x="5273" y="21469"/>
                </a:lnTo>
                <a:close/>
              </a:path>
              <a:path fill="darken" w="21600" h="29309">
                <a:moveTo>
                  <a:pt x="12271" y="7839"/>
                </a:moveTo>
                <a:lnTo>
                  <a:pt x="16327" y="11338"/>
                </a:lnTo>
                <a:lnTo>
                  <a:pt x="12271" y="1133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47040" y="4992840"/>
            <a:ext cx="203400" cy="276120"/>
          </a:xfrm>
          <a:custGeom>
            <a:avLst/>
            <a:gdLst>
              <a:gd name="textAreaLeft" fmla="*/ 12960 w 203400"/>
              <a:gd name="textAreaRight" fmla="*/ 190440 w 20340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09">
                <a:moveTo>
                  <a:pt x="0" y="0"/>
                </a:moveTo>
                <a:lnTo>
                  <a:pt x="21600" y="0"/>
                </a:lnTo>
                <a:lnTo>
                  <a:pt x="21600" y="29309"/>
                </a:lnTo>
                <a:lnTo>
                  <a:pt x="0" y="29309"/>
                </a:lnTo>
                <a:close/>
              </a:path>
              <a:path fill="lightenLess" w="21600" h="293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09">
                <a:moveTo>
                  <a:pt x="21600" y="0"/>
                </a:moveTo>
                <a:lnTo>
                  <a:pt x="21600" y="29309"/>
                </a:lnTo>
                <a:lnTo>
                  <a:pt x="20200" y="27909"/>
                </a:lnTo>
                <a:lnTo>
                  <a:pt x="20200" y="1400"/>
                </a:lnTo>
                <a:close/>
              </a:path>
              <a:path fill="darkenLess" w="21600" h="29309">
                <a:moveTo>
                  <a:pt x="21600" y="29309"/>
                </a:moveTo>
                <a:lnTo>
                  <a:pt x="0" y="29309"/>
                </a:lnTo>
                <a:lnTo>
                  <a:pt x="1400" y="27909"/>
                </a:lnTo>
                <a:lnTo>
                  <a:pt x="20200" y="27909"/>
                </a:lnTo>
                <a:close/>
              </a:path>
              <a:path fill="lighten" w="21600" h="29309">
                <a:moveTo>
                  <a:pt x="0" y="293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09"/>
                </a:lnTo>
                <a:close/>
              </a:path>
              <a:path fill="darkenLess" w="21600" h="29309">
                <a:moveTo>
                  <a:pt x="5273" y="7839"/>
                </a:moveTo>
                <a:lnTo>
                  <a:pt x="12271" y="7839"/>
                </a:lnTo>
                <a:lnTo>
                  <a:pt x="16327" y="11338"/>
                </a:lnTo>
                <a:lnTo>
                  <a:pt x="16327" y="21469"/>
                </a:lnTo>
                <a:lnTo>
                  <a:pt x="5273" y="21469"/>
                </a:lnTo>
                <a:close/>
              </a:path>
              <a:path fill="darken" w="21600" h="29309">
                <a:moveTo>
                  <a:pt x="12271" y="7839"/>
                </a:moveTo>
                <a:lnTo>
                  <a:pt x="16327" y="11338"/>
                </a:lnTo>
                <a:lnTo>
                  <a:pt x="12271" y="1133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22980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41506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31658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34572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25313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-257040" y="0"/>
            <a:ext cx="9586800" cy="69883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996240" y="0"/>
            <a:ext cx="33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ac9"/>
                </a:solidFill>
                <a:latin typeface="Arial"/>
                <a:ea typeface="宋体"/>
              </a:rPr>
              <a:t>The tim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3040" y="1889280"/>
            <a:ext cx="4442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I would like to travel to the yea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I want to see what life wa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I want to see what life will be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2" action="ppaction://hlinksldjump"/>
          </p:cNvPr>
          <p:cNvSpPr/>
          <p:nvPr/>
        </p:nvSpPr>
        <p:spPr>
          <a:xfrm>
            <a:off x="5529240" y="6589800"/>
            <a:ext cx="654120" cy="268200"/>
          </a:xfrm>
          <a:custGeom>
            <a:avLst/>
            <a:gdLst>
              <a:gd name="textAreaLeft" fmla="*/ 17280 w 654120"/>
              <a:gd name="textAreaRight" fmla="*/ 636840 w 654120"/>
              <a:gd name="textAreaTop" fmla="*/ 17280 h 268200"/>
              <a:gd name="textAreaBottom" fmla="*/ 250920 h 268200"/>
            </a:gdLst>
            <a:ahLst/>
            <a:rect l="textAreaLeft" t="textAreaTop" r="textAreaRight" b="textAreaBottom"/>
            <a:pathLst>
              <a:path w="52639" h="21600">
                <a:moveTo>
                  <a:pt x="0" y="0"/>
                </a:moveTo>
                <a:lnTo>
                  <a:pt x="52639" y="0"/>
                </a:lnTo>
                <a:lnTo>
                  <a:pt x="52639" y="21600"/>
                </a:lnTo>
                <a:lnTo>
                  <a:pt x="0" y="21600"/>
                </a:lnTo>
                <a:close/>
              </a:path>
              <a:path fill="lightenLess" w="52639" h="21600">
                <a:moveTo>
                  <a:pt x="0" y="0"/>
                </a:moveTo>
                <a:lnTo>
                  <a:pt x="52639" y="0"/>
                </a:lnTo>
                <a:lnTo>
                  <a:pt x="51239" y="1400"/>
                </a:lnTo>
                <a:lnTo>
                  <a:pt x="1400" y="1400"/>
                </a:lnTo>
                <a:close/>
              </a:path>
              <a:path fill="darken" w="52639" h="21600">
                <a:moveTo>
                  <a:pt x="52639" y="0"/>
                </a:moveTo>
                <a:lnTo>
                  <a:pt x="52639" y="21600"/>
                </a:lnTo>
                <a:lnTo>
                  <a:pt x="51239" y="20200"/>
                </a:lnTo>
                <a:lnTo>
                  <a:pt x="51239" y="1400"/>
                </a:lnTo>
                <a:close/>
              </a:path>
              <a:path fill="darkenLess" w="52639" h="21600">
                <a:moveTo>
                  <a:pt x="52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239" y="20200"/>
                </a:lnTo>
                <a:close/>
              </a:path>
              <a:path fill="lighten" w="52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639" h="21600">
                <a:moveTo>
                  <a:pt x="19313" y="10800"/>
                </a:moveTo>
                <a:lnTo>
                  <a:pt x="33326" y="3794"/>
                </a:lnTo>
                <a:lnTo>
                  <a:pt x="333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999360"/>
            <a:ext cx="555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ask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200" y="2161800"/>
            <a:ext cx="377676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lk about trav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lk about means of 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ps on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nderstand boarding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school bus"/>
          <p:cNvPicPr/>
          <p:nvPr/>
        </p:nvPicPr>
        <p:blipFill>
          <a:blip r:embed="rId1"/>
          <a:stretch/>
        </p:blipFill>
        <p:spPr>
          <a:xfrm>
            <a:off x="4383000" y="2666880"/>
            <a:ext cx="4324320" cy="320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Have a pleasant trip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042920" y="2013120"/>
            <a:ext cx="2382840" cy="2681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925800" y="1552680"/>
            <a:ext cx="2710080" cy="2120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6424560" y="3505320"/>
            <a:ext cx="2043000" cy="26049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3613320" y="3889440"/>
            <a:ext cx="2006280" cy="1920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More About M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41520" y="2700360"/>
            <a:ext cx="4192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like travelling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like hiking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like adventure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’ve been to many places of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175280" y="2873520"/>
            <a:ext cx="3771720" cy="2582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8280" y="409320"/>
            <a:ext cx="6870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  <a:ea typeface="宋体"/>
              </a:rPr>
              <a:t>experience nature and life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81000" y="1363680"/>
            <a:ext cx="3022560" cy="2014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011240" y="3471840"/>
            <a:ext cx="3073320" cy="2071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568760" y="3498840"/>
            <a:ext cx="2938680" cy="2062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554360" y="1406520"/>
            <a:ext cx="2994120" cy="1969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What about you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49840" y="2509920"/>
            <a:ext cx="432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o you like travel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ere have you be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y do you trav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89000" y="2382840"/>
            <a:ext cx="1832040" cy="2793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395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Why do people travel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17280" y="1959120"/>
            <a:ext cx="6327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increas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meet new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keep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have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experience life in different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try new kinds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get away from hot 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483240" y="4794120"/>
            <a:ext cx="185112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s on trave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60120" y="2381400"/>
            <a:ext cx="4584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ey traffic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serve public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845320" y="397980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79480" y="1319040"/>
            <a:ext cx="2887920" cy="2165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848120" y="1308240"/>
            <a:ext cx="2906640" cy="2179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902120" y="3662280"/>
            <a:ext cx="2873520" cy="2156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1787400" y="3605040"/>
            <a:ext cx="2874960" cy="2156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617640" y="5025600"/>
            <a:ext cx="4707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e is driving too f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085760" y="1712880"/>
            <a:ext cx="3265560" cy="2449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65520" y="1639800"/>
            <a:ext cx="374976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00:44:32Z</dcterms:created>
  <dc:creator>张纯</dc:creator>
  <dc:description/>
  <dc:language>en-US</dc:language>
  <cp:lastModifiedBy>张纯</cp:lastModifiedBy>
  <dcterms:modified xsi:type="dcterms:W3CDTF">2003-09-26T09:05:00Z</dcterms:modified>
  <cp:revision>45</cp:revision>
  <dc:subject/>
  <dc:title>Ms. Dawson’s 3rd Grad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7211033</vt:lpwstr>
  </property>
</Properties>
</file>