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AD5-03F5-494D-B1F1-2A390804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135-54D8-4F38-977F-1857AA3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DA1-02C3-4702-891E-39917B27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D5B-DB8E-45CF-89D3-EA8A4231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C7C-59B6-4455-9C3D-0133D388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C5D-0C8C-45F0-995F-0AF27085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CC0-EF07-48CF-8F5C-6C40597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AEA-3537-4D63-AC7C-8A7C1A12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7DD-2E0A-4904-A02F-CF3B81A7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8D0-5D61-44BA-8F6F-4830BFC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B82-024D-425C-9AA4-7E052F9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AFC-9A59-4978-9E15-37666E31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ED1F-30CA-4557-81E7-B288F92328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366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oney is no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house but not a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bed but not sle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289548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clock but no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ooks but not knowled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1523880"/>
            <a:ext cx="59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lood but not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sex but not l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181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position but not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medicine but not heal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59092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may not be the root of all ev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it often brings us anguish and regr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I would like to tell you how to solve the problem, my dear fri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I hope you will forward the solution to other friends of y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4572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Give all your money to me. Let me suffer from the anguish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ght now, Ok? :-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Lyq</cp:lastModifiedBy>
  <dcterms:modified xsi:type="dcterms:W3CDTF">2001-12-14T06:41:37Z</dcterms:modified>
  <cp:revision>19</cp:revision>
  <dc:subject/>
  <dc:title>没有幻灯片标题</dc:title>
</cp:coreProperties>
</file>