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CD5-8EA4-424A-9C12-0332454D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8521-6B7B-4BA9-A6F9-38836860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59CD-553A-48B5-9AB2-4C453EA2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B8AD-228C-4808-B909-BC0EDCBE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A12E-1A70-435B-85E8-50317974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EC3A-B2D6-445E-9589-221AB028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CA6B-0DCC-4F32-805D-F57A5916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9418-8022-4278-BFBA-BF5EB90A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48EB-5C2C-4EA4-840B-EEF832CF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5DEE-8973-4CA0-8EC8-E7D9E4BE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67C8-2E46-4963-B68F-D85ABE27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5ED5-3FFF-4EB5-B44D-8AAE06B1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E57E-7595-488A-B77D-F8D5CBCEFD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8088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Times New Roman"/>
              </a:rPr>
              <a:t>名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3716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专有名词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(Proper Nou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505320"/>
            <a:ext cx="1981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普通名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(Common Nou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2438280"/>
            <a:ext cx="685800" cy="3505320"/>
          </a:xfrm>
          <a:custGeom>
            <a:avLst/>
            <a:gdLst>
              <a:gd name="textAreaLeft" fmla="*/ 438120 w 685800"/>
              <a:gd name="textAreaRight" fmla="*/ 686160 w 68580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5486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个体名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Individual Nou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91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集体名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Collective Nou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31240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物质名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Material Noun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2057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抽象名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Abstract Nou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1371600"/>
            <a:ext cx="609480" cy="2057400"/>
          </a:xfrm>
          <a:custGeom>
            <a:avLst/>
            <a:gdLst>
              <a:gd name="textAreaLeft" fmla="*/ 0 w 609480"/>
              <a:gd name="textAreaRight" fmla="*/ 219960 w 6094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1752480"/>
            <a:ext cx="2133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不可数名词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(Uncountable Nou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00800" y="4267080"/>
            <a:ext cx="533520" cy="1676520"/>
          </a:xfrm>
          <a:custGeom>
            <a:avLst/>
            <a:gdLst>
              <a:gd name="textAreaLeft" fmla="*/ 0 w 533520"/>
              <a:gd name="textAreaRight" fmla="*/ 192600 w 533520"/>
              <a:gd name="textAreaTop" fmla="*/ 71280 h 1676520"/>
              <a:gd name="textAreaBottom" fmla="*/ 16052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73"/>
                  <a:pt x="10800" y="2945"/>
                </a:cubicBezTo>
                <a:lnTo>
                  <a:pt x="10800" y="7855"/>
                </a:lnTo>
                <a:cubicBezTo>
                  <a:pt x="10800" y="9328"/>
                  <a:pt x="16200" y="10800"/>
                  <a:pt x="21600" y="10800"/>
                </a:cubicBezTo>
                <a:cubicBezTo>
                  <a:pt x="16200" y="10800"/>
                  <a:pt x="10800" y="12273"/>
                  <a:pt x="10800" y="13745"/>
                </a:cubicBezTo>
                <a:lnTo>
                  <a:pt x="10800" y="18655"/>
                </a:lnTo>
                <a:cubicBezTo>
                  <a:pt x="10800" y="2012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44197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可数名词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(Countable Nou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828800" y="228600"/>
            <a:ext cx="426708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6094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名词复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9810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90512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26668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34290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1911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9528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19051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19051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情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2133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21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般情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73392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3581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,x,ch,sh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尾的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4419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辅音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尾的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7913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5257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辅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尾的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6019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尾的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2971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5257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多数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6019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/f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改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8954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thers;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733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es;watches;dishes*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4495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dies;countries;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5181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oes; tomatoes*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6019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ves; leaves;*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85800"/>
            <a:ext cx="5715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1:sto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990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685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mac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95280"/>
            <a:ext cx="861048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2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元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+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或以专有名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+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结尾的名词，直接在词尾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-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boys; toys; Germanys; Henr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590920"/>
            <a:ext cx="5867280" cy="268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3: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元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+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videos; stu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oo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结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zoos; bamboos;kangaro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些外来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特别是音乐方面的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pi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些缩写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kilos; photos; m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些专有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Eskimos; Filip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0040" y="36576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直接在词尾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-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5880" y="2819520"/>
            <a:ext cx="685800" cy="2286000"/>
          </a:xfrm>
          <a:custGeom>
            <a:avLst/>
            <a:gdLst>
              <a:gd name="textAreaLeft" fmla="*/ 0 w 685800"/>
              <a:gd name="textAreaRight" fmla="*/ 247680 w 6858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562720"/>
            <a:ext cx="746748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4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f/f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结尾只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-s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roofs;gulfs; cliffs; roofs;serfs; beliefs;chi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规则复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066680"/>
            <a:ext cx="8839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371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1066680"/>
            <a:ext cx="5790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woman– women; chairman-chai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905120"/>
            <a:ext cx="8915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209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8640" y="1905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1905120"/>
            <a:ext cx="5943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foot-feet; tooth-teeth; goose-ge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819520"/>
            <a:ext cx="8915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+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2819520"/>
            <a:ext cx="5867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child-children; ox-ox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581280"/>
            <a:ext cx="8839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35812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3581280"/>
            <a:ext cx="5639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mouse-mice; louse-li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虱子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191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有些外来词的不规则复数形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49528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analy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-analy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;   ba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-ba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;   the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-the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;   cri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-cri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56386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iteri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criteri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   phenomen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phenomen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   medi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medi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" y="228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单复数相同的情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990720"/>
            <a:ext cx="769644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eep; deer; means; fish; works; species; Chinese;Japan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以及由汉语音译表示度量衡、货币等单位的名词。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yuan,jiao,fen, jin, 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1240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复合名词的复数形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4038480"/>
            <a:ext cx="891540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词末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+-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eg:film-goer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s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forget-me-not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主体名词变为复数形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oker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on; editor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in-chief;son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in-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两个组成部分皆变为复数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omen doctors; men cooks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* 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这种形式的第一个名词必须是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man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w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名词所有格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The Possessive Case of Nou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6858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some patter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1371600"/>
            <a:ext cx="54100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’ll take the risk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friendship’s s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e wa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at her wit’s e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w they could sing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at their heart’s conte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should get the children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out of harm’s wa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had best keep them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at arm’s leng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goodness’ sak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stop argu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ane got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ney’s wor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out of the co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1371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为了友谊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1905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黔驴技穷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2895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尽情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不受损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保持距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5181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看在上帝的份上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9120" y="6172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很合算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7200" y="2286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主谓一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9144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１。语法形式上的一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主单谓单；主复谓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6765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２。意义上的一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主语形单意复，谓语用复数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people;pol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主语形复意单，谓语用单数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news;economic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1240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就近原则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ither…or; neither…nor; not only…but a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03848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单复数视情况而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）集体名词作主语：强调整体，用单数；强调个体，用复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5105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２）单复数同形名词作主语，按意义一致原则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means,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571500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３）中心词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ll, most, half, re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按意义一致原则。即主语单数意义，谓语用单数；主语复数意义，谓语用复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33520" y="60948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４）主语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连接两个名词时，指一样东西，谓语单数；指两样东西，谓语复数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A knife and fork is on the t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75248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词作主语，取决于它代替的是单数还是复数。意义一致原则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ours, yours; such, the same; who, that, which; any,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eith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ither,(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单独作主语，谓语单数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ne, all, some, mo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35053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６）分数，量词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alf of, part 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作主语，于中心词保持一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4343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７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导的主语从句。通常用单数；所指的具体内容为复数时，谓语用复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5562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８）主谓倒装，谓语与其后主语一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304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５。　谓语用单数的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12193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）名词所有格之后的名词被省略。（指商店，工场，住宅等）作主语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The doctor’s, my uncle’s, the baker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23623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心词是时间、距离、金额、度量、书名等复数名词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three years; The selected poems of Li Ba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35053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) each, every, n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修饰名词，即使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逗号连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each boy and each girl ; every man and w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49528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语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re than one…; many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5867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) a kind of; a pair of; a series o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" y="304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) This kind o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11430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) The number o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19051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) A great deal of…; a large amount of… +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289548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) One and a half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数名词复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One and a half bananas is left on the t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43434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) The departed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死者）意义上指个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53341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) the only one of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数名词复数＋定语从句。从句中的谓语用单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６。谓语用复数的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8380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olice,;people;cattle; militi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民兵）作主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1600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２）有两个部分构成的名词。（表示衣物或工具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glasses; chopstick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2590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)these kind of m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口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; men of this kin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主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334476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４）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oth…and…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修饰主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41911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) A number of; large quantities of; large amounts 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修饰主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4952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６）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作主语，一般情况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5707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７）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 of th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数名词复数＋定语从句，从句中谓语动词用复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533520"/>
            <a:ext cx="7848720" cy="116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66"/>
                </a:solidFill>
                <a:latin typeface="Times New Roman"/>
              </a:rPr>
              <a:t>Proper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指人名、地名及某些人和事物专有的名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8195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Diana; Beijing; Americans;English; May; New Year’s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注意：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</a:rPr>
              <a:t>专有名词的第一个字母要大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920" y="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sign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335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. Try to learn these words by heart: (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通常用于复数形式的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1532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issor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剪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pant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裤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mpass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脚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    cord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灯心絨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          ar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武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arphon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耳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          pyjam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睡衣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h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灰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l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天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overall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装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tropic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热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ectacl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眼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         brac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背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air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楼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ail-clipper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甲刀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lack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便装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ain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头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elonging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有物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ving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积蓄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iding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消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ing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为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riting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品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inding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调查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And </a:t>
            </a: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the words in  your note 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609588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2. Finish Ex. Book Chapter 2. Nouns. (P7-P16)&amp;Chapter 12(P133-P13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228600"/>
            <a:ext cx="5943600" cy="116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993366"/>
                </a:solidFill>
                <a:latin typeface="Times New Roman"/>
              </a:rPr>
              <a:t>Common Nouns</a:t>
            </a:r>
            <a:r>
              <a:rPr b="0" lang="zh-CN" sz="2800" spc="-1" strike="noStrike">
                <a:solidFill>
                  <a:srgbClr val="993366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专有名词以外的名词都是普通名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9051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cc6600"/>
                </a:solidFill>
                <a:latin typeface="Times New Roman"/>
              </a:rPr>
              <a:t>Individual Nouns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作为个体而存在的人或东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32004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指具体的人或物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aunts; a panda; apar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指抽象东西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a year; fairy tales; a 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304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cc6600"/>
                </a:solidFill>
                <a:latin typeface="Times New Roman"/>
              </a:rPr>
              <a:t> Collective Nouns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由个体组成的集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0666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army; audience; crew; family; team; police; government;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8288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集体名词有时作单数看待，有时作复数看。一般来说，视为整体时作单数看，突出它的成员时作复数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29718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His family isn’t larg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38862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f: His family are all music lov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800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不少情况下，集体名词后单复数动词都可以用，没什么差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The audience was (were) excited by the 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3808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有少数集体名词通常用作单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2193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The gang is being hunted by the pol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133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r company is sending him to work in Berl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2971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别集体名词则多作复数看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733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The police are looking for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52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cc6600"/>
                </a:solidFill>
                <a:latin typeface="Times New Roman"/>
              </a:rPr>
              <a:t>Material Noun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无法分为个体的东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beer; cake; cloth; cotton; detergent; fur; ice; paint; paper; s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4479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般来说，物质名词是不可数的，因而没有复数形式。但有一些特殊情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36232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1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有些物质名词可用作可数名词，表示“一份”、“一杯”、“一种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0481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Two strong black coffees, please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(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两份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6576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ree beers, please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三杯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3657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was a special tea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一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4197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2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个别物质名词的复数形式可以表示特别的意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518148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rain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雨季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nows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积雪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aters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海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ee note pap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049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cc6600"/>
                </a:solidFill>
                <a:latin typeface="Times New Roman"/>
              </a:rPr>
              <a:t>Abstract Noun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一些抽象的概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990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education; love; policy; trust; nature; fashion; relief; silence; truth,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9051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多数情况下，这种名词常用于单数形式，不加任何冠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25909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He’s learning French for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31240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wish you good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lu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有时也可以加冠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46483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 works hard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welf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po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52578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rief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ace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ar broke out aga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有些名词可以兼作可数名词和不可数名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457200"/>
            <a:ext cx="2286000" cy="657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lass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玻璃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pper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铜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n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锡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aper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纸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ron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铁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ood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木头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old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子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outh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青春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ower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力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auty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leasure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愉快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elation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系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366840"/>
            <a:ext cx="4419720" cy="657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glass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玻璃杯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 copper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铜币／板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tin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罐头，听头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paper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报纸，证件，论文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n iron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熨斗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wood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树林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gold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牌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youth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青人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power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国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beauty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人，美的东西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pleasure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人感到愉快的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relation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亲戚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3429000"/>
            <a:ext cx="1371600" cy="609480"/>
          </a:xfrm>
          <a:prstGeom prst="rightArrow">
            <a:avLst>
              <a:gd name="adj1" fmla="val 50000"/>
              <a:gd name="adj2" fmla="val 562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380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英语中有许多对词，一个可数，一个不可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219320"/>
            <a:ext cx="3352680" cy="490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poem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首诗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machine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台机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job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件工作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laugh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笑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permit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许可证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garment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件衣裳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bag(case)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件行李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loaf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只面包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hair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根头发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3276720"/>
            <a:ext cx="1523880" cy="7617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1219320"/>
            <a:ext cx="3429000" cy="490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oetry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诗歌总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achinery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机器总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ork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工作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aughter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笑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ermission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允许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lothing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衣裳总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uggage, baggage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李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read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面包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air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头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2T03:57:11Z</dcterms:created>
  <dc:creator>weiyu</dc:creator>
  <dc:description/>
  <dc:language>en-US</dc:language>
  <cp:lastModifiedBy>weiyu</cp:lastModifiedBy>
  <dcterms:modified xsi:type="dcterms:W3CDTF">2003-06-23T01:59:47Z</dcterms:modified>
  <cp:revision>58</cp:revision>
  <dc:subject/>
  <dc:title>PowerPoint 演示文稿</dc:title>
</cp:coreProperties>
</file>