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150B-7157-438C-8960-EA346A123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EBC7-46DE-4C28-85A9-94A5090A9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100E-E47A-4865-A1FC-11852567E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A2DD-DECF-46E6-9505-9FCC121DE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058D-5723-4746-B958-5CB558216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C572-4A43-42CC-90BA-E89CEE305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DC54-4D7D-4D4A-AD1B-9E8555B84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3136-01ED-404A-A2EC-7C305D05D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06B6-1052-4BF2-A467-483BA65A7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062E-0C72-4199-9D6E-95C12F04C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1B21-BFE1-418E-ABE1-9274606F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4A0D-6DF4-412E-9112-A7B9CA187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52332-62AE-4FD0-8B7F-19215E9F7B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Times New Roman"/>
              </a:rPr>
              <a:t>Welcome to the Automated </a:t>
            </a:r>
            <a:br>
              <a:rPr sz="4400"/>
            </a:br>
            <a:r>
              <a:rPr b="1" lang="sv-SE" sz="4400" spc="-1" strike="noStrike">
                <a:solidFill>
                  <a:srgbClr val="000000"/>
                </a:solidFill>
                <a:latin typeface="Times New Roman"/>
              </a:rPr>
              <a:t>Salary Review</a:t>
            </a:r>
            <a:br>
              <a:rPr sz="4400"/>
            </a:b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lease answer the following questions.</a:t>
            </a:r>
            <a:br>
              <a:rPr sz="4400"/>
            </a:b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Your adjusted salary will be based on your answer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" action="ppaction://hlinkshowjump?jump=nextslide"/>
          </p:cNvPr>
          <p:cNvSpPr/>
          <p:nvPr/>
        </p:nvSpPr>
        <p:spPr>
          <a:xfrm>
            <a:off x="3124080" y="5410080"/>
            <a:ext cx="259092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Are you happy with your current Salar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666880"/>
            <a:ext cx="1371600" cy="1219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" action="ppaction://hlinkshowjump?jump=nextslide"/>
          </p:cNvPr>
          <p:cNvSpPr/>
          <p:nvPr/>
        </p:nvSpPr>
        <p:spPr>
          <a:xfrm>
            <a:off x="5410080" y="2666880"/>
            <a:ext cx="1371600" cy="1219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979360" y="6081840"/>
            <a:ext cx="432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Times New Roman"/>
              </a:rPr>
              <a:t>Please click on your answer to answer the ques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Are you happy with your current Salar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752480" y="2666880"/>
            <a:ext cx="1371600" cy="1219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1752480" y="4419720"/>
            <a:ext cx="1371600" cy="1218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9720" y="6081840"/>
            <a:ext cx="33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Times New Roman"/>
              </a:rPr>
              <a:t>Please click on the appropriate answ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Are you happy with your current Salar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752480" y="2666880"/>
            <a:ext cx="1371600" cy="1219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410080" y="4267080"/>
            <a:ext cx="1371600" cy="1219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979720" y="6081840"/>
            <a:ext cx="329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Times New Roman"/>
              </a:rPr>
              <a:t>Please click on the appropriate ans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GOOD!</a:t>
            </a:r>
            <a:br>
              <a:rPr sz="4400"/>
            </a:b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Now please get on with your work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Best Reg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Your Bos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5867280"/>
            <a:ext cx="22860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Send Rep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5640" y="4800600"/>
            <a:ext cx="887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You can send your answer automatically by clicking the button below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Thank you for your reply.</a:t>
            </a:r>
            <a:br>
              <a:rPr sz="4400"/>
            </a:br>
            <a:br>
              <a:rPr sz="4400"/>
            </a:b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Your Salary will remain the same next yea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" action="ppaction://hlinkshowjump?jump=endshow"/>
          </p:cNvPr>
          <p:cNvSpPr/>
          <p:nvPr/>
        </p:nvSpPr>
        <p:spPr>
          <a:xfrm>
            <a:off x="3200400" y="5715000"/>
            <a:ext cx="266688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Q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2T18:50:22Z</dcterms:created>
  <dc:creator>ITiS</dc:creator>
  <dc:description/>
  <dc:language>en-US</dc:language>
  <cp:lastModifiedBy>Alan Beynon</cp:lastModifiedBy>
  <dcterms:modified xsi:type="dcterms:W3CDTF">2001-11-13T00:07:34Z</dcterms:modified>
  <cp:revision>19</cp:revision>
  <dc:subject/>
  <dc:title>Anser du att du har tillräckligt hög lön?</dc:title>
</cp:coreProperties>
</file>