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D62-5B09-47F9-BCF2-8AC86355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4069-9A6D-4EE9-98A1-69ED5D4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FA0-C2E8-4D1E-B835-E92CA7621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6652-36FF-4E23-B397-A3FF10AE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402A-E640-4FC0-9F51-73AFD98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7955-EB00-42AF-8236-202EABA7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38A1-3AE0-4AF1-931F-D7A46493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B3FA-E886-4AD8-A004-B5C1967C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858D-F5FB-431F-8F70-D2C11B45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83C1-416F-4489-BC62-A95B0079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03C-886F-4AB7-B9EF-8B85D9C9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B17-65D3-447E-8990-EC54D5FA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E6B0-99DD-4378-91D2-F17FE41F9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4400" spc="-1" strike="noStrike">
                <a:solidFill>
                  <a:srgbClr val="ccccff"/>
                </a:solidFill>
                <a:latin typeface="Comic Sans MS"/>
              </a:rPr>
              <a:t>Audrey Hepburn beauty tips</a:t>
            </a:r>
            <a:br>
              <a:rPr sz="4400"/>
            </a:br>
            <a:r>
              <a:rPr b="0" lang="zh-TW" sz="4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奧黛莉赫本的美麗祕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following was written by Audrey Hepburn, who was asked to share beauty ti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9" name="pavilionbaby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368604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560" y="990360"/>
            <a:ext cx="3809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The beauty of a woman is not in a facial mode, but the tru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beauty in a woman is reflected in her soul. It is the caring that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she</a:t>
            </a:r>
            <a:r>
              <a:rPr b="0" lang="is-IS" sz="24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lovingly gives, the passion that she sh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9. </a:t>
            </a:r>
            <a:r>
              <a:rPr b="0" lang="zh-TW" sz="2400" spc="-1" strike="noStrike">
                <a:solidFill>
                  <a:srgbClr val="f9e2fa"/>
                </a:solidFill>
                <a:latin typeface="Comic Sans MS"/>
                <a:ea typeface="新細明體"/>
              </a:rPr>
              <a:t>女人的美麗不是表面的，應該是她的精神層面－是她的關懷、她的愛心以及她的熱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2" name="keepingthepromisesmall" descr=""/>
          <p:cNvPicPr/>
          <p:nvPr/>
        </p:nvPicPr>
        <p:blipFill>
          <a:blip r:embed="rId2"/>
          <a:stretch/>
        </p:blipFill>
        <p:spPr>
          <a:xfrm>
            <a:off x="5105520" y="1066680"/>
            <a:ext cx="287316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The beauty of a woman grows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passing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1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ccff"/>
                </a:solidFill>
                <a:latin typeface="Comic Sans MS"/>
                <a:ea typeface="新細明體"/>
              </a:rPr>
              <a:t>女人的美麗是跟著年齡成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75" name="face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809880" cy="3008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Please send this to five phenomenal women today. If you do,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omething good will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happ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... that is, you will boost another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woman's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self</a:t>
            </a:r>
            <a:r>
              <a:rPr b="0" lang="is-IS" sz="2400" spc="-1" strike="noStrike">
                <a:solidFill>
                  <a:srgbClr val="ccec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este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請多加轉寄，謝謝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4" name="senzatit15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06216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4193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1.</a:t>
            </a: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a59ff5"/>
                </a:solidFill>
                <a:latin typeface="Comic Sans MS"/>
              </a:rPr>
              <a:t>F</a:t>
            </a: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or attractive lips, speak words of kind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a59ff5"/>
                </a:solidFill>
                <a:latin typeface="Comic Sans MS"/>
                <a:ea typeface="新細明體"/>
              </a:rPr>
              <a:t>要有吸引人的雙唇，請說好意的言語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47" name="ar2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3809880" cy="368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For lovely eyes, seek out the good in peo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 </a:t>
            </a: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66ff"/>
                </a:solidFill>
                <a:latin typeface="Comic Sans MS"/>
                <a:ea typeface="新細明體"/>
              </a:rPr>
              <a:t>要有美麗的雙眼，請尋索它人的優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0" name="senzatit2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3809880" cy="363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7960" y="24382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For a slim figure, share your food with the hung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3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ccccff"/>
                </a:solidFill>
                <a:latin typeface="Comic Sans MS"/>
                <a:ea typeface="新細明體"/>
              </a:rPr>
              <a:t>要有纖細的身材，請與飢民分享你的食物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3" name="aubatf" descr=""/>
          <p:cNvPicPr/>
          <p:nvPr/>
        </p:nvPicPr>
        <p:blipFill>
          <a:blip r:embed="rId2"/>
          <a:stretch/>
        </p:blipFill>
        <p:spPr>
          <a:xfrm>
            <a:off x="5181480" y="1371600"/>
            <a:ext cx="2922840" cy="4114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For beautiful hair, let a child run his or her fingers through it once a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ccecff"/>
                </a:solidFill>
                <a:latin typeface="Comic Sans MS"/>
                <a:ea typeface="新細明體"/>
              </a:rPr>
              <a:t>要有亮麗的頭髮，請讓小孩每日觸摸妳的頭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6" name="senzatit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307656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For poise, walk with the knowledge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you</a:t>
            </a:r>
            <a:r>
              <a:rPr b="0" lang="is-IS" sz="2000" spc="-1" strike="noStrike">
                <a:solidFill>
                  <a:srgbClr val="f9e2fa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never walk al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9e2fa"/>
                </a:solidFill>
                <a:latin typeface="Comic Sans MS"/>
                <a:ea typeface="新細明體"/>
              </a:rPr>
              <a:t>要有自信的態度，請學習妳不曾學過的知識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59" name="senzatit10" descr=""/>
          <p:cNvPicPr/>
          <p:nvPr/>
        </p:nvPicPr>
        <p:blipFill>
          <a:blip r:embed="rId2"/>
          <a:stretch/>
        </p:blipFill>
        <p:spPr>
          <a:xfrm>
            <a:off x="5638680" y="838080"/>
            <a:ext cx="3248280" cy="411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People, even more than things, have to be restored, revived,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reclaimed and redeemed; never throw out an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6. 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人之所以為人，是必須充滿精力</a:t>
            </a:r>
            <a:r>
              <a:rPr b="0" lang="is-IS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、</a:t>
            </a:r>
            <a:r>
              <a:rPr b="0" lang="zh-TW" sz="2400" spc="-1" strike="noStrike">
                <a:solidFill>
                  <a:srgbClr val="b4aff7"/>
                </a:solidFill>
                <a:latin typeface="Comic Sans MS"/>
                <a:ea typeface="新細明體"/>
              </a:rPr>
              <a:t>自我悔改、自我反省、自我成長；並非向人抱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2" name="ao" descr=""/>
          <p:cNvPicPr/>
          <p:nvPr/>
        </p:nvPicPr>
        <p:blipFill>
          <a:blip r:embed="rId2"/>
          <a:stretch/>
        </p:blipFill>
        <p:spPr>
          <a:xfrm>
            <a:off x="838080" y="1371600"/>
            <a:ext cx="326412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16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Remember, if you ever need a helping hand, you'll find them at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e end of each of your arms. As you grow older, you will discove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that you have two hands, one for helping yourself, the other for</a:t>
            </a:r>
            <a:r>
              <a:rPr b="0" lang="is-IS" sz="2400" spc="-1" strike="noStrike">
                <a:solidFill>
                  <a:srgbClr val="a6f2f8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helpi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7.</a:t>
            </a:r>
            <a:r>
              <a:rPr b="0" lang="zh-TW" sz="2400" spc="-1" strike="noStrike">
                <a:solidFill>
                  <a:srgbClr val="a6f2f8"/>
                </a:solidFill>
                <a:latin typeface="Comic Sans MS"/>
                <a:ea typeface="新細明體"/>
              </a:rPr>
              <a:t>請記得，如果你需要幫助，你永遠有你的手可以自己動手。當你成長後，你會發覺你有二隻手，一隻幫助自己，一隻幫助它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0" y="5540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  <p:pic>
        <p:nvPicPr>
          <p:cNvPr id="66" name="senzatit4" descr=""/>
          <p:cNvPicPr/>
          <p:nvPr/>
        </p:nvPicPr>
        <p:blipFill>
          <a:blip r:embed="rId2"/>
          <a:stretch/>
        </p:blipFill>
        <p:spPr>
          <a:xfrm>
            <a:off x="4952880" y="762120"/>
            <a:ext cx="324504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533520"/>
            <a:ext cx="3809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The beauty of a woman is not in the clothes she wears, the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figure that she carries, or the way she combs her hair. The beauty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of a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woman must be seen from in her eyes, because that is the doorway to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r</a:t>
            </a:r>
            <a:r>
              <a:rPr b="0" lang="is-IS" sz="2000" spc="-1" strike="noStrike">
                <a:solidFill>
                  <a:srgbClr val="fbaffb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heart, the place where love res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8.</a:t>
            </a:r>
            <a:r>
              <a:rPr b="0" lang="zh-TW" sz="2000" spc="-1" strike="noStrike">
                <a:solidFill>
                  <a:srgbClr val="fbaffb"/>
                </a:solidFill>
                <a:latin typeface="Comic Sans MS"/>
                <a:ea typeface="新細明體"/>
              </a:rPr>
              <a:t>女人的美麗不存在於她的服飾、她的珠寶、她的髮型；女人的美麗必須從她的眼中找到，因為這才是她的心靈之窗與愛心之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8T10:25:07Z</dcterms:created>
  <dc:creator>Unknown User</dc:creator>
  <dc:description/>
  <dc:language>en-US</dc:language>
  <cp:lastModifiedBy>Clement Hsieh</cp:lastModifiedBy>
  <dcterms:modified xsi:type="dcterms:W3CDTF">2001-11-28T04:15:24Z</dcterms:modified>
  <cp:revision>4</cp:revision>
  <dc:subject/>
  <dc:title>Audrey Hepburn beauty tips</dc:title>
</cp:coreProperties>
</file>