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A3F-1F5C-4714-BB9E-CCE4D466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AB2-39B6-4F89-B6D0-C2F7FA5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803-D3AC-48DF-B7A5-E976148A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C41-1344-4712-B816-44798C75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7480-C82D-43B5-A3D0-7CC293EC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0ED-C7CC-4062-8018-28E5A678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E63A-D273-4AFD-8DE6-EB64A80D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B72F-59B6-4DAF-BFAC-15FE0B83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228D-A73E-47FE-A852-BFCD34EA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A89F-CBD1-4AF7-997A-6DEE766B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68F3-7FF4-4384-B10E-9DEF2087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6D8-18D8-44B4-A00E-D2ED11F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4982-F47C-4508-932C-51366C4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B32-A8CD-4EEB-9C47-72E3195F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6029-F9BE-40BE-903E-603DF72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4262-4138-4AC3-AFF7-D3CDA605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52AF-AC55-4334-9417-C653B2FE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26A-6B93-4FE4-88B7-57768EB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965-CF86-4942-80AD-DEFF503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5AF-2937-4951-A145-B84C6FEB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F39-7DE1-4E3F-B397-4CC2480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BCE-0A55-4AAE-B41A-E92716B5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993-0A5D-4700-8762-863BEA77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883-8C6E-4F13-907F-3E1DC48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317-EF5F-4F34-BF30-0759BBE7B1B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E9E4-677F-4F42-85A9-387E5D9F899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Unit 14 Mainly revis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9295b"/>
                </a:solidFill>
                <a:latin typeface="Arial"/>
              </a:rPr>
              <a:t>Lesson 5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ook Tw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elp oneself to sth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句型用于主人招待客人时，意为：别客气，随便吃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……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你应邀参加宴会时，主人会对你说这样的话。意思是让你随便吃饭和菜，有对也表示随便取某物。此句型是一句常用的客套语。主人请客人不必拘束或客气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跟在家一样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lp yourself to some chicken, Jim. – Yes, I will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piece of cake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两层意思，其一是“一块蛋糕”；其二是“小菜一碟”，言外之意是“小事情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E.g. –I’m not sure how to do this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It’s a piece of cake, let me show you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t a part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聚会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day (adj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天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常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 day (n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一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Part 3 Practi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Useful expressions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ay I hav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uld you pass m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 some dumpl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ould you lik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just a litt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one more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No, thank you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80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38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9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5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401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401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0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602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602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3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903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903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2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103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103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1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203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203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0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104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04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70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97520" y="836640"/>
            <a:ext cx="1014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词填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vegetable sandwiches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lp_________ (yourself, yourselves), childre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e had some noodles ____ (for, with) supp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boy ___ (in, on) the right looks lik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r Wang’s so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chicken is more delicious. Do you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__________(some, any)more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iss Gao teaches her students 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nglish __________.(everyday,every day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773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8640" y="2262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33415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6880" y="4781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9240" y="52293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6520" y="5661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Rewrite the drills without changing their meaning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How delicious the food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__ ______ it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We need two more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need ________ ______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What’s the price of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 ______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We all enjoyed ourselves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all ______ ______ ______ ______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Don’t forget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2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7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7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720" y="228600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ch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3680" y="4289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715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Recite the dialogues in the text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 Make his own dialogue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Finish off the workbook exercis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appy New Year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391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61800" y="895320"/>
            <a:ext cx="1010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汉语完成句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uld you like some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葡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ren? They’re quite swee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Mother bought two _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西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th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n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She never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e usually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鸭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 swim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t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’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. Could you passs me some 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饺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5640" y="12826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rape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6720" y="22827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termelon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6160" y="3284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37958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720" y="4227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48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5360" y="5157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mpling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rcRect l="8009" t="17613" r="33488" b="22018"/>
          <a:stretch/>
        </p:blipFill>
        <p:spPr>
          <a:xfrm>
            <a:off x="0" y="5911920"/>
            <a:ext cx="1224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08360" y="2708280"/>
            <a:ext cx="2057400" cy="142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2120" y="7315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324000" y="249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2133720" cy="16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81476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1476360" y="49417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Revision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Revise </a:t>
            </a:r>
            <a:r>
              <a:rPr b="0" i="1" lang="zh-CN" sz="3200" spc="-1" strike="noStrike">
                <a:solidFill>
                  <a:srgbClr val="9900ff"/>
                </a:solidFill>
                <a:latin typeface="Arial"/>
              </a:rPr>
              <a:t>Shopping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1814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286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264492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17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19400"/>
            <a:ext cx="896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Un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cken, fish, rice, bread, beef, duck,tofu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s, grapes, melons, cakes, dumplings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3276720" cy="230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304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9144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0600" y="105264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1 Pract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isten and answ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Why does Ann want more me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When are Ann and her mother going to buy more food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What did Ann’s mother buy this morning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What else do they want to buy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1080" y="110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0800" y="2633760"/>
            <a:ext cx="62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en people are coming for dinner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41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        bou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to d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sth f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e for dinn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.g.  Would you like another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= Would you like one more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3716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2 Practi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334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5560" y="105264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4005360"/>
            <a:ext cx="107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440" y="1700280"/>
            <a:ext cx="114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07664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5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5440" y="5157720"/>
            <a:ext cx="132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5157720"/>
            <a:ext cx="155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0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24632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04:39Z</dcterms:created>
  <dc:creator>chenhuaxiu</dc:creator>
  <dc:description/>
  <dc:language>en-US</dc:language>
  <cp:lastModifiedBy>lingao</cp:lastModifiedBy>
  <dcterms:modified xsi:type="dcterms:W3CDTF">2005-12-21T03:13:06Z</dcterms:modified>
  <cp:revision>46</cp:revision>
  <dc:subject/>
  <dc:title>Unit 14 Mainly revision  Lesson 55  Book Two</dc:title>
</cp:coreProperties>
</file>