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73A-4744-434E-A7A1-BE50DB45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4CA-8EBF-450A-A68E-D2A6250E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766-7833-409C-A0BA-1B4FF3C6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693-7A5F-4AA0-9E3E-1A5C79FA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5D2-B64D-44F5-A14D-BE3E5414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3DD-B4E3-41A8-9787-2E679AB3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DE4-A54D-466C-8689-4D63DCC4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EAB-6D34-4EFE-B5F4-ED5440AB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1EB-70EA-47E1-9DB8-A1A4E14D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D8F-8AE5-49FA-808D-3AF4800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68E-9764-4FB7-9139-09D6CF0B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7DA-704F-464B-9FCB-E2764E16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91BE-4D4A-43BD-B482-4BA2D06B5AD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145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价值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$20</a:t>
            </a: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美金的时间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USD 20 Worth of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h03795i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3716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「我将今天的闷气都爆发出来了。这是你要的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块钱美金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It’s been a long day and I took out my aggravation on you.  Here’s the $10 you asked f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小孩笑着坐直了起来，「爸，谢谢你」小孩叫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 little boy sat straight up, smiling. “Oh, thank you daddy!” he ye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接着小孩从枕头下拿出一些被弄皱了的钞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n, reaching under his pillow he pulled out some crumpled up b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j01821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137160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这父亲看到小孩已经有钱了，快要再次发脾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, seeing that the boy already had money, started to get ang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这小孩慢慢地算着钱，接着看着他的爸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little boy slowly counted out his money, then looked up at his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什么你已经有钱了还需要更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hy do you want more money if you already have some?” the father gr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j0181647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1066680"/>
            <a:ext cx="8001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因为我之前不够，但我现在足够了」小孩回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ecause I didn't have enough, but now I do,” the little boy re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我现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了，我可以向你买一个小时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间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明天请早一点回家，我想和你一起吃晚餐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dy, I have $20 now, can I buy an hour of your time? Please come home early tomorrow, I would like to have dinner with you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eveni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91120" y="30492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这个故事与你所喜欢的人分享，但更重要的，与你所爱的人分享这价值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0</a:t>
            </a: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块钱美金的时间。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419720"/>
            <a:ext cx="59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Share this story with someone you like…..but even better, share $20 worth of time with someone you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762120"/>
            <a:ext cx="6324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这只是提醒辛苦工作的各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It’s just a short reminder to all of you working so hard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124080"/>
            <a:ext cx="7010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我们应该花一点时间来陪那些在乎我们，关心我们的人而不要让时间从手指间溜走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……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We should not let time slip through our fingers without having spent some time with those who really matter to us, those close to our he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3789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1371600"/>
            <a:ext cx="8229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一位爸爸下班回家很晚了，很累并有点烦，发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他五岁的儿子靠在门旁等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A man came home from work late, tired and irritated, to find his 5-year old son waiting for him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03896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274320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爸，我可以问你一个问题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addy, may I ask you a questio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当然可以，什么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父亲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Yes sure, what is it?” replied the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h03929i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06668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爸，你一小时可以赚多少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ddy, how much do you make an hou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这与你无关，你为什么问这个问题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That’s none of your business, why do you ask such a thing?” the man said ang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我只是想知道，请告诉我，你一小时赚多少钱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小孩哀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I just want to know, please tell me, how much do you make an hour?” pleaded the littl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H03837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1219320"/>
            <a:ext cx="7696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假如你一定要知道的话，我一小时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f you must know, I make $20 an hou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喔！」小孩低着头这样回答。小孩跟着说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h,” the little boy replied, with his head down, looking up, he sa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可以借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, may I please borrow $10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D19089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14479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76201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发怒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如果你问这问题只是要借钱去买毫无意义的玩具或东西的话，给我回到你的房间并上床好好想想为什么你会那么自私。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我每天长时间辛苦工作着，没时间和你玩小孩子的游戏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The father was furio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f the only reason you asked that is so you can borrow some money to buy a silly toy or some other nonsense, then you march yourself straight to your room and go to bed, think about why you are being so selfish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 work long hard hours everyday and don’t have time for such this childish behavi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H0240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8380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小孩安静地回自己房并关上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 little boy quietly went to his room and shu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58128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这位父亲坐下来还对小孩的问题生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 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The man sat down and started to get even angrier about the little boy’s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01816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762120"/>
            <a:ext cx="83059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他怎么敢只为了钱而问这种问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ow dare he ask such questions only to get som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约一小时后，他平静下来了，开始想着他可能对孩子太凶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After about an hour or so, the had calmed down, and started to think hey may have been a little hard on his 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或许他应该用那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买小孩真正想要的，他不常常要钱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Maybe there was something he really needed to buy with that $10 and he really didn't ask for money very o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1443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6094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走到小孩的房门并打开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 went to the door of the little boy’s room and opened the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睡了吗孩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他问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re you asleep, son?” he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还没睡，我还醒着」小孩回答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 daddy, I’m awake” replied th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我想过了，我刚刚可能对你太凶了」父亲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’ve been thinking, maybe I was too hard on you earlier,” said the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8:46:15Z</dcterms:created>
  <dc:creator>Vivian</dc:creator>
  <dc:description/>
  <dc:language>en-US</dc:language>
  <cp:lastModifiedBy>Lyq</cp:lastModifiedBy>
  <dcterms:modified xsi:type="dcterms:W3CDTF">2001-12-19T02:28:55Z</dcterms:modified>
  <cp:revision>28</cp:revision>
  <dc:subject/>
  <dc:title>價值$20美金的時間 USD 20 Worth of Time</dc:title>
</cp:coreProperties>
</file>