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85E-4E13-4A10-940E-A6559204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E7E-3338-494C-AF65-C7D9C788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DB5-901B-450F-AF14-AB38852B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912-27D3-4567-AC56-C605F665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3470-4891-4289-8C14-BAECFC62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47F3-8D84-4DA5-86C7-9C0CC4AF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22E3-5552-44F0-9C88-10998F02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5E69-5069-476B-8D65-6D951265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7521-AE58-40DD-832A-03B08B73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0F15-0812-4306-8D81-3B8CAD07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4C45-5D79-4D5F-8701-536393A3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145-E0BF-4ACA-93EF-3C5F9E4B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1CAF-8C95-4BE2-97F4-26194654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45F8-7370-4268-B287-21AB05E9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6E09-88CC-40DD-84EB-3705162F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7D94-F652-4EB3-BB55-09454D35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1AB1-B2FB-45D9-8AD5-8E8A2BB0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0B9-FCC6-403F-9ECC-93C28AFD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917-72AE-4F67-B8CB-49594DBA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73F-7FF2-4B11-89BC-55785DA0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A19-7F09-4AF0-B128-B1604A2F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91E-3D9B-4A8C-A3BB-CD4CDC35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D7A-1D00-41AC-B248-125A894D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181-1031-4C93-8E3A-45194823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2A6-FF68-482B-B8D0-14B990495C9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2726-8BC6-4B99-B932-8652A730DBC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600"/>
            <a:ext cx="6399360" cy="10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Composite Sketch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is program creates a sketch of your face according to the information entered by you regarding your facial fea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ar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o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ticking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Forma de la car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Nar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Chub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B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Complexion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D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thnicity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Europ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Afri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Ori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Facial Hair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Be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Hand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Moust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Goa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ender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Fe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g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0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5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10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4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17-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6" action="ppaction://hlinksldjump"/>
              </a:rPr>
              <a:t>25-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7" action="ppaction://hlinksldjump"/>
              </a:rPr>
              <a:t>36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8" action="ppaction://hlinksldjump"/>
              </a:rPr>
              <a:t>46-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9" action="ppaction://hlinksldjump"/>
              </a:rPr>
              <a:t>56-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10" action="ppaction://hlinksldjump"/>
              </a:rPr>
              <a:t>+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rocessing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he information will now be processed. In a few seconds, you will be able to see the results. Hopefully,it will be real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01028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yzing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42840" y="198072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52578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analyzed, press to see your composite ske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d you come out ok?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hoto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067360" cy="499140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xampl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he results can be decent, but will be close enough to your features. It all depends on the characteristics you enter.  Here are some exampl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img13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4275000" cy="2274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54380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8380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Questionnair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 a few seconds a questionnaire will appear, asking you about your features in order to be able to do a sketch of your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5438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Hair Color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B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Blon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Red/Aub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Hair Styl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al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Hair Color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Green/Haz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ose Shap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o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Fl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Mouth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Lips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F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Th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Medium thick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ixa Vazquez</cp:lastModifiedBy>
  <dcterms:modified xsi:type="dcterms:W3CDTF">2001-03-01T15:06:17Z</dcterms:modified>
  <cp:revision>5</cp:revision>
  <dc:subject/>
  <dc:title>Presentación de PowerPoint</dc:title>
</cp:coreProperties>
</file>