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49E9-7BBA-41F6-9B10-19EDA6F4D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64A6-EB46-49BB-B76A-EBFF32345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BA45-0F17-41FC-992D-6F7802627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7283-6AFB-4C3C-91FF-CFE9FE2F5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9F889-82D5-4927-9CC6-568ADABE4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FA50E-58FF-445C-9AF8-FCFFAE8C1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5A075-350F-4043-A928-3F16CD55B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C0CAB-3261-4CFA-B6AC-03F85FA81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EB686-A23A-47B3-A449-4E895C823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6019C-A9B8-41E0-8E73-88E555A89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F07C6-4E51-4E34-9892-A5C6652A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5C3E-0646-413C-A7CD-FA38227C0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0DD0C-46AB-43E1-A6DB-C769F196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EF315-0526-4B33-B4B7-5C88CD82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FC5DB-DD90-4CF5-A317-A37BEBE4E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6A4D0-91DD-46C8-8245-5934A1E9C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03D1B-8DEC-4E35-A09D-A267E3404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BC81-2208-4D6A-B82B-6CCEE9EB9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BE42-7E39-4631-94FF-48B38162E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19C6-8E31-416E-A12A-A16F98170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9FEA-C2FE-44A0-8025-B21E718AA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613E-26A7-41C1-890F-1746ACCC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BA44-7037-4F06-9338-331FDBBB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FC8F-D9B5-4009-B823-D5CE0E64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9790-9AE1-460A-9411-4158B55DE32D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C9B30-B4FF-4051-8966-063A82438773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842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66"/>
                </a:solidFill>
                <a:latin typeface="Arial Black"/>
              </a:rPr>
              <a:t>English Idioms</a:t>
            </a:r>
            <a:endParaRPr b="0" lang="en-US" sz="7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严格说，英语中没有中国式的歇后语。中国式歇后语前半句通常为比喻，后半句为本意，如猪八戒照镜子（里外不是人） ；和尚打伞（无法无天）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另一类不涉及比喻或谐音，而是日常俗语，耳熟能详，不必说完，听者已可领会，如三人同行（必有吾师）。英语中不乏实例。请补完下半句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304920"/>
            <a:ext cx="914400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.A bird in h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. A friend in ne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.A penny sav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4.A stitch in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5.An apple a d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6.Ask not what your country do for you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7.Better to have loved and l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8.Birds of a fea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9.Damned if you do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0.Don’t count your chicke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09680" y="3240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worth two in the bus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14600" y="8380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a friend in de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0" y="1371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a penny earn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43240" y="19432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ves ni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09680" y="2514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eeps the doctor awa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29200" y="304812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k what you can do for your countr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86200" y="417204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n never to have loved at al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90920" y="47242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ock togeth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666880" y="52578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mned if you don’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9880" y="57913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fore they are hatch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533520"/>
            <a:ext cx="914400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1.Don’t call u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2.Finders keeper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3.Fool me once, shame on you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4.He is a Jack of all tr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5.Hope for the bes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6.If you can’t beat them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7.If you can’t stand the hea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8.If the shoe fit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9.If the mountain cannot come to Mohammed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0.Man propose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09680" y="6094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we’ll call yo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14600" y="108576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sers weep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16765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ol me twice, shame on m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29000" y="22096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master of no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743200" y="27622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prepare for the wor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390840" y="327672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oin th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733920" y="38098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y out of the kitch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362320" y="44197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ar i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495288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hammed will go to the mountai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09680" y="603900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d dispos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457200"/>
            <a:ext cx="91440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1.One man’s m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2.Penny wis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3.Speak of the dev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4.The grass is always greener on the other s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5.There but for the grace of the G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6.To err is huma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7.Too many coo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8.Two’s compan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9.United we stand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0.we must learn to wal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10000" y="49536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another man’s pois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9907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und foolis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43200" y="154296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the devil is sure to appe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19920" y="21337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f the fen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724280" y="26668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 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600" y="32194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forgive, divi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95520" y="375300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ll spoil the brot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90920" y="432432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ree’s a crow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52760" y="485784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vided, we fal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124080" y="54100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fore we can ru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609480"/>
            <a:ext cx="91440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1.What goes 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2.When poverty comes in at the do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3.When in R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4.When the cat is aw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5.When the going gets tough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6.Where there is a wil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7.Where there’s smok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8.With friends like him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9.You can catch more flies with hone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40.You scratch my back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09680" y="6094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st come dow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648320" y="114300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ve flies out of the window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362320" y="173340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 what the Romans 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24080" y="22860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ice will pla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86200" y="28195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ough get go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33526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e is a wa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36840" y="3886200"/>
            <a:ext cx="48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e’s a fi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00400" y="44197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needs enemi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50292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n with vineg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00400" y="554364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nd I’ll scratch you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990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Monotype Corsiva"/>
              </a:rPr>
              <a:t>Thanks for your attention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2971800"/>
            <a:ext cx="91440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Palatino"/>
              </a:rPr>
              <a:t>CAN YOU THINK OF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Palatino"/>
              </a:rPr>
              <a:t> </a:t>
            </a:r>
            <a:r>
              <a:rPr b="1" lang="en-US" sz="4400" spc="-1" strike="noStrike">
                <a:solidFill>
                  <a:srgbClr val="ff0066"/>
                </a:solidFill>
                <a:latin typeface="Palatino"/>
              </a:rPr>
              <a:t>MORE IDIOM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Palatino"/>
              </a:rPr>
              <a:t> </a:t>
            </a:r>
            <a:r>
              <a:rPr b="1" lang="en-US" sz="4400" spc="-1" strike="noStrike">
                <a:solidFill>
                  <a:srgbClr val="ff0066"/>
                </a:solidFill>
                <a:latin typeface="Palatino"/>
              </a:rPr>
              <a:t>LIKE THES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15T15:40:02Z</dcterms:created>
  <dc:creator/>
  <dc:description/>
  <dc:language>en-US</dc:language>
  <cp:lastModifiedBy>w</cp:lastModifiedBy>
  <dcterms:modified xsi:type="dcterms:W3CDTF">2003-10-31T01:18:42Z</dcterms:modified>
  <cp:revision>2</cp:revision>
  <dc:subject/>
  <dc:title>English Idioms</dc:title>
</cp:coreProperties>
</file>