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C29-6C33-45F4-BD59-A7400B7F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6EF-EF70-497E-ABC6-9C4ECE27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8C92-B0E8-4C66-A489-BB5EAC76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06F0-8B15-42C9-BCEA-3C6E1578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0896-5466-4C60-9786-0BB676C1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602-9AF1-414C-B755-C585A45E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1E4-859A-43F4-9630-DDFE9E3C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6A8-6338-4384-AF36-A29885C9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E514-C95C-4A9D-954F-5CA09F89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496C-52E4-4AFB-A7CE-A08F3B46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BD5-B6AF-491F-9152-82BBD195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FD0-5DA5-4B00-9746-A812CD93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9469-C8A5-49CC-9EE2-A33900F1273F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902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013" TargetMode="External"/><Relationship Id="rId2" Type="http://schemas.openxmlformats.org/officeDocument/2006/relationships/hyperlink" Target="http://images.webshots.com/scripts/PhotoDownload.fcgi?targetmode=&amp;photos=19013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bshots.com/g/66/495-sh/2237.html" TargetMode="External"/><Relationship Id="rId2" Type="http://schemas.openxmlformats.org/officeDocument/2006/relationships/hyperlink" Target="http://www.webshots.com/g/66/495-sh/2237.html" TargetMode="External"/><Relationship Id="rId3" Type="http://schemas.openxmlformats.org/officeDocument/2006/relationships/hyperlink" Target="http://images.webshots.com/scripts/PhotoDownload.fcgi?targetmode=&amp;photos=2237" TargetMode="External"/><Relationship Id="rId4" Type="http://schemas.openxmlformats.org/officeDocument/2006/relationships/hyperlink" Target="http://images.webshots.com/scripts/PhotoDownload.fcgi?targetmode=&amp;photos=2237" TargetMode="External"/><Relationship Id="rId5" Type="http://schemas.openxmlformats.org/officeDocument/2006/relationships/hyperlink" Target="http://images.webshots.com/scripts/PhotoDownload.fcgi?targetmode=&amp;photos=2237" TargetMode="External"/><Relationship Id="rId6" Type="http://schemas.openxmlformats.org/officeDocument/2006/relationships/hyperlink" Target="http://images.webshots.com/scripts/PhotoDownload.fcgi?targetmode=&amp;photos=2237" TargetMode="Externa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360" TargetMode="External"/><Relationship Id="rId2" Type="http://schemas.openxmlformats.org/officeDocument/2006/relationships/hyperlink" Target="http://images.webshots.com/scripts/PhotoDownload.fcgi?targetmode=&amp;photos=19360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502" TargetMode="External"/><Relationship Id="rId2" Type="http://schemas.openxmlformats.org/officeDocument/2006/relationships/hyperlink" Target="http://images.webshots.com/scripts/PhotoDownload.fcgi?targetmode=&amp;photos=502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21101" TargetMode="External"/><Relationship Id="rId2" Type="http://schemas.openxmlformats.org/officeDocument/2006/relationships/hyperlink" Target="http://images.webshots.com/scripts/PhotoDownload.fcgi?targetmode=&amp;photos=2110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6376" TargetMode="External"/><Relationship Id="rId2" Type="http://schemas.openxmlformats.org/officeDocument/2006/relationships/hyperlink" Target="http://images.webshots.com/scripts/PhotoDownload.fcgi?targetmode=&amp;photos=6376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9024" TargetMode="External"/><Relationship Id="rId2" Type="http://schemas.openxmlformats.org/officeDocument/2006/relationships/hyperlink" Target="http://images.webshots.com/scripts/PhotoDownload.fcgi?targetmode=&amp;photos=11001" TargetMode="External"/><Relationship Id="rId3" Type="http://schemas.openxmlformats.org/officeDocument/2006/relationships/hyperlink" Target="http://images.webshots.com/scripts/PhotoDownload.fcgi?targetmode=&amp;photos=11001" TargetMode="External"/><Relationship Id="rId4" Type="http://schemas.openxmlformats.org/officeDocument/2006/relationships/hyperlink" Target="http://images.webshots.com/scripts/PhotoDownload.fcgi?targetmode=&amp;photos=11001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000" spc="-1" strike="noStrike">
                <a:solidFill>
                  <a:srgbClr val="666633"/>
                </a:solidFill>
                <a:latin typeface="Monotype Corsiva"/>
              </a:rPr>
              <a:t>10 ROSES FOR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beau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9024_wallpaper280" descr="&quot;Frosted English Rose&quot; © The Image Ban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8116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0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19824_wallpaper280" descr="&quot;Sensuous Beauties&quot; © SuperStock, Inc."/>
          <p:cNvPicPr/>
          <p:nvPr/>
        </p:nvPicPr>
        <p:blipFill>
          <a:blip r:embed="rId1"/>
          <a:stretch/>
        </p:blipFill>
        <p:spPr>
          <a:xfrm>
            <a:off x="2590920" y="225252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hon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1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5469_wallpaper280" descr="&quot;English Roses&quot; © The Image Bank"/>
          <p:cNvPicPr/>
          <p:nvPr/>
        </p:nvPicPr>
        <p:blipFill>
          <a:blip r:embed="rId1"/>
          <a:stretch/>
        </p:blipFill>
        <p:spPr>
          <a:xfrm>
            <a:off x="2514600" y="225252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And the last one for a long and healthy lif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1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19013_wallpaper280" descr="&quot;Gentle Blossom&quot; © Byron W. Moore / Roma St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22096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The original message says tha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You should not keep this message to yourself al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6483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Send it on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If you send it to 2 persons,</a:t>
            </a:r>
            <a:br>
              <a:rPr sz="4400"/>
            </a:br>
            <a:r>
              <a:rPr b="1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your wish will be granted within the year</a:t>
            </a:r>
            <a:r>
              <a:rPr b="0" i="1" lang="fr-CA" sz="4400" spc="-1" strike="noStrike">
                <a:solidFill>
                  <a:srgbClr val="808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Send it to 5 persons …</a:t>
            </a: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 </a:t>
            </a: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And your wishes will come true  …</a:t>
            </a:r>
            <a:br>
              <a:rPr sz="4400"/>
            </a:b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… within 3 month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To 15 and more …</a:t>
            </a:r>
            <a:br>
              <a:rPr sz="4400"/>
            </a:b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your dream will come true ...</a:t>
            </a:r>
            <a:br>
              <a:rPr sz="4400"/>
            </a:b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… tomorrow alrea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</a:rPr>
              <a:t>Now I am not superstitious at all,</a:t>
            </a: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</a:rPr>
              <a:t>but I do believe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If you receive this 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600" spc="-1" strike="noStrike">
                <a:solidFill>
                  <a:srgbClr val="808000"/>
                </a:solidFill>
                <a:latin typeface="Monotype Corsiva"/>
              </a:rPr>
              <a:t>It’s because you’re  a special per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That it alway feels nice to be send flowers</a:t>
            </a:r>
            <a:br>
              <a:rPr sz="4400"/>
            </a:b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s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</a:rPr>
              <a:t>Send these flowers to all persons you care about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000000"/>
                </a:solidFill>
                <a:latin typeface="CommercialScript BT"/>
              </a:rPr>
              <a:t>Thanks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4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9" name="11456_wallpaper280" descr="&quot;Rose Bridal Bouquet&quot; © SuperStock, Inc."/>
          <p:cNvPicPr/>
          <p:nvPr/>
        </p:nvPicPr>
        <p:blipFill>
          <a:blip r:embed="rId1"/>
          <a:stretch/>
        </p:blipFill>
        <p:spPr>
          <a:xfrm>
            <a:off x="1295280" y="17524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Book Antiqua"/>
              </a:rPr>
              <a:t>I send you 10 wishes for</a:t>
            </a:r>
            <a:br>
              <a:rPr sz="4400"/>
            </a:br>
            <a:r>
              <a:rPr b="0" i="1" lang="fr-CA" sz="9600" spc="-1" strike="noStrike">
                <a:solidFill>
                  <a:srgbClr val="808000"/>
                </a:solidFill>
                <a:latin typeface="Lucida Handwriting"/>
              </a:rPr>
              <a:t>200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rose for frie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362320" y="2895480"/>
            <a:ext cx="4342680" cy="2133000"/>
            <a:chOff x="2362320" y="2895480"/>
            <a:chExt cx="4342680" cy="2133000"/>
          </a:xfrm>
        </p:grpSpPr>
        <p:sp>
          <p:nvSpPr>
            <p:cNvPr id="54" name=""/>
            <p:cNvSpPr/>
            <p:nvPr/>
          </p:nvSpPr>
          <p:spPr>
            <a:xfrm>
              <a:off x="2362320" y="2895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62320" y="2895480"/>
              <a:ext cx="4342680" cy="21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276720" y="2932200"/>
            <a:ext cx="2128320" cy="1791720"/>
            <a:chOff x="3276720" y="2932200"/>
            <a:chExt cx="2128320" cy="1791720"/>
          </a:xfrm>
        </p:grpSpPr>
        <p:sp>
          <p:nvSpPr>
            <p:cNvPr id="58" name=""/>
            <p:cNvSpPr/>
            <p:nvPr/>
          </p:nvSpPr>
          <p:spPr>
            <a:xfrm>
              <a:off x="3276720" y="2932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76720" y="2932200"/>
              <a:ext cx="2128320" cy="17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2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5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2237_wallpaper280" descr="&quot;Rose Dew, Coos County, Oregon&quot; © Wood Sabol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66880" y="270504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A second one for l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19360_wallpaper280" descr="&quot;Prime of Life&quot; © Roma St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225252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73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502_wallpaper280" descr="&quot;Rosebud&quot; © Rob Perr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255276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financial w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happ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8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21101_wallpaper280" descr="&quot;Hope Blooms&quot; © SuperStock, Inc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225252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suc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8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6376_wallpaper280" descr="&quot;Birthday Roses&quot; © The Image Ban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22525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371600" y="2206800"/>
            <a:ext cx="6933960" cy="3355560"/>
            <a:chOff x="1371600" y="2206800"/>
            <a:chExt cx="6933960" cy="3355560"/>
          </a:xfrm>
        </p:grpSpPr>
        <p:sp>
          <p:nvSpPr>
            <p:cNvPr id="92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9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11001_wallpaper280" descr="&quot;True Love Forever&quot; © SuperStock, Inc."/>
          <p:cNvPicPr/>
          <p:nvPr/>
        </p:nvPicPr>
        <p:blipFill>
          <a:blip r:embed="rId5"/>
          <a:stretch/>
        </p:blipFill>
        <p:spPr>
          <a:xfrm>
            <a:off x="2286000" y="225252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20:31Z</dcterms:created>
  <dc:creator>Sylvie Simoneau</dc:creator>
  <dc:description/>
  <dc:language>en-US</dc:language>
  <cp:lastModifiedBy>Nike</cp:lastModifiedBy>
  <dcterms:modified xsi:type="dcterms:W3CDTF">2002-01-10T14:53:45Z</dcterms:modified>
  <cp:revision>38</cp:revision>
  <dc:subject/>
  <dc:title>Mots d’enfants</dc:title>
</cp:coreProperties>
</file>