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40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9183-B443-4DC6-8FA3-8B383AB2C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05B1-FA94-4372-9504-86A76F1F4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DC7F-56D8-4F86-AE2B-B070515D2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8103-6F94-4B08-A019-984003C50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3C5E-82C2-415D-8D8B-23DB43BF3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65DD-A8F2-46FA-8773-03EBD924E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3095-305E-4915-A237-957323A56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547C-39DF-4867-BDF4-FBA444036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9BFF-577B-4384-8B21-A3BCBAA6A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3F11-4F6B-45CB-A658-C5C81E50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6078-0EB4-4320-84F0-959DCCBE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1D93-1CDB-4E0A-B0C6-00B1FDE1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b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C12D0-B1AE-4408-9EFE-105956B42291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image" Target="../media/image41.wmf"/><Relationship Id="rId5" Type="http://schemas.openxmlformats.org/officeDocument/2006/relationships/image" Target="../media/image42.wmf"/><Relationship Id="rId6" Type="http://schemas.openxmlformats.org/officeDocument/2006/relationships/image" Target="../media/image43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wmf"/><Relationship Id="rId3" Type="http://schemas.openxmlformats.org/officeDocument/2006/relationships/image" Target="../media/image46.wmf"/><Relationship Id="rId4" Type="http://schemas.openxmlformats.org/officeDocument/2006/relationships/image" Target="../media/image47.wmf"/><Relationship Id="rId5" Type="http://schemas.openxmlformats.org/officeDocument/2006/relationships/image" Target="../media/image48.wmf"/><Relationship Id="rId6" Type="http://schemas.openxmlformats.org/officeDocument/2006/relationships/image" Target="../media/image49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image" Target="../media/image51.wmf"/><Relationship Id="rId3" Type="http://schemas.openxmlformats.org/officeDocument/2006/relationships/image" Target="../media/image52.wmf"/><Relationship Id="rId4" Type="http://schemas.openxmlformats.org/officeDocument/2006/relationships/image" Target="../media/image53.wmf"/><Relationship Id="rId5" Type="http://schemas.openxmlformats.org/officeDocument/2006/relationships/image" Target="../media/image54.wmf"/><Relationship Id="rId6" Type="http://schemas.openxmlformats.org/officeDocument/2006/relationships/image" Target="../media/image36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wmf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image" Target="../media/image30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image" Target="../media/image34.wmf"/><Relationship Id="rId5" Type="http://schemas.openxmlformats.org/officeDocument/2006/relationships/image" Target="../media/image35.wmf"/><Relationship Id="rId6" Type="http://schemas.openxmlformats.org/officeDocument/2006/relationships/image" Target="../media/image36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b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1857240" cy="3995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581280" y="1981080"/>
            <a:ext cx="5029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've been thinking for a long time about what we do in our lif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724280" y="46483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我從很久以前就想著在我這一身我要做些什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b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1565280" cy="19638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724280" y="304920"/>
            <a:ext cx="1374840" cy="18144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228600" y="2514600"/>
            <a:ext cx="1617840" cy="17175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3886200" y="2590920"/>
            <a:ext cx="2133720" cy="12348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685800" y="4648320"/>
            <a:ext cx="1109520" cy="19666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6"/>
          <a:stretch/>
        </p:blipFill>
        <p:spPr>
          <a:xfrm>
            <a:off x="3733920" y="4495680"/>
            <a:ext cx="1828800" cy="1498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117520" y="345960"/>
            <a:ext cx="206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'll take th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as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536880" y="422280"/>
            <a:ext cx="213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'll try to op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y he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o my l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677960" y="2514600"/>
            <a:ext cx="234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'll listen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o the 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urrounding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259092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'll save mor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o spend 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ith my fri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888920" y="4765680"/>
            <a:ext cx="135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'll 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o tra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867280" y="4495680"/>
            <a:ext cx="297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karaoke I'll never d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ut I belie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'll sing m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13716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讓事情簡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629400" y="16765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試著打開我的心去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57400" y="37339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聽更多關於我身邊的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48520" y="388620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花更多時間和我的朋友同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9436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有更多的旅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b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1788840" cy="7635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228600"/>
            <a:ext cx="1382760" cy="15336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380880" y="2362320"/>
            <a:ext cx="1633680" cy="17539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4343400" y="2590920"/>
            <a:ext cx="1752480" cy="13460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380880" y="4572000"/>
            <a:ext cx="1500480" cy="17780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6"/>
          <a:stretch/>
        </p:blipFill>
        <p:spPr>
          <a:xfrm>
            <a:off x="4648320" y="4419720"/>
            <a:ext cx="1604880" cy="18288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194200" y="345960"/>
            <a:ext cx="198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'll g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ore 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o the sea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233760" y="498600"/>
            <a:ext cx="255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'll make my b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o cook tasty fo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70520" y="2556000"/>
            <a:ext cx="168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'll jo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y friends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arm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461280" y="301320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bit love m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117520" y="4613400"/>
            <a:ext cx="25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'll be happ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o get new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rom my friend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706800" y="5029200"/>
            <a:ext cx="1789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d achie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oget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mm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066680" y="1676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有更多的時間在海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334120" y="1676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試著去做最好吃的食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133720" y="38862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溶入溫暖友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705720" y="35812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多一點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90512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高興獲得朋友的消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172200" y="44956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一起達到共同的目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b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28600" y="517680"/>
            <a:ext cx="2438280" cy="11458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5257800" y="304920"/>
            <a:ext cx="1138320" cy="1698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228600" y="2438280"/>
            <a:ext cx="2146320" cy="14036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4724280" y="2362320"/>
            <a:ext cx="2133720" cy="17301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457200" y="4267080"/>
            <a:ext cx="1550880" cy="22910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6"/>
          <a:stretch/>
        </p:blipFill>
        <p:spPr>
          <a:xfrm>
            <a:off x="5029200" y="4114800"/>
            <a:ext cx="2057400" cy="15746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743560" y="304920"/>
            <a:ext cx="229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 can’t be sur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ut I belie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t worths try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77120" y="228600"/>
            <a:ext cx="216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“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ell, sa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at you want, but I 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nice guy!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362680" y="2590920"/>
            <a:ext cx="259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'll co-oper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lean the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rom nasty peo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994800" y="2479680"/>
            <a:ext cx="1867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 h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r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glass m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IC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058840" y="4572000"/>
            <a:ext cx="264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d I h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y won’t stop 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82760" y="5638680"/>
            <a:ext cx="208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my ti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362320" y="1523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我不能確定但這值得一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19920" y="160020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說你想要什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我是個好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b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752480" y="685800"/>
            <a:ext cx="4876920" cy="394344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0" y="487692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 do not know whether it is good for everybody, bu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’m sure that at least I will have had a wonderful time… which by the way is what counts m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ON’T YOU THINK S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553080" y="2133720"/>
            <a:ext cx="22100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我不知道是不是對每個人都是好的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但至少我將有美好的時光照我的方式來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你認為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b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2648160" cy="1747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62120" y="3657600"/>
            <a:ext cx="1400040" cy="2771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715000" y="1828800"/>
            <a:ext cx="2209680" cy="2629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563280" y="66600"/>
            <a:ext cx="5060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e start by being taught in sch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ow to become good citize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2286000"/>
            <a:ext cx="422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e spend a great part of 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hildhood studying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135160" y="4572000"/>
            <a:ext cx="7008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d finally we get the diploma that w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nsure us “the position we deserve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06668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我們在學校開始被教育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要成為一個好的國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33720" y="327672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我們花了很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童年的時光在學習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54864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最後我們獲得了一張文憑來確保地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b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8600" y="663480"/>
            <a:ext cx="1981080" cy="1859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867280" y="2133720"/>
            <a:ext cx="2338560" cy="1966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762120" y="4876920"/>
            <a:ext cx="2117520" cy="161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800800" y="345960"/>
            <a:ext cx="415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e participate to the increa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f unemploy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93840" y="2895480"/>
            <a:ext cx="314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..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ntil we find a jo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13880" y="4613400"/>
            <a:ext cx="412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rough hard tests we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ccepted in the world of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2193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我們參與了一場場不被錄用面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14600" y="35053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直到找到了工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05320" y="55627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通過了艱難的測試獲了一份工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b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055960" cy="22096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1855800" cy="22795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304920" y="3581280"/>
            <a:ext cx="1955520" cy="21193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6477120" y="5029200"/>
            <a:ext cx="2322360" cy="1643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648520" y="345960"/>
            <a:ext cx="527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e perform a good professional care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illed with activity and eff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741400" y="2438280"/>
            <a:ext cx="325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…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lot, a lot of effort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575080" y="4079880"/>
            <a:ext cx="386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ill we fall down exhausted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81080" y="5410080"/>
            <a:ext cx="43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UT we are great profess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ith our valuable market share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12193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花了很多的精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讓我們在工作上有好的表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95480" y="29718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很多很多的精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743200" y="45720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直到精疲力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b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728720" cy="21178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800600" y="380880"/>
            <a:ext cx="1504800" cy="13622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304920" y="2514600"/>
            <a:ext cx="1620720" cy="16034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4648320" y="2209680"/>
            <a:ext cx="1795320" cy="14018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380880" y="4724280"/>
            <a:ext cx="725760" cy="1824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2895480" y="4343400"/>
            <a:ext cx="1290600" cy="12542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7848720" y="4191120"/>
            <a:ext cx="709560" cy="13968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890360" y="345960"/>
            <a:ext cx="221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ime keeps  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assing, and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478200" y="533520"/>
            <a:ext cx="175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..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e sel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ew targe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10400" y="2666880"/>
            <a:ext cx="207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e m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sweethe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f our lif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706800" y="2514600"/>
            <a:ext cx="202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..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d prom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nevere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95280" y="4648320"/>
            <a:ext cx="173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assionate hug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67800" y="4343400"/>
            <a:ext cx="219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d here c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baby into 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14280" y="5105520"/>
            <a:ext cx="317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amned nigh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uldn’t close my eye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81080" y="13716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當時間慢慢過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791320" y="14479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我們改變新的目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3880" y="38098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我們遇見了生命中的另一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91320" y="37339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而且承諾這段永恆的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19320" y="5638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激情過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00400" y="57913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家中增加了新的成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67280" y="5791320"/>
            <a:ext cx="28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多少夜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不能合上我的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b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1198440" cy="21938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876920" y="457200"/>
            <a:ext cx="1987560" cy="17748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57200" y="2666880"/>
            <a:ext cx="1569960" cy="15764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4572000" y="2362320"/>
            <a:ext cx="1654200" cy="15681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533520" y="4495680"/>
            <a:ext cx="1976400" cy="1079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5334120" y="4114800"/>
            <a:ext cx="2955960" cy="1685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043360" y="345960"/>
            <a:ext cx="311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e keep on advan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the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553080" y="0"/>
            <a:ext cx="285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rying to m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best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ur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33720" y="2971800"/>
            <a:ext cx="230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e are the st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rever we 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77120" y="2514600"/>
            <a:ext cx="251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d we are fin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IC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03680" y="430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13520" y="4800600"/>
            <a:ext cx="225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ut we n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ome time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81480" y="57150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o triumph complet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057400" y="14479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我們繼續提升社會地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05720" y="15238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試著表現更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828800" y="38098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無論到那都是受矚目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19920" y="35053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最後變成有錢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603576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但是我們需要更多的時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34120" y="60958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獲得完全的勝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b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2128680" cy="17748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952880" y="304920"/>
            <a:ext cx="1602000" cy="19573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762120" y="2514600"/>
            <a:ext cx="858600" cy="1797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4114800" y="2438280"/>
            <a:ext cx="2286000" cy="1346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380880" y="4572000"/>
            <a:ext cx="1311480" cy="1971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4648320" y="4038480"/>
            <a:ext cx="1628640" cy="18147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269080" y="270000"/>
            <a:ext cx="325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osh! One day they t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y can 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ithout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173280" y="1219320"/>
            <a:ext cx="247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y this tim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you think get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raz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61760" y="2860560"/>
            <a:ext cx="152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you fe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estroye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29400" y="2362320"/>
            <a:ext cx="227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you feel y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ost mean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mmuni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99120" y="4800600"/>
            <a:ext cx="328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You realise you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ut off from every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327000" y="4267080"/>
            <a:ext cx="1892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w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oes not p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y long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till you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oos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14600" y="13716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天啊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!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有一天公司對你說不再需要你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24480" y="38088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在這時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你快瘋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37339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你感到破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352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失去和他人溝通的意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00200" y="5791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你發現你被所有事擊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4120" y="6035760"/>
            <a:ext cx="304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時間不再長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而你失去了一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b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1752480" cy="12096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562720" y="228600"/>
            <a:ext cx="1523880" cy="15447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685800" y="2438280"/>
            <a:ext cx="685800" cy="17719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4038480" y="2362320"/>
            <a:ext cx="2362320" cy="15145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685800" y="4724280"/>
            <a:ext cx="1538280" cy="18576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4800600" y="4800600"/>
            <a:ext cx="2055960" cy="15732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270160" y="345960"/>
            <a:ext cx="253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You real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you’ve been li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the f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23400" y="914400"/>
            <a:ext cx="186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search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silly targ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01640" y="2438280"/>
            <a:ext cx="185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You beco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wal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613560" y="240336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ying to esc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our enem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10040" y="4343400"/>
            <a:ext cx="2096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You ar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nl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onging for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ours to p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992640" y="4613400"/>
            <a:ext cx="187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ill your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828800" y="16765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你發現你生活在霧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867280" y="1752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追求可笑的目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752480" y="3809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像行屍走肉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629400" y="35812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想要消滅所有的敵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447920" y="60199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你渴望時間趕快過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010280" y="57913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直到你倒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b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676520" y="1143000"/>
            <a:ext cx="1295280" cy="39337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195720" y="2057400"/>
            <a:ext cx="523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pon this evaluation, an id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me to my mi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n how to improve my lif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352680" y="4038480"/>
            <a:ext cx="4953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根據上述評斷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腦中出現新的點子來改善我的生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2T10:52:34Z</dcterms:created>
  <dc:creator>Javier Peña</dc:creator>
  <dc:description/>
  <dc:language>en-US</dc:language>
  <cp:lastModifiedBy>Adigu</cp:lastModifiedBy>
  <cp:lastPrinted>2000-11-23T23:44:47Z</cp:lastPrinted>
  <dcterms:modified xsi:type="dcterms:W3CDTF">2001-02-25T19:35:51Z</dcterms:modified>
  <cp:revision>32</cp:revision>
  <dc:subject/>
  <dc:title>Sin título de diapositiva</dc:title>
</cp:coreProperties>
</file>