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BE9-8439-4E63-9CDC-119644A5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B50-F846-41AF-911F-128645A9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344-8C70-44BC-B628-015A83B7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61F-D288-4CB3-A796-21D7C70D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818D-C4DA-45DE-8639-5A5378AF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EA11-C4CD-4A7D-A1BF-FA97932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B463-30E6-4F46-AE2F-E1258637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3097-CAC5-4CCC-9301-4BF966D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7BE-9172-4756-AEF3-33DC71B0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DD2F-8029-4EF0-9A2A-C1C0232A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4CF2-5057-420F-B5A4-711E9B6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15F-3C83-4C4A-953F-A198E7D5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91E6-81C3-4C8B-AC09-79CF8D3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4984-CB72-430C-A81F-84FD8B8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E6C-B08A-4C50-ACC0-9D7F190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C255-1083-48DE-B42A-90922A78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084-3E32-4A01-A873-4EBECA38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67E-6B17-49E6-9DEB-35B7CD02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D03-1A2F-4377-9CA9-0E6C9BDB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CD8-74E5-410E-AFB9-9D03F7CA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0E5-CB16-4FC1-91B0-3942474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F32-BB87-4B89-8DDB-3483BA8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4C2-2001-4AF9-B9AD-5DE1192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95D-4070-412D-B341-B009BF7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8D1-AE81-4E57-BC56-3EA322789CF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074-7B68-4130-9581-C391B2131C1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0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osite Sketc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program creates a sketch of your face according to the information entered by you regarding your facial fea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ar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tick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orma de la ca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N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hub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B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lexion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D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thnicity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Europ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Afri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Or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acial Hai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e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Hand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oust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Goa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ender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g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0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0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4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17-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25-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7" action="ppaction://hlinksldjump"/>
              </a:rPr>
              <a:t>36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8" action="ppaction://hlinksldjump"/>
              </a:rPr>
              <a:t>46-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9" action="ppaction://hlinksldjump"/>
              </a:rPr>
              <a:t>56-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0" action="ppaction://hlinksldjump"/>
              </a:rPr>
              <a:t>+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rocessing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information will now be processed. In a few seconds, you will be able to see the results. Hopefully,it will be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yzing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2840" y="19807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257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analyzed, press to see your composite sk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d you come out ok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hoto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067360" cy="49914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xampl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results can be decent, but will be close enough to your features. It all depends on the characteristics you enter.  Here are some exampl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mg13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4275000" cy="2274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Questionnai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 a few seconds a questionnaire will appear, asking you about your features in order to be able to do a sketch of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5438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o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Red/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Styl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al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Green/Haz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ose Shap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out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ips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h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 thic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ixa Vazquez</cp:lastModifiedBy>
  <dcterms:modified xsi:type="dcterms:W3CDTF">2001-03-01T15:06:17Z</dcterms:modified>
  <cp:revision>5</cp:revision>
  <dc:subject/>
  <dc:title>Presentación de PowerPoint</dc:title>
</cp:coreProperties>
</file>