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36.gif" ContentType="image/gif"/>
  <Override PartName="/ppt/media/image28.png" ContentType="image/png"/>
  <Override PartName="/ppt/media/image5.gif" ContentType="image/gif"/>
  <Override PartName="/ppt/media/image35.gif" ContentType="image/gif"/>
  <Override PartName="/ppt/media/image27.jpeg" ContentType="image/jpeg"/>
  <Override PartName="/ppt/media/image24.png" ContentType="image/png"/>
  <Override PartName="/ppt/media/image23.png" ContentType="image/png"/>
  <Override PartName="/ppt/media/image15.png" ContentType="image/png"/>
  <Override PartName="/ppt/media/image12.gif" ContentType="image/gif"/>
  <Override PartName="/ppt/media/image1.jpeg" ContentType="image/jpeg"/>
  <Override PartName="/ppt/media/image7.gif" ContentType="image/gif"/>
  <Override PartName="/ppt/media/image37.gif" ContentType="image/gif"/>
  <Override PartName="/ppt/media/image4.jpeg" ContentType="image/jpeg"/>
  <Override PartName="/ppt/media/image10.wmf" ContentType="image/x-wmf"/>
  <Override PartName="/ppt/media/image25.png" ContentType="image/png"/>
  <Override PartName="/ppt/media/image32.png" ContentType="image/png"/>
  <Override PartName="/ppt/media/image2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4.png" ContentType="image/png"/>
  <Override PartName="/ppt/media/image11.gif" ContentType="image/gif"/>
  <Override PartName="/ppt/media/image14.png" ContentType="image/png"/>
  <Override PartName="/ppt/media/image38.gif" ContentType="image/gif"/>
  <Override PartName="/ppt/media/image8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3B3-6A5B-4A7D-955A-46C1165A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58C-DECD-4B05-938D-CF83419A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616-D2AE-4F8C-82DD-7E16C46D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B68-DC0F-4F80-AB3D-B9E23271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DD56-842C-4D96-9C4B-32F0D3F4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6235-AF29-494A-AA20-3A0883BA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F1C6-23E5-450B-9BBB-B148E60D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E75B-FCAE-40F9-B3F7-4D11642E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772E-E19F-41F2-875B-C699580C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0AE3-4E50-4743-B459-87FBEE81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D5F8-B546-49CB-AACF-890D7CA7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C8D-0466-4DE1-80AB-60BFCFA3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33A6-ED78-487C-A2DA-900C558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E1A4-4CEE-45CC-92EC-587527D2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E29B-CEB4-4EAE-A6E0-DDA88A04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7780-05C1-4060-B280-F46C20A1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BFB3-7E92-4A5D-8770-8D78EC78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B8C-6D31-4500-92AD-CF601227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6BC-1E4E-4B28-844D-F75C1F6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419-F9DC-4A8D-BD12-A802CED1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D48-5804-416D-A71D-BD23EEE2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CAC-E3FF-4AC5-AB91-A63778E6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7BF-843D-4399-805B-B9272813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ED4-CABF-4493-81A8-7C2CB385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D6EA-A0EE-458A-A4AB-DDA725EAC6D5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4610-C0CF-4CB1-85DC-F6F6F7E8B6C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slide" Target="slide17.xml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8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2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9.xml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34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6.gif"/><Relationship Id="rId6" Type="http://schemas.openxmlformats.org/officeDocument/2006/relationships/image" Target="../media/image38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6plinc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934320" cy="350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8380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i="1" lang="en-US" sz="4800" spc="-1" strike="noStrike">
                <a:solidFill>
                  <a:srgbClr val="ff6600"/>
                </a:solidFill>
                <a:latin typeface="Arial Black"/>
              </a:rPr>
              <a:t>Abraham Lincoln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523880"/>
            <a:ext cx="86868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. What do the Americans think of Abraham Lincoln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They think highly of h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They consider him to be a good lawy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They think him to be a nice man but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not a good presid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They think he had too little education 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e fit for his po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133720"/>
            <a:ext cx="61722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. They think highly of h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762120" y="762120"/>
          <a:ext cx="8076960" cy="5715000"/>
        </p:xfrm>
        <a:graphic>
          <a:graphicData uri="http://schemas.openxmlformats.org/drawingml/2006/table">
            <a:tbl>
              <a:tblPr/>
              <a:tblGrid>
                <a:gridCol w="1794600"/>
                <a:gridCol w="4263120"/>
                <a:gridCol w="20192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872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s a chi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______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as born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orked hard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spent  ___________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  year in al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s mother died and he had a kind____________ later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Kentuck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on their ______farm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school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838080" y="2743200"/>
            <a:ext cx="80010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495680"/>
            <a:ext cx="80769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3716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ebruary 12</a:t>
            </a:r>
            <a:r>
              <a:rPr b="1" i="1" lang="en-US" sz="2800" spc="-1" strike="noStrike" baseline="30000">
                <a:solidFill>
                  <a:srgbClr val="ff3300"/>
                </a:solidFill>
                <a:latin typeface="Times New Roman"/>
              </a:rPr>
              <a:t>th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,1809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 morn tha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3352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mal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1818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334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epmoth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09480" y="1066680"/>
          <a:ext cx="7925040" cy="5166000"/>
        </p:xfrm>
        <a:graphic>
          <a:graphicData uri="http://schemas.openxmlformats.org/drawingml/2006/table">
            <a:tbl>
              <a:tblPr/>
              <a:tblGrid>
                <a:gridCol w="2081160"/>
                <a:gridCol w="3481560"/>
                <a:gridCol w="23623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462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orke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a _____and a __________ 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2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studied ______in his spare time and became a 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2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became interested in ________ and was against 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838080" y="2666880"/>
            <a:ext cx="16002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you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m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2057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2514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ost offi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3581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267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awy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90280" y="5149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181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olit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5562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lave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57200" y="685800"/>
            <a:ext cx="8229240" cy="5509800"/>
            <a:chOff x="457200" y="685800"/>
            <a:chExt cx="8229240" cy="5509800"/>
          </a:xfrm>
        </p:grpSpPr>
        <p:grpSp>
          <p:nvGrpSpPr>
            <p:cNvPr id="141" name=""/>
            <p:cNvGrpSpPr/>
            <p:nvPr/>
          </p:nvGrpSpPr>
          <p:grpSpPr>
            <a:xfrm>
              <a:off x="463680" y="694440"/>
              <a:ext cx="8214840" cy="5490360"/>
              <a:chOff x="463680" y="694440"/>
              <a:chExt cx="8214840" cy="549036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463680" y="694440"/>
                <a:ext cx="2062800" cy="5490360"/>
                <a:chOff x="463680" y="694440"/>
                <a:chExt cx="2062800" cy="54903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60160" y="694440"/>
                  <a:ext cx="1870200" cy="549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Lincoln’s 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Political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life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3680" y="694440"/>
                  <a:ext cx="2062800" cy="549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526840" y="694440"/>
                <a:ext cx="1482840" cy="1155240"/>
                <a:chOff x="2526840" y="694440"/>
                <a:chExt cx="1482840" cy="1155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623320" y="694440"/>
                  <a:ext cx="1289880" cy="115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TIME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526840" y="694440"/>
                  <a:ext cx="1482840" cy="115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010400" y="694440"/>
                <a:ext cx="4668120" cy="1155240"/>
                <a:chOff x="4010400" y="694440"/>
                <a:chExt cx="4668120" cy="11552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106160" y="694440"/>
                  <a:ext cx="4476240" cy="115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ACTIVITY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010400" y="694440"/>
                  <a:ext cx="4668120" cy="115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526840" y="1850040"/>
                <a:ext cx="1482840" cy="1444680"/>
                <a:chOff x="2526840" y="1850040"/>
                <a:chExt cx="1482840" cy="14446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623320" y="1850040"/>
                  <a:ext cx="1289880" cy="14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1860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526840" y="1850040"/>
                  <a:ext cx="1482840" cy="14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010400" y="1850040"/>
                <a:ext cx="4668120" cy="1444680"/>
                <a:chOff x="4010400" y="1850040"/>
                <a:chExt cx="4668120" cy="14446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106160" y="1850040"/>
                  <a:ext cx="4476240" cy="14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He became ____________ and worked harder for the ________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________________ .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010400" y="1850040"/>
                  <a:ext cx="4668120" cy="14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526840" y="3295080"/>
                <a:ext cx="1482840" cy="2889360"/>
                <a:chOff x="2526840" y="3295080"/>
                <a:chExt cx="1482840" cy="2889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623320" y="3295080"/>
                  <a:ext cx="1289880" cy="288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5b5249"/>
                      </a:solidFill>
                      <a:latin typeface="Times New Roman"/>
                    </a:rPr>
                    <a:t>After the Civil War broke out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526840" y="3295080"/>
                  <a:ext cx="1482840" cy="288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010400" y="3295080"/>
                <a:ext cx="4668120" cy="2889360"/>
                <a:chOff x="4010400" y="3295080"/>
                <a:chExt cx="4668120" cy="288936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4106160" y="3295080"/>
                  <a:ext cx="4475880" cy="2555280"/>
                  <a:chOff x="4106160" y="3295080"/>
                  <a:chExt cx="4475880" cy="25552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4106160" y="3295080"/>
                    <a:ext cx="4473360" cy="228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He said it was ___________for the ________ to break away from the Union and led the _________ in the fighting against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____________________ .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106160" y="5024880"/>
                    <a:ext cx="447588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4010400" y="3295080"/>
                  <a:ext cx="4668120" cy="288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457200" y="685800"/>
              <a:ext cx="8229240" cy="5509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095880" y="1752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2133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reedo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24382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of the slav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3200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t ri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581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ou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4267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r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648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lave own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533520" y="457200"/>
          <a:ext cx="8153280" cy="6045120"/>
        </p:xfrm>
        <a:graphic>
          <a:graphicData uri="http://schemas.openxmlformats.org/drawingml/2006/table">
            <a:tbl>
              <a:tblPr/>
              <a:tblGrid>
                <a:gridCol w="1785960"/>
                <a:gridCol w="1519200"/>
                <a:gridCol w="2638440"/>
                <a:gridCol w="2209680"/>
              </a:tblGrid>
              <a:tr h="1170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incoln’s   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olitical   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if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65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fter the wa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the end the</a:t>
                      </a:r>
                      <a:r>
                        <a:rPr b="1" i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 won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Northern and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outhern states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he slaves were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1864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became ________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or the _____time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0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On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pril 14,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86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as shot at a 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ashington 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.C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419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joined u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t fre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4572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2n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at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523880" y="1371600"/>
          <a:ext cx="6705720" cy="3665520"/>
        </p:xfrm>
        <a:graphic>
          <a:graphicData uri="http://schemas.openxmlformats.org/drawingml/2006/table">
            <a:tbl>
              <a:tblPr/>
              <a:tblGrid>
                <a:gridCol w="2286000"/>
                <a:gridCol w="44197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872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2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oda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872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is ________________as one of the _________of all American Presidents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981080" y="1752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3048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onsider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3429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grea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" name="76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524240" cy="91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48006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00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00600" y="0"/>
          <a:ext cx="434340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0"/>
                    <a:ext cx="43434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800600" y="3505320"/>
          <a:ext cx="4343400" cy="335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3505320"/>
                    <a:ext cx="43434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0" y="3429000"/>
          <a:ext cx="4800600" cy="342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429000"/>
                    <a:ext cx="4800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800600" y="0"/>
            <a:ext cx="0" cy="685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85840" y="324000"/>
          <a:ext cx="857412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324000"/>
                    <a:ext cx="857412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838080"/>
            <a:ext cx="7259760" cy="4408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62120" y="56386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helped his father on the farm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762120"/>
            <a:ext cx="7470720" cy="4267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54100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Comic Sans MS"/>
              </a:rPr>
              <a:t>His mother died in 1818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5335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omic Sans MS"/>
              </a:rPr>
              <a:t>GAME :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gr3" descr=""/>
          <p:cNvPicPr/>
          <p:nvPr/>
        </p:nvPicPr>
        <p:blipFill>
          <a:blip r:embed="rId1"/>
          <a:stretch/>
        </p:blipFill>
        <p:spPr>
          <a:xfrm flipH="1">
            <a:off x="4647960" y="1523880"/>
            <a:ext cx="1904760" cy="1676520"/>
          </a:xfrm>
          <a:prstGeom prst="rect">
            <a:avLst/>
          </a:prstGeom>
          <a:ln w="0">
            <a:noFill/>
          </a:ln>
        </p:spPr>
      </p:pic>
      <p:pic>
        <p:nvPicPr>
          <p:cNvPr id="94" name="gr1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95" name="gr2" descr=""/>
          <p:cNvPicPr/>
          <p:nvPr/>
        </p:nvPicPr>
        <p:blipFill>
          <a:blip r:embed="rId3"/>
          <a:stretch/>
        </p:blipFill>
        <p:spPr>
          <a:xfrm>
            <a:off x="2819520" y="1981080"/>
            <a:ext cx="1676160" cy="1981440"/>
          </a:xfrm>
          <a:prstGeom prst="rect">
            <a:avLst/>
          </a:prstGeom>
          <a:ln w="0">
            <a:noFill/>
          </a:ln>
        </p:spPr>
      </p:pic>
      <p:pic>
        <p:nvPicPr>
          <p:cNvPr id="96" name="gr2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167652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gr3" descr=""/>
          <p:cNvPicPr/>
          <p:nvPr/>
        </p:nvPicPr>
        <p:blipFill>
          <a:blip r:embed="rId5"/>
          <a:stretch/>
        </p:blipFill>
        <p:spPr>
          <a:xfrm flipH="1">
            <a:off x="2743200" y="4419720"/>
            <a:ext cx="1905120" cy="167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838080"/>
            <a:ext cx="7924680" cy="4267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55627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His father’s second wife was kind to h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95280" y="1066680"/>
          <a:ext cx="65534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066680"/>
                    <a:ext cx="6553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838080"/>
            <a:ext cx="6708600" cy="3962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4300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Slaves are working on the far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914400"/>
            <a:ext cx="6708600" cy="3962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09480" y="5410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Lincoln became interested in politic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8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4267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5562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The Civil War broke out in 1861.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1" descr="">
            <a:hlinkClick r:id="rId1" action="ppaction://hlinksldjump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4114800" y="914400"/>
            <a:ext cx="3962520" cy="5194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38080" y="1295280"/>
            <a:ext cx="25909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ecam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esident </a:t>
            </a:r>
            <a:r>
              <a:rPr b="1" lang="en-US" sz="3600" spc="-1" strike="noStrike">
                <a:solidFill>
                  <a:srgbClr val="0099ff"/>
                </a:solidFill>
                <a:latin typeface="Comic Sans MS"/>
              </a:rPr>
              <a:t>agai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1864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762120"/>
            <a:ext cx="7313760" cy="4300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76520" y="533412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omic Sans MS"/>
              </a:rPr>
              <a:t>shot on April 14th, 1865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26" descr="">
            <a:hlinkClick r:id="rId1" action="ppaction://hlinksldjump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838080" y="914400"/>
            <a:ext cx="7620120" cy="4343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057400" y="5486400"/>
            <a:ext cx="50292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ord’s Theatr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57200" y="762120"/>
          <a:ext cx="83818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762120"/>
                    <a:ext cx="83818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209680" y="5562720"/>
          <a:ext cx="457200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5562720"/>
                    <a:ext cx="4572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914400" y="838080"/>
          <a:ext cx="73152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3152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5120" y="1828800"/>
            <a:ext cx="480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9900"/>
                </a:solidFill>
                <a:latin typeface="Monotype Corsiva"/>
              </a:rPr>
              <a:t>Listening :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chicks" descr=""/>
          <p:cNvPicPr/>
          <p:nvPr/>
        </p:nvPicPr>
        <p:blipFill>
          <a:blip r:embed="rId1"/>
          <a:stretch/>
        </p:blipFill>
        <p:spPr>
          <a:xfrm>
            <a:off x="4038480" y="4572000"/>
            <a:ext cx="358164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914400" y="838080"/>
          <a:ext cx="76201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620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990720" y="838080"/>
          <a:ext cx="708660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086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181480" y="1066680"/>
            <a:ext cx="342900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38080" y="838080"/>
          <a:ext cx="78487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848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838080" y="1066680"/>
          <a:ext cx="7763040" cy="45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7630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38080" y="1828800"/>
            <a:ext cx="792504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160bf1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Why is he  considered as one of the greatest of all American Presidents? What can we learn from him?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160bf1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Who do you admire(</a:t>
            </a: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崇拜</a:t>
            </a: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) most? Why?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380880"/>
            <a:ext cx="28958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DISCUSSIONS :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santa8" descr=""/>
          <p:cNvPicPr/>
          <p:nvPr/>
        </p:nvPicPr>
        <p:blipFill>
          <a:blip r:embed="rId1"/>
          <a:stretch/>
        </p:blipFill>
        <p:spPr>
          <a:xfrm>
            <a:off x="4724280" y="5105520"/>
            <a:ext cx="1268640" cy="1314360"/>
          </a:xfrm>
          <a:prstGeom prst="rect">
            <a:avLst/>
          </a:prstGeom>
          <a:ln w="0">
            <a:noFill/>
          </a:ln>
        </p:spPr>
      </p:pic>
      <p:pic>
        <p:nvPicPr>
          <p:cNvPr id="235" name="santa9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1189080" cy="1382760"/>
          </a:xfrm>
          <a:prstGeom prst="rect">
            <a:avLst/>
          </a:prstGeom>
          <a:ln w="0">
            <a:noFill/>
          </a:ln>
        </p:spPr>
      </p:pic>
      <p:pic>
        <p:nvPicPr>
          <p:cNvPr id="236" name="sd2-4" descr=""/>
          <p:cNvPicPr/>
          <p:nvPr/>
        </p:nvPicPr>
        <p:blipFill>
          <a:blip r:embed="rId3"/>
          <a:stretch/>
        </p:blipFill>
        <p:spPr>
          <a:xfrm>
            <a:off x="32004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sd2-4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santa9" descr=""/>
          <p:cNvPicPr/>
          <p:nvPr/>
        </p:nvPicPr>
        <p:blipFill>
          <a:blip r:embed="rId5"/>
          <a:stretch/>
        </p:blipFill>
        <p:spPr>
          <a:xfrm>
            <a:off x="7010280" y="4343400"/>
            <a:ext cx="1189080" cy="1382760"/>
          </a:xfrm>
          <a:prstGeom prst="rect">
            <a:avLst/>
          </a:prstGeom>
          <a:ln w="0">
            <a:noFill/>
          </a:ln>
        </p:spPr>
      </p:pic>
      <p:pic>
        <p:nvPicPr>
          <p:cNvPr id="239" name="santa" descr=""/>
          <p:cNvPicPr/>
          <p:nvPr/>
        </p:nvPicPr>
        <p:blipFill>
          <a:blip r:embed="rId6"/>
          <a:stretch/>
        </p:blipFill>
        <p:spPr>
          <a:xfrm>
            <a:off x="762120" y="1295280"/>
            <a:ext cx="4381560" cy="914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057400" y="251460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i="1" lang="en-US" sz="4400" spc="-1" strike="noStrike">
                <a:solidFill>
                  <a:srgbClr val="ff6600"/>
                </a:solidFill>
                <a:latin typeface="Comic Sans MS"/>
              </a:rPr>
              <a:t>MERRY CHRISTMAS !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1" name="santa8" descr=""/>
          <p:cNvPicPr/>
          <p:nvPr/>
        </p:nvPicPr>
        <p:blipFill>
          <a:blip r:embed="rId7"/>
          <a:stretch/>
        </p:blipFill>
        <p:spPr>
          <a:xfrm>
            <a:off x="7162920" y="2362320"/>
            <a:ext cx="1268280" cy="131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752480"/>
            <a:ext cx="8763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 The text is about Abraham Lincoln’s ___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A. early life in Kentucky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B. life as a politicia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. whole lif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D. life as a lawy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267080"/>
            <a:ext cx="32004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. whole lif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609480"/>
            <a:ext cx="2581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1400040"/>
            <a:ext cx="8001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Which is the best description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描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about Lincoln’s childhood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童年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 He was  born in a winter in Kentucky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 He was born in a poor family and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worked hard on their small far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 His dear mother died when he was  very young and luckily he has a kind   stepmother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（继母）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lat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 All abov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457200"/>
            <a:ext cx="2581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867280"/>
            <a:ext cx="32004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.  All abov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1371600"/>
            <a:ext cx="7696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Although Abraham Lincoln liked read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ery much, he had received 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A. much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B. no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. a little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D. good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962520"/>
            <a:ext cx="35053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. a little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9" name="AN02479_" descr=""/>
          <p:cNvPicPr/>
          <p:nvPr/>
        </p:nvPicPr>
        <p:blipFill>
          <a:blip r:embed="rId1"/>
          <a:stretch/>
        </p:blipFill>
        <p:spPr>
          <a:xfrm>
            <a:off x="6705720" y="3124080"/>
            <a:ext cx="1752480" cy="22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1295280"/>
            <a:ext cx="80769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. Which sentence is not right about Lincoln’s yout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s a young man he worked in a store and later in a post offic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e studied law in his spare time and became a lawy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e became very interested in politic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e was against thos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5181480"/>
            <a:ext cx="50292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. He was against thos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1295280"/>
            <a:ext cx="845820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 Which sentence carries the main idea of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he third paragrap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The North defeated the South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The North and the South began t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ave a figh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After Lincoln became President, he work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arder for the freedom of  th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In the end the North wo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038480"/>
            <a:ext cx="7543800" cy="998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. After Lincoln became President, he worked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rder for the freedom of  th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371600"/>
            <a:ext cx="8077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. In Lincoln’s whole life, he fought for the  right of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black peopl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white peo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all the peopl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white and black peo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962520"/>
            <a:ext cx="41148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. all the peopl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9" name="16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1654200" cy="171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01:29:31Z</dcterms:created>
  <dc:creator>姜宁</dc:creator>
  <dc:description/>
  <dc:language>en-US</dc:language>
  <cp:lastModifiedBy>yz106</cp:lastModifiedBy>
  <dcterms:modified xsi:type="dcterms:W3CDTF">2002-05-23T02:40:30Z</dcterms:modified>
  <cp:revision>111</cp:revision>
  <dc:subject>Abraham Lincoin</dc:subject>
  <dc:title>LESSON 50</dc:title>
</cp:coreProperties>
</file>