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5D28-6EF2-4C70-AD0D-EC96E0AF0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225-A064-4C53-BD0E-507E235A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EE11-D2A4-474D-B4B8-0310AE92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878-E31A-4602-83E7-F167D475A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96C-7643-4749-8C09-E08364A2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D43-83DD-43DF-9B81-138C1114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B068-F0C7-4ACB-BF33-46B714DC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4A9-A9B3-4877-9703-2FDE58AC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A56-5AD6-4497-A7B8-A46ACB3D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C28A-0FDB-431C-89D7-E1DC9939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48F5-72A9-4189-BA1F-72770C6C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74BD-9EE6-4C45-B3B4-F0DFFF90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AD93-F8B2-45AE-B1CF-2270D3D7E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Welcome to the Automated </a:t>
            </a:r>
            <a:br>
              <a:rPr sz="4400"/>
            </a:br>
            <a:r>
              <a:rPr b="1" lang="sv-SE" sz="4400" spc="-1" strike="noStrike">
                <a:solidFill>
                  <a:srgbClr val="000000"/>
                </a:solidFill>
                <a:latin typeface="Times New Roman"/>
              </a:rPr>
              <a:t>Salary Review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lease answer the following questions.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adjusted salary will be based on your answe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3124080" y="5410080"/>
            <a:ext cx="2590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100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79360" y="6081840"/>
            <a:ext cx="43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your answer to answer the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nextslide"/>
          </p:cNvPr>
          <p:cNvSpPr/>
          <p:nvPr/>
        </p:nvSpPr>
        <p:spPr>
          <a:xfrm>
            <a:off x="1752480" y="4419720"/>
            <a:ext cx="1371600" cy="1218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9720" y="608184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Are you happy with your current Sal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52480" y="26668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4267080"/>
            <a:ext cx="1371600" cy="1219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9720" y="6081840"/>
            <a:ext cx="329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000000"/>
                </a:solidFill>
                <a:latin typeface="Times New Roman"/>
              </a:rPr>
              <a:t>Please click on the appropriate ans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GOOD!</a:t>
            </a: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Now please get on with your work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Best Reg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Your Bo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5867280"/>
            <a:ext cx="2286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Send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640" y="4800600"/>
            <a:ext cx="88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You can send your answer automatically by clicking the button belo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ank you for your reply.</a:t>
            </a:r>
            <a:br>
              <a:rPr sz="4400"/>
            </a:br>
            <a:br>
              <a:rPr sz="4400"/>
            </a:b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Your Salary will remain the same next year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endshow"/>
          </p:cNvPr>
          <p:cNvSpPr/>
          <p:nvPr/>
        </p:nvSpPr>
        <p:spPr>
          <a:xfrm>
            <a:off x="3200400" y="5715000"/>
            <a:ext cx="2666880" cy="68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Times New Roman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2T18:50:22Z</dcterms:created>
  <dc:creator>ITiS</dc:creator>
  <dc:description/>
  <dc:language>en-US</dc:language>
  <cp:lastModifiedBy>Alan Beynon</cp:lastModifiedBy>
  <dcterms:modified xsi:type="dcterms:W3CDTF">2001-11-13T00:07:34Z</dcterms:modified>
  <cp:revision>19</cp:revision>
  <dc:subject/>
  <dc:title>Anser du att du har tillräckligt hög lön?</dc:title>
</cp:coreProperties>
</file>