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C8FA-4A04-46EC-BDD6-FCE3AD56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45A-8E7A-4270-9C6C-30DB9EBF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9BB8-C0C6-4E86-9E3E-14AAFA52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978-5BDD-429E-AE55-00C98298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83E2-E95A-4911-959C-C75068D0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5342-BDEC-4285-BF7F-F960A9FB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0920-C931-424F-827D-A5E8D944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4075-982A-46B6-A572-29E26B39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F1EF-B3C6-446C-ADDB-B77B86DB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B4FB-1C65-4A63-81EA-5FA24F0A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9306-4859-4887-8295-32A3F4D3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2377-0B0D-41AB-B0D8-B597E345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B64F-02BB-40F8-9680-E8D54259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13C2-216A-4823-9817-0485189B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9115-1165-4FD0-BE54-B3BB66A8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A7DD-82D9-42E5-A99A-7814BB1D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19A9-FA8D-4B6B-B08D-13413061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CF3-23D1-400F-BC1F-03839244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69F-D955-4750-A93C-5E82FF5D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96E9-6BA9-4363-AFB0-B32290F4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0F02-BFB1-43AC-A738-5BE442BA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49F3-165D-4587-825A-B1781517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C99-6D86-4CA0-B08C-C8440A36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02D4-ADE0-47C8-9424-AEA92CC4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630B-B686-4613-94B6-F954DBA3E4D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BCB8-9D6E-4889-8524-BA3E0EF7394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年级  高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BU25   At the Conference 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9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星期四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9:1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讲课教师   邢淑琴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首都师大育新中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99640" y="1676520"/>
            <a:ext cx="80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s John coming by tra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He should, but he ____ not. 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s driving his c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ust    B. can     C. need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. m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NMET200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99640" y="1828800"/>
            <a:ext cx="80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---- My house is very near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torw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t ____ be very nois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ay   B. can   C. must   D. might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42440" y="609120"/>
            <a:ext cx="80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---- My house is very near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torw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t ____ be very nois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ay   B. can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C. mus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D. might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1973160"/>
            <a:ext cx="685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1676520"/>
            <a:ext cx="7315200" cy="42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---- Are you coming to Jeff’s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’m not sure. I ____ go to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t inst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ust         B. woul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should      D. migh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NMET200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---- Are you coming to Jeff’s 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’m not sure. I ____ go to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t inst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ust         B. woul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should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. migh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NMET200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The restaurant _____ be very goo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’s always emp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can’t              B. may no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could             D. m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The restaurant _____ be very goo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’s always emp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A. can’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B. may no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could             D. m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ive an invitation to 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1949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ept the invitation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3112920"/>
            <a:ext cx="79246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a talk on … knew nothing ..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8545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e a careless mistake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4572000"/>
            <a:ext cx="67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r. Lively… talk on ENT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5105520"/>
            <a:ext cx="5790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a very good talk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2558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rive… were surprised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2209680" cy="1981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219320" y="4387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ived an invitation to 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676160" y="2590560"/>
            <a:ext cx="2971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received an invitation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Medical Conference in Lond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8320" y="2766960"/>
            <a:ext cx="2286000" cy="21859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20257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day Dr. Bak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Unit 25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At the conference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下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5867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2286000" cy="1981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444816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epted the invitation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211640" y="2637000"/>
            <a:ext cx="2417760" cy="2376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52480" y="236232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ough he was a bit surprised, because he wasn’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17524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ccepted the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51055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expert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210040" cy="1981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19320" y="4295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rived… were surprised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2527200" cy="2759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1752480"/>
            <a:ext cx="32004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n h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rriv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 some peopl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ere also surpris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o see him t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348000" y="1773360"/>
            <a:ext cx="2232000" cy="2160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050920" y="4292640"/>
            <a:ext cx="48261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right speaker 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give a talk on …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new nothing ..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361960" cy="1905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371600" y="3429000"/>
            <a:ext cx="40384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was even more surprised, because h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knew noth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bout i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167652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 that morning,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he right speake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couldn’t come, and Dr. Baker was asked  to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give a talk 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03640" y="2205000"/>
            <a:ext cx="2209680" cy="1879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00200" y="42670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de a careless mistake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003640" y="2421000"/>
            <a:ext cx="2232360" cy="2808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295280" y="1447920"/>
            <a:ext cx="34290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n they found out someon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had made a careless mistak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bout the name li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2062080" cy="18208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195640" y="4038480"/>
            <a:ext cx="51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r. Lively… talk on ENT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219640" y="3357720"/>
            <a:ext cx="1905120" cy="1780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371600" y="2946240"/>
            <a:ext cx="4648320" cy="24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ch stands for illnesses of ear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se and thro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1700280"/>
            <a:ext cx="63244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rtunately,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Dr. Livel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was just going to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alk on EN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523880"/>
            <a:ext cx="80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 __________ a conference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织一次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2286000"/>
            <a:ext cx="7391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 send ______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3048120"/>
            <a:ext cx="7467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 ______ sb. at the station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886200"/>
            <a:ext cx="7978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 get _______ the phone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打通电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352680" y="1916280"/>
            <a:ext cx="2305080" cy="1728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905120" y="3809880"/>
            <a:ext cx="579096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ave a very good talk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s interested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92360" cy="3352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95280" y="1523880"/>
            <a:ext cx="365760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r. Baker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gave a very good talk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later that day and everyone at the conferenc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as very interest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5238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day David Baker was at ho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____ an invitation from a  Medical Conference ____ London. He got a bit ____ because they didn’t usually ____ him to such conferences. He wondered ____ they had invited hi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ever, he ____ the invitation. A few months ____, Dr. David Baker arrived ____ the conference. Some of his friends were surprised to ____ him. They didn’t know why he ____ invit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26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1773000"/>
            <a:ext cx="7772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le everyone was waiting ____ the speaker of that morning, the organizer told them ____ the speaker would be late ____ of the bad weather ____ the airport. So the organizer had to ask another expert to ____ a talk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then ____ Dr. Baker to give the talk. Dr. Baker ____ very surprised because he was not an ____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fact, there were ____ Bakers. One was Peter Baker and the ____ was David Baker. They got the same family ____, but different given ____. It was Peter Baker ____ was really want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22240" y="1163520"/>
            <a:ext cx="786456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day David Baker was at ho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_______ an invitation from a  Medical Conference _____ London. He got a bit _________ because they didn’t usually _____ him to such conferences. He wondered ______ they had invited hi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receiv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25909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324468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surpris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3886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invi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4572000"/>
            <a:ext cx="13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h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066680" y="1317600"/>
            <a:ext cx="723924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ever, he ________ the invitation. A few months ______, Dr. David Baker arrived ____ the conference. Some of his friends were surprised to ____ him. They didn’t know why he ____ invit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1492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ccep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2000" y="2205000"/>
            <a:ext cx="14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l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64000" y="29973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16360" y="458136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s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76720" y="5373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1273320"/>
            <a:ext cx="76201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le everyone was waiting ____ the speaker of that morning, the organizer told them ____ the speaker would be late _______ of the bad weather ____ the airport. So the organizer had to ask another expert to ____ a talk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77080" y="1268280"/>
            <a:ext cx="838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48360" y="2492280"/>
            <a:ext cx="1218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ha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51280" y="3141720"/>
            <a:ext cx="2087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becau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16360" y="3792600"/>
            <a:ext cx="685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5084640"/>
            <a:ext cx="1143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g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814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178000"/>
            <a:ext cx="79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 __________ a conference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织一次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2982960"/>
            <a:ext cx="7742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 send ______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897360"/>
            <a:ext cx="7821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 ______ sb. at the station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4735440"/>
            <a:ext cx="790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 get __________  the phone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打通电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20968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organiz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3048120"/>
            <a:ext cx="11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96252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006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95280" y="1523880"/>
            <a:ext cx="693432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then ______ Dr. Baker to give the talk. Dr. Baker ____ very surprised because he was not an ______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18446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sk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76720" y="278136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4616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expe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38080" y="1600200"/>
            <a:ext cx="769644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fact, there were ____ Bakers. One was Peter Baker and the ____ was David Baker. They got the same family _____, but different given _______. It was Peter Baker ____ was really want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1773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w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43640" y="4581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51640" y="2421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o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24000" y="38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na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4581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na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184464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n invitation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2565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reply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3284640"/>
            <a:ext cx="41292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ould you mi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doing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…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4464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he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very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subj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5226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make oneself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kn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916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个…的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637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答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3429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您做…好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4586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正是这个主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19320" y="5272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自我介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1. invitation 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动词搭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介词搭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143000" y="2286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受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85920" y="3124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邀请某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3886200"/>
            <a:ext cx="2057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收到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45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拒绝某人的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291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出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62520" y="2362320"/>
            <a:ext cx="4038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accep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2520" y="304812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giv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b. an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3809880"/>
            <a:ext cx="471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ceiv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 invit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62520" y="4572000"/>
            <a:ext cx="4786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efus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b’s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5562720"/>
            <a:ext cx="4724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5335560"/>
            <a:ext cx="457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send ou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71640" y="162864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动词搭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371600" y="2254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某人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3092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71600" y="3917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个…的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4645080"/>
            <a:ext cx="2590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来自某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某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织的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2178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a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the invitation of s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14800" y="30160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on / up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37782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vitation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to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4540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vitation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fr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16002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介词连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n invitation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e 1996 Medical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ference in London. (P.42 L.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3414600"/>
            <a:ext cx="77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昨天我收到了汤姆请我参加生日聚会的请帖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3979800"/>
            <a:ext cx="7697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ceived an invitati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from To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his birthday party yesterd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219320" y="1905120"/>
            <a:ext cx="71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怀特小姐拒绝了汤姆请她吃晚饭的邀请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19280" y="2781360"/>
            <a:ext cx="63244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ss White refused Tom’s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invitation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su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90720" y="249228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2025720"/>
            <a:ext cx="6705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她发出了许多参加她的婚礼的邀请，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还没有收到任何答复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0200" y="3124080"/>
            <a:ext cx="64008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e sent out many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ations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her wedding, but she hasn’t received any reply to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85800" y="1447920"/>
            <a:ext cx="79898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invite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invite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sb.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 to +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o ask sb. to come to 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party, wedding, meal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3213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o should w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e 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41338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邀请他参加你的生日聚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好吗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461484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t’s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him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your birthday party, shall w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035080"/>
            <a:ext cx="7257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5. _______ a message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捎个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2959200"/>
            <a:ext cx="77421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________ a meeting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加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886200"/>
            <a:ext cx="790272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7. make _______ known to other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自我介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217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invite 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sb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. for a drink / meal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2743200"/>
            <a:ext cx="83534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y don’t you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her fo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dri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 the club one even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5640" y="45086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咱们请他们过来喝点东西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105520"/>
            <a:ext cx="78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t’s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them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over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fo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drin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38080" y="2057400"/>
            <a:ext cx="79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invite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sb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. to do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sth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9640" y="2781360"/>
            <a:ext cx="79819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’m thinking of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ing them to spen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ummer with us in Ita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42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5640" y="4437000"/>
            <a:ext cx="76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汤姆想邀请他同学周末一起去游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4797360"/>
            <a:ext cx="77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m wants to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his classmates to g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wimming at the weeke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219320" y="1676520"/>
            <a:ext cx="41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2. reply 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vt.&amp; vi.  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8360" y="2330280"/>
            <a:ext cx="76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eply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vi.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to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eply to sth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5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3124080"/>
            <a:ext cx="80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leas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y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my question right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4960" y="4495680"/>
            <a:ext cx="695016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asked her where she was going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t she didn’t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repl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219320" y="1789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eply 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v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2482920"/>
            <a:ext cx="7315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 “Certainly, Sir.” h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i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H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i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at he didn’t know the secr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06640" y="165888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reply </a:t>
            </a:r>
            <a:r>
              <a:rPr b="1" i="1" lang="en-US" sz="3600" spc="-1" strike="noStrike">
                <a:solidFill>
                  <a:srgbClr val="66ffff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06640" y="66780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58920" y="2421000"/>
            <a:ext cx="723888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have had 60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ies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ou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dvertisement so f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76480" y="4135320"/>
            <a:ext cx="6905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asked him if I could help, bu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ade no repl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l he please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ake himself know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o me? (P.42 Para.3 L.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762120" y="1523880"/>
            <a:ext cx="792468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kn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understood  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ake oneself        seen               …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he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believ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05320" y="1828800"/>
            <a:ext cx="533160" cy="3962520"/>
          </a:xfrm>
          <a:custGeom>
            <a:avLst/>
            <a:gdLst>
              <a:gd name="textAreaLeft" fmla="*/ 340560 w 533160"/>
              <a:gd name="textAreaRight" fmla="*/ 533520 w 533160"/>
              <a:gd name="textAreaTop" fmla="*/ 58320 h 3962520"/>
              <a:gd name="textAreaBottom" fmla="*/ 3904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10"/>
                  <a:pt x="10800" y="1020"/>
                </a:cubicBezTo>
                <a:lnTo>
                  <a:pt x="10800" y="9780"/>
                </a:lnTo>
                <a:cubicBezTo>
                  <a:pt x="10800" y="10290"/>
                  <a:pt x="5400" y="10800"/>
                  <a:pt x="0" y="10800"/>
                </a:cubicBezTo>
                <a:cubicBezTo>
                  <a:pt x="5400" y="10800"/>
                  <a:pt x="10800" y="11310"/>
                  <a:pt x="10800" y="11820"/>
                </a:cubicBezTo>
                <a:lnTo>
                  <a:pt x="10800" y="20580"/>
                </a:lnTo>
                <a:cubicBezTo>
                  <a:pt x="10800" y="2109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&amp;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re are all my friends. Woul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like to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ak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yourself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know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你到前面来，这样大家就能看清楚你了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277164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come to the front in order to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ake yourself see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clearl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2120" y="4343400"/>
            <a:ext cx="6705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please speak slow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make yourself ___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52760" y="49482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underst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295280" y="2819520"/>
            <a:ext cx="6705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mind giving a tal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day about DNA? (P.42 Para.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95280" y="17524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4. Would you mind doing sth.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09480"/>
            <a:ext cx="807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035080"/>
            <a:ext cx="7128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5. _______ a message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捎个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959200"/>
            <a:ext cx="76024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________ a meeting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加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886200"/>
            <a:ext cx="776124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7. make _______ known to other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自我介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2209680"/>
            <a:ext cx="11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ta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3048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att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3962520"/>
            <a:ext cx="16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onesel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066680" y="1989000"/>
            <a:ext cx="696132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Would you mind wait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fe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re minut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2997360"/>
            <a:ext cx="49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您能再多等一会儿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76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2560" y="4292280"/>
            <a:ext cx="7047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外出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您能帮忙照顾我的孩子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43000" y="4960800"/>
            <a:ext cx="69613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Would mind keep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 ey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 my child while I’m ou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219320" y="1523880"/>
            <a:ext cx="37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5. very </a:t>
            </a:r>
            <a:r>
              <a:rPr b="1" i="1" lang="en-US" sz="3600" spc="-1" strike="noStrike">
                <a:solidFill>
                  <a:srgbClr val="00ffff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94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2701800"/>
            <a:ext cx="7237440" cy="18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t Dr. Lively was going to talk 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ver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subject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day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P.43 Para.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is the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ver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ing I ne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3132000"/>
            <a:ext cx="75438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e decided to leave on that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v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fterno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14400" y="17524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这正是我要找的那本书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2514600"/>
            <a:ext cx="66294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is the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ver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book I a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oking for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3962520"/>
            <a:ext cx="68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前你就是在这家医院出生的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066680" y="4572000"/>
            <a:ext cx="64008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were born in this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v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spital 15 years ago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1981080"/>
            <a:ext cx="74660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19320" y="4038480"/>
            <a:ext cx="770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ve you got the __________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y this weeke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90720" y="4173480"/>
            <a:ext cx="7829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ve you got the __________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y this weeke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4191120"/>
            <a:ext cx="258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ation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66680" y="1752480"/>
            <a:ext cx="75866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219320" y="4249800"/>
            <a:ext cx="6513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you speak louder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_______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66680" y="1752480"/>
            <a:ext cx="74660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195560" y="4044960"/>
            <a:ext cx="6406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you speak louder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_______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05040" y="4900680"/>
            <a:ext cx="42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ake yourself he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61680" y="556920"/>
            <a:ext cx="797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42920" y="1700280"/>
            <a:ext cx="73454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39680" y="4121280"/>
            <a:ext cx="7337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’d better __________ his let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 soon as possib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4760" y="556920"/>
            <a:ext cx="8048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700280"/>
            <a:ext cx="741672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90720" y="4325760"/>
            <a:ext cx="7456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’d better  __________ his letter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 soon as possib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5800" y="4300560"/>
            <a:ext cx="21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y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66680" y="1752480"/>
            <a:ext cx="753768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0880"/>
            <a:ext cx="7747200" cy="14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. an expert ____ the subjec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某领域的专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3429000"/>
            <a:ext cx="727236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9. an invitation ____ the confere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加会议的请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4800600"/>
            <a:ext cx="806292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0. _______ a careless mistak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犯粗心大意的错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914400" y="4173480"/>
            <a:ext cx="793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ound the bag under 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g tre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1676520"/>
            <a:ext cx="753768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914400" y="3944880"/>
            <a:ext cx="8089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ound the bag under 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g tre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51640" y="400536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the v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335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1676520"/>
            <a:ext cx="76820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914400" y="4173480"/>
            <a:ext cx="8256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_____________ out all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vitations before he comes bac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5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066680" y="1752480"/>
            <a:ext cx="760896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914400" y="4191120"/>
            <a:ext cx="8023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_____________ out all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vitations before he comes bac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81280" y="4235400"/>
            <a:ext cx="283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ind send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2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1676520"/>
            <a:ext cx="7392960" cy="175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检查了上节课的部分作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检查了口头复述课文的情况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复习、巩固了上节课的语法要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继续归纳总结了本单元的语言知识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14400" y="1835280"/>
            <a:ext cx="67057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Exercise in Wb. P.103. 2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Exercise in Wb. P. 101.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Preview Unit 26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4800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820880"/>
            <a:ext cx="7467840" cy="14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. an expert ____ the subjec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某领域的专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429000"/>
            <a:ext cx="783756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9. an invitation ____ the confere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加会议的请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800600"/>
            <a:ext cx="777240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0. _______ a careless mistak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犯粗心大意的错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1905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67280" y="33577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648320"/>
            <a:ext cx="14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a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71640" y="1828800"/>
            <a:ext cx="7791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s John coming by tra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He should, but he ____ not. 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s driving his c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ust  B. can  C. need  D. m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NMET200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09:39:22Z</dcterms:created>
  <dc:creator>acer</dc:creator>
  <dc:description/>
  <dc:language>en-US</dc:language>
  <cp:lastModifiedBy>Zhang Lingdi</cp:lastModifiedBy>
  <dcterms:modified xsi:type="dcterms:W3CDTF">2003-06-15T10:25:39Z</dcterms:modified>
  <cp:revision>203</cp:revision>
  <dc:subject/>
  <dc:title>PowerPoint 演示文稿</dc:title>
</cp:coreProperties>
</file>