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36.gif" ContentType="image/gif"/>
  <Override PartName="/ppt/media/image28.png" ContentType="image/png"/>
  <Override PartName="/ppt/media/image5.gif" ContentType="image/gif"/>
  <Override PartName="/ppt/media/image35.gif" ContentType="image/gif"/>
  <Override PartName="/ppt/media/image27.jpeg" ContentType="image/jpeg"/>
  <Override PartName="/ppt/media/image24.png" ContentType="image/png"/>
  <Override PartName="/ppt/media/image23.png" ContentType="image/png"/>
  <Override PartName="/ppt/media/image15.png" ContentType="image/png"/>
  <Override PartName="/ppt/media/image12.gif" ContentType="image/gif"/>
  <Override PartName="/ppt/media/image1.jpeg" ContentType="image/jpeg"/>
  <Override PartName="/ppt/media/image7.gif" ContentType="image/gif"/>
  <Override PartName="/ppt/media/image37.gif" ContentType="image/gif"/>
  <Override PartName="/ppt/media/image4.jpeg" ContentType="image/jpeg"/>
  <Override PartName="/ppt/media/image10.wmf" ContentType="image/x-wmf"/>
  <Override PartName="/ppt/media/image25.png" ContentType="image/png"/>
  <Override PartName="/ppt/media/image32.png" ContentType="image/png"/>
  <Override PartName="/ppt/media/image2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34.png" ContentType="image/png"/>
  <Override PartName="/ppt/media/image11.gif" ContentType="image/gif"/>
  <Override PartName="/ppt/media/image14.png" ContentType="image/png"/>
  <Override PartName="/ppt/media/image38.gif" ContentType="image/gif"/>
  <Override PartName="/ppt/media/image8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C7A-AE37-4CDF-B1D1-14CED22B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582-EAB5-4728-8FD4-69D39A9B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1FE-97D6-48F5-9871-10CA8630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8F3-D3DC-4CA8-B4EA-9DD657FA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2A4A-6082-4B4D-A0F1-8D12F476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F819-77FD-4A15-9B5B-C5D9FA4E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A940-25A7-4EC7-B9B2-C1F7798C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A120-3466-4E70-827D-1D1F32B2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F0B6-575D-4A9D-B245-24F1BD32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0B7E-3AB5-40C8-8C0B-DE669B2B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4B2C-0E9D-44A0-A20C-91742F01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FEC-F6D7-4DB3-BB95-3530A32B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906F-CF01-43DF-8F05-BC488799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78DC-876B-4A98-A7EB-C54D466E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A1A6-EA13-49CC-90E7-70FAAF00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A502-40A6-44DD-B9B3-4D2F9D45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BD71-E94D-4209-9227-5D70A07D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A34-2C67-4DC3-B47B-BC0164C0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787-6E54-42C2-855A-5CB9C1AC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685A-36FA-4D36-9896-A791789E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B7B-47AA-42FE-8A06-C7086D1B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DA5-DB75-4CEF-AA29-F00090A0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D94-E12B-4DE1-A83E-F48F4071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6AD-66E5-40FC-B155-2DD44C10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1382-01B4-4EAF-9416-27C1B5DB9E89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E394-0803-4CF9-BD0D-1E59D43860E9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slide" Target="slide17.xml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8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2.xm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9.xml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34.xm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6.gif"/><Relationship Id="rId6" Type="http://schemas.openxmlformats.org/officeDocument/2006/relationships/image" Target="../media/image38.gif"/><Relationship Id="rId7" Type="http://schemas.openxmlformats.org/officeDocument/2006/relationships/image" Target="../media/image35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16plinc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934320" cy="350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71600" y="8380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1" i="1" lang="en-US" sz="4800" spc="-1" strike="noStrike">
                <a:solidFill>
                  <a:srgbClr val="ff6600"/>
                </a:solidFill>
                <a:latin typeface="Arial Black"/>
              </a:rPr>
              <a:t>Abraham Lincoln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523880"/>
            <a:ext cx="868680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. What do the Americans think of Abraham Lincoln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. They think highly of hi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. They consider him to be a good lawy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. They think him to be a nice man but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not a good presiden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D. They think he had too little education 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e fit for his pos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2133720"/>
            <a:ext cx="61722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. They think highly of hi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762120" y="762120"/>
          <a:ext cx="8076960" cy="5715000"/>
        </p:xfrm>
        <a:graphic>
          <a:graphicData uri="http://schemas.openxmlformats.org/drawingml/2006/table">
            <a:tbl>
              <a:tblPr/>
              <a:tblGrid>
                <a:gridCol w="1794600"/>
                <a:gridCol w="4263120"/>
                <a:gridCol w="201924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im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872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s a chi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______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was born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worked hard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spent  ___________ 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  year in al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s mother died and he had a kind____________ later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Kentuck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on their ______farm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school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838080" y="2743200"/>
            <a:ext cx="80010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495680"/>
            <a:ext cx="80769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3716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February 12</a:t>
            </a:r>
            <a:r>
              <a:rPr b="1" i="1" lang="en-US" sz="2800" spc="-1" strike="noStrike" baseline="30000">
                <a:solidFill>
                  <a:srgbClr val="ff3300"/>
                </a:solidFill>
                <a:latin typeface="Times New Roman"/>
              </a:rPr>
              <a:t>th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,1809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33526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o morn tha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3352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mal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1818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53341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tepmoth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09480" y="1066680"/>
          <a:ext cx="7925040" cy="5166000"/>
        </p:xfrm>
        <a:graphic>
          <a:graphicData uri="http://schemas.openxmlformats.org/drawingml/2006/table">
            <a:tbl>
              <a:tblPr/>
              <a:tblGrid>
                <a:gridCol w="2081160"/>
                <a:gridCol w="3481560"/>
                <a:gridCol w="23623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IM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C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462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worke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a _____and a __________ 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2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studied ______in his spare time and became a 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2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became interested in ________ and was against _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838080" y="2666880"/>
            <a:ext cx="16002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you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m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2057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t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2514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ost offi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3581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law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4267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lawy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890280" y="5149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1814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olitic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55627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lave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457200" y="685800"/>
            <a:ext cx="8229240" cy="5509800"/>
            <a:chOff x="457200" y="685800"/>
            <a:chExt cx="8229240" cy="5509800"/>
          </a:xfrm>
        </p:grpSpPr>
        <p:grpSp>
          <p:nvGrpSpPr>
            <p:cNvPr id="141" name=""/>
            <p:cNvGrpSpPr/>
            <p:nvPr/>
          </p:nvGrpSpPr>
          <p:grpSpPr>
            <a:xfrm>
              <a:off x="463680" y="694440"/>
              <a:ext cx="8214840" cy="5490360"/>
              <a:chOff x="463680" y="694440"/>
              <a:chExt cx="8214840" cy="549036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463680" y="694440"/>
                <a:ext cx="2062800" cy="5490360"/>
                <a:chOff x="463680" y="694440"/>
                <a:chExt cx="2062800" cy="54903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60160" y="694440"/>
                  <a:ext cx="1870200" cy="549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Lincoln’s 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Political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life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3680" y="694440"/>
                  <a:ext cx="2062800" cy="549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526840" y="694440"/>
                <a:ext cx="1482840" cy="1155240"/>
                <a:chOff x="2526840" y="694440"/>
                <a:chExt cx="1482840" cy="11552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623320" y="694440"/>
                  <a:ext cx="1289880" cy="115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TIME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526840" y="694440"/>
                  <a:ext cx="1482840" cy="115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010400" y="694440"/>
                <a:ext cx="4668120" cy="1155240"/>
                <a:chOff x="4010400" y="694440"/>
                <a:chExt cx="4668120" cy="11552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106160" y="694440"/>
                  <a:ext cx="4476240" cy="115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ACTIVITY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010400" y="694440"/>
                  <a:ext cx="4668120" cy="115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526840" y="1850040"/>
                <a:ext cx="1482840" cy="1444680"/>
                <a:chOff x="2526840" y="1850040"/>
                <a:chExt cx="1482840" cy="14446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623320" y="1850040"/>
                  <a:ext cx="1289880" cy="14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1860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526840" y="1850040"/>
                  <a:ext cx="1482840" cy="14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010400" y="1850040"/>
                <a:ext cx="4668120" cy="1444680"/>
                <a:chOff x="4010400" y="1850040"/>
                <a:chExt cx="4668120" cy="14446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106160" y="1850040"/>
                  <a:ext cx="4476240" cy="14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5b5249"/>
                      </a:solidFill>
                      <a:latin typeface="Times New Roman"/>
                    </a:rPr>
                    <a:t>He became ____________ and worked harder for the ________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5b5249"/>
                      </a:solidFill>
                      <a:latin typeface="Times New Roman"/>
                    </a:rPr>
                    <a:t>________________ .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010400" y="1850040"/>
                  <a:ext cx="4668120" cy="14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526840" y="3295080"/>
                <a:ext cx="1482840" cy="2889360"/>
                <a:chOff x="2526840" y="3295080"/>
                <a:chExt cx="1482840" cy="28893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623320" y="3295080"/>
                  <a:ext cx="1289880" cy="288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5b5249"/>
                      </a:solidFill>
                      <a:latin typeface="Times New Roman"/>
                    </a:rPr>
                    <a:t>After the Civil War broke out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526840" y="3295080"/>
                  <a:ext cx="1482840" cy="288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4010400" y="3295080"/>
                <a:ext cx="4668120" cy="2889360"/>
                <a:chOff x="4010400" y="3295080"/>
                <a:chExt cx="4668120" cy="288936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4106160" y="3295080"/>
                  <a:ext cx="4475880" cy="2555280"/>
                  <a:chOff x="4106160" y="3295080"/>
                  <a:chExt cx="4475880" cy="25552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4106160" y="3295080"/>
                    <a:ext cx="4473360" cy="228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5b5249"/>
                        </a:solidFill>
                        <a:latin typeface="Times New Roman"/>
                      </a:rPr>
                      <a:t>He said it was ___________for the ________ to break away from the Union and led the _________ in the fighting against</a:t>
                    </a: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5b5249"/>
                        </a:solidFill>
                        <a:latin typeface="Times New Roman"/>
                      </a:rPr>
                      <a:t>____________________ .</a:t>
                    </a: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4106160" y="5024880"/>
                    <a:ext cx="447588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5b5249"/>
                        </a:solidFill>
                        <a:latin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4010400" y="3295080"/>
                  <a:ext cx="4668120" cy="288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457200" y="685800"/>
              <a:ext cx="8229240" cy="5509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095880" y="1752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resid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2133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freedo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24382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of the slav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3200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ot righ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3581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out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4267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ort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648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lave own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533520" y="457200"/>
          <a:ext cx="8153280" cy="6045120"/>
        </p:xfrm>
        <a:graphic>
          <a:graphicData uri="http://schemas.openxmlformats.org/drawingml/2006/table">
            <a:tbl>
              <a:tblPr/>
              <a:tblGrid>
                <a:gridCol w="1785960"/>
                <a:gridCol w="1519200"/>
                <a:gridCol w="2638440"/>
                <a:gridCol w="2209680"/>
              </a:tblGrid>
              <a:tr h="1170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incoln’s    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olitical    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if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IM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C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65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fter the wa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the end the</a:t>
                      </a:r>
                      <a:r>
                        <a:rPr b="1" i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 won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Northern and 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Southern states 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he slaves were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1864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became ________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for the _____time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30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On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pril 14,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86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was shot at a _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ashington  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.C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41972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joined u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3657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t fre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4114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4572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2n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at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523880" y="1371600"/>
          <a:ext cx="6705720" cy="3665520"/>
        </p:xfrm>
        <a:graphic>
          <a:graphicData uri="http://schemas.openxmlformats.org/drawingml/2006/table">
            <a:tbl>
              <a:tblPr/>
              <a:tblGrid>
                <a:gridCol w="2286000"/>
                <a:gridCol w="441972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872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2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oda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872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is ________________as one of the _________of all American Presidents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1981080" y="1752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3048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onsider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34290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grea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4" name="76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524240" cy="914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48006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8006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800600" y="0"/>
          <a:ext cx="4343400" cy="350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0"/>
                    <a:ext cx="43434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800600" y="3505320"/>
          <a:ext cx="4343400" cy="335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3505320"/>
                    <a:ext cx="43434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0" y="3429000"/>
          <a:ext cx="4800600" cy="342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3429000"/>
                    <a:ext cx="48006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800600" y="0"/>
            <a:ext cx="0" cy="685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285840" y="324000"/>
          <a:ext cx="8574120" cy="62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324000"/>
                    <a:ext cx="857412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838080"/>
            <a:ext cx="7259760" cy="4408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62120" y="56386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helped his father on the farm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762120"/>
            <a:ext cx="7470720" cy="4267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85800" y="54100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Comic Sans MS"/>
              </a:rPr>
              <a:t>His mother died in 1818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5335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Comic Sans MS"/>
              </a:rPr>
              <a:t>GAME :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gr3" descr=""/>
          <p:cNvPicPr/>
          <p:nvPr/>
        </p:nvPicPr>
        <p:blipFill>
          <a:blip r:embed="rId1"/>
          <a:stretch/>
        </p:blipFill>
        <p:spPr>
          <a:xfrm flipH="1">
            <a:off x="4647960" y="1523880"/>
            <a:ext cx="1904760" cy="1676520"/>
          </a:xfrm>
          <a:prstGeom prst="rect">
            <a:avLst/>
          </a:prstGeom>
          <a:ln w="0">
            <a:noFill/>
          </a:ln>
        </p:spPr>
      </p:pic>
      <p:pic>
        <p:nvPicPr>
          <p:cNvPr id="94" name="gr1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2286000" cy="1752840"/>
          </a:xfrm>
          <a:prstGeom prst="rect">
            <a:avLst/>
          </a:prstGeom>
          <a:ln w="0">
            <a:noFill/>
          </a:ln>
        </p:spPr>
      </p:pic>
      <p:pic>
        <p:nvPicPr>
          <p:cNvPr id="95" name="gr2" descr=""/>
          <p:cNvPicPr/>
          <p:nvPr/>
        </p:nvPicPr>
        <p:blipFill>
          <a:blip r:embed="rId3"/>
          <a:stretch/>
        </p:blipFill>
        <p:spPr>
          <a:xfrm>
            <a:off x="2819520" y="1981080"/>
            <a:ext cx="1676160" cy="1981440"/>
          </a:xfrm>
          <a:prstGeom prst="rect">
            <a:avLst/>
          </a:prstGeom>
          <a:ln w="0">
            <a:noFill/>
          </a:ln>
        </p:spPr>
      </p:pic>
      <p:pic>
        <p:nvPicPr>
          <p:cNvPr id="96" name="gr2" descr=""/>
          <p:cNvPicPr/>
          <p:nvPr/>
        </p:nvPicPr>
        <p:blipFill>
          <a:blip r:embed="rId4"/>
          <a:stretch/>
        </p:blipFill>
        <p:spPr>
          <a:xfrm>
            <a:off x="6400800" y="4267080"/>
            <a:ext cx="1676520" cy="1981440"/>
          </a:xfrm>
          <a:prstGeom prst="rect">
            <a:avLst/>
          </a:prstGeom>
          <a:ln w="0">
            <a:noFill/>
          </a:ln>
        </p:spPr>
      </p:pic>
      <p:pic>
        <p:nvPicPr>
          <p:cNvPr id="97" name="gr3" descr=""/>
          <p:cNvPicPr/>
          <p:nvPr/>
        </p:nvPicPr>
        <p:blipFill>
          <a:blip r:embed="rId5"/>
          <a:stretch/>
        </p:blipFill>
        <p:spPr>
          <a:xfrm flipH="1">
            <a:off x="2743200" y="4419720"/>
            <a:ext cx="1905120" cy="167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838080"/>
            <a:ext cx="7924680" cy="4267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55627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His father’s second wife was kind to hi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95280" y="1066680"/>
          <a:ext cx="65534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066680"/>
                    <a:ext cx="6553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1600" y="838080"/>
            <a:ext cx="6708600" cy="3962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143000" y="53341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Slaves are working on the farm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914400"/>
            <a:ext cx="6708600" cy="3962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09480" y="54100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Lincoln became interested in politic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8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4267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38080" y="5562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The Civil War broke out in 1861.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1" descr="">
            <a:hlinkClick r:id="rId1" action="ppaction://hlinksldjump"/>
          </p:cNvPr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4114800" y="914400"/>
            <a:ext cx="3962520" cy="5194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38080" y="1295280"/>
            <a:ext cx="25909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ecam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esident </a:t>
            </a:r>
            <a:r>
              <a:rPr b="1" lang="en-US" sz="3600" spc="-1" strike="noStrike">
                <a:solidFill>
                  <a:srgbClr val="0099ff"/>
                </a:solidFill>
                <a:latin typeface="Comic Sans MS"/>
              </a:rPr>
              <a:t>agai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 1864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762120"/>
            <a:ext cx="7313760" cy="4300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76520" y="533412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Comic Sans MS"/>
              </a:rPr>
              <a:t>shot on April 14th, 1865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26" descr="">
            <a:hlinkClick r:id="rId1" action="ppaction://hlinksldjump"/>
          </p:cNvPr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838080" y="914400"/>
            <a:ext cx="7620120" cy="4343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057400" y="5486400"/>
            <a:ext cx="50292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Ford’s Theatr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457200" y="762120"/>
          <a:ext cx="838188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762120"/>
                    <a:ext cx="83818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209680" y="5562720"/>
          <a:ext cx="457200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5562720"/>
                    <a:ext cx="4572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914400" y="838080"/>
          <a:ext cx="73152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3152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05120" y="1828800"/>
            <a:ext cx="480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9900"/>
                </a:solidFill>
                <a:latin typeface="Monotype Corsiva"/>
              </a:rPr>
              <a:t>Listening :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chicks" descr=""/>
          <p:cNvPicPr/>
          <p:nvPr/>
        </p:nvPicPr>
        <p:blipFill>
          <a:blip r:embed="rId1"/>
          <a:stretch/>
        </p:blipFill>
        <p:spPr>
          <a:xfrm>
            <a:off x="4038480" y="4572000"/>
            <a:ext cx="358164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914400" y="838080"/>
          <a:ext cx="76201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620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990720" y="838080"/>
          <a:ext cx="708660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70866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181480" y="1066680"/>
            <a:ext cx="342900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838080" y="838080"/>
          <a:ext cx="78487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8487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838080" y="1066680"/>
          <a:ext cx="7763040" cy="45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066680"/>
                    <a:ext cx="77630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38080" y="1828800"/>
            <a:ext cx="792504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160bf1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60bf1"/>
                </a:solidFill>
                <a:latin typeface="Monotype Corsiva"/>
              </a:rPr>
              <a:t>Why is he  considered as one of the greatest of all American Presidents? What can we learn from him?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160bf1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60bf1"/>
                </a:solidFill>
                <a:latin typeface="Monotype Corsiva"/>
              </a:rPr>
              <a:t>Who do you admire(</a:t>
            </a:r>
            <a:r>
              <a:rPr b="1" lang="zh-CN" sz="4400" spc="-1" strike="noStrike">
                <a:solidFill>
                  <a:srgbClr val="160bf1"/>
                </a:solidFill>
                <a:latin typeface="Monotype Corsiva"/>
              </a:rPr>
              <a:t>崇拜</a:t>
            </a:r>
            <a:r>
              <a:rPr b="1" lang="zh-CN" sz="4400" spc="-1" strike="noStrike">
                <a:solidFill>
                  <a:srgbClr val="160bf1"/>
                </a:solidFill>
                <a:latin typeface="Monotype Corsiva"/>
              </a:rPr>
              <a:t>) most? Why?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480" y="380880"/>
            <a:ext cx="289584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DISCUSSIONS :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santa8" descr=""/>
          <p:cNvPicPr/>
          <p:nvPr/>
        </p:nvPicPr>
        <p:blipFill>
          <a:blip r:embed="rId1"/>
          <a:stretch/>
        </p:blipFill>
        <p:spPr>
          <a:xfrm>
            <a:off x="4724280" y="5105520"/>
            <a:ext cx="1268640" cy="1314360"/>
          </a:xfrm>
          <a:prstGeom prst="rect">
            <a:avLst/>
          </a:prstGeom>
          <a:ln w="0">
            <a:noFill/>
          </a:ln>
        </p:spPr>
      </p:pic>
      <p:pic>
        <p:nvPicPr>
          <p:cNvPr id="235" name="santa9" descr=""/>
          <p:cNvPicPr/>
          <p:nvPr/>
        </p:nvPicPr>
        <p:blipFill>
          <a:blip r:embed="rId2"/>
          <a:stretch/>
        </p:blipFill>
        <p:spPr>
          <a:xfrm>
            <a:off x="1371600" y="4191120"/>
            <a:ext cx="1189080" cy="1382760"/>
          </a:xfrm>
          <a:prstGeom prst="rect">
            <a:avLst/>
          </a:prstGeom>
          <a:ln w="0">
            <a:noFill/>
          </a:ln>
        </p:spPr>
      </p:pic>
      <p:pic>
        <p:nvPicPr>
          <p:cNvPr id="236" name="sd2-4" descr=""/>
          <p:cNvPicPr/>
          <p:nvPr/>
        </p:nvPicPr>
        <p:blipFill>
          <a:blip r:embed="rId3"/>
          <a:stretch/>
        </p:blipFill>
        <p:spPr>
          <a:xfrm>
            <a:off x="32004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7" name="sd2-4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8" name="santa9" descr=""/>
          <p:cNvPicPr/>
          <p:nvPr/>
        </p:nvPicPr>
        <p:blipFill>
          <a:blip r:embed="rId5"/>
          <a:stretch/>
        </p:blipFill>
        <p:spPr>
          <a:xfrm>
            <a:off x="7010280" y="4343400"/>
            <a:ext cx="1189080" cy="1382760"/>
          </a:xfrm>
          <a:prstGeom prst="rect">
            <a:avLst/>
          </a:prstGeom>
          <a:ln w="0">
            <a:noFill/>
          </a:ln>
        </p:spPr>
      </p:pic>
      <p:pic>
        <p:nvPicPr>
          <p:cNvPr id="239" name="santa" descr=""/>
          <p:cNvPicPr/>
          <p:nvPr/>
        </p:nvPicPr>
        <p:blipFill>
          <a:blip r:embed="rId6"/>
          <a:stretch/>
        </p:blipFill>
        <p:spPr>
          <a:xfrm>
            <a:off x="762120" y="1295280"/>
            <a:ext cx="4381560" cy="914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057400" y="251460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i="1" lang="en-US" sz="4400" spc="-1" strike="noStrike">
                <a:solidFill>
                  <a:srgbClr val="ff6600"/>
                </a:solidFill>
                <a:latin typeface="Comic Sans MS"/>
              </a:rPr>
              <a:t>MERRY CHRISTMAS !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1" name="santa8" descr=""/>
          <p:cNvPicPr/>
          <p:nvPr/>
        </p:nvPicPr>
        <p:blipFill>
          <a:blip r:embed="rId7"/>
          <a:stretch/>
        </p:blipFill>
        <p:spPr>
          <a:xfrm>
            <a:off x="7162920" y="2362320"/>
            <a:ext cx="1268280" cy="131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752480"/>
            <a:ext cx="8763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. The text is about Abraham Lincoln’s ___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A. early life in Kentucky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B. life as a politicia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C. whole lif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D. life as a lawyer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267080"/>
            <a:ext cx="32004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. whole lif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609480"/>
            <a:ext cx="2581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1400040"/>
            <a:ext cx="80010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.Which is the best description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描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about Lincoln’s childhood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童年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.  He was  born in a winter in Kentucky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.  He was born in a poor family and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worked hard on their small far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.  His dear mother died when he was  very young and luckily he has a kind   stepmother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（继母）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lat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D.  All abov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457200"/>
            <a:ext cx="2581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867280"/>
            <a:ext cx="32004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.  All abov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1371600"/>
            <a:ext cx="7696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 Although Abraham Lincoln liked read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ery much, he had received 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A. much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B. no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C. a little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D. good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962520"/>
            <a:ext cx="350532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. a little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9" name="AN02479_" descr=""/>
          <p:cNvPicPr/>
          <p:nvPr/>
        </p:nvPicPr>
        <p:blipFill>
          <a:blip r:embed="rId1"/>
          <a:stretch/>
        </p:blipFill>
        <p:spPr>
          <a:xfrm>
            <a:off x="6705720" y="3124080"/>
            <a:ext cx="1752480" cy="22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1295280"/>
            <a:ext cx="80769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. Which sentence is not right about Lincoln’s youth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5b5249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s a young man he worked in a store and later in a post offic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5b5249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e studied law in his spare time and became a lawy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5b5249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e became very interested in politic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5b5249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e was against those slav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5181480"/>
            <a:ext cx="50292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. He was against those slav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1295280"/>
            <a:ext cx="845820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 Which sentence carries the main idea of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the third paragraph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. The North defeated the South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. The North and the South began to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ave a figh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. After Lincoln became President, he work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arder for the freedom of  the slav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D. In the end the North wo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038480"/>
            <a:ext cx="7543800" cy="998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. After Lincoln became President, he worked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rder for the freedom of  the slav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1371600"/>
            <a:ext cx="80773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. In Lincoln’s whole life, he fought for the  right of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___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. black peopl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. white peop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. all the peopl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D. white and black peop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962520"/>
            <a:ext cx="41148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. all the peopl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9" name="16" descr=""/>
          <p:cNvPicPr/>
          <p:nvPr/>
        </p:nvPicPr>
        <p:blipFill>
          <a:blip r:embed="rId1"/>
          <a:stretch/>
        </p:blipFill>
        <p:spPr>
          <a:xfrm>
            <a:off x="6477120" y="3124080"/>
            <a:ext cx="1654200" cy="171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01:29:31Z</dcterms:created>
  <dc:creator>姜宁</dc:creator>
  <dc:description/>
  <dc:language>en-US</dc:language>
  <cp:lastModifiedBy>yz106</cp:lastModifiedBy>
  <dcterms:modified xsi:type="dcterms:W3CDTF">2002-05-23T02:40:30Z</dcterms:modified>
  <cp:revision>111</cp:revision>
  <dc:subject>Abraham Lincoin</dc:subject>
  <dc:title>LESSON 50</dc:title>
</cp:coreProperties>
</file>