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2C4-F69C-4B6F-B5AE-2C9C1D6F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4FB-A979-4361-B04A-A402D78B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D86-2D84-4A19-A5C7-7EAF1682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BC4-A822-4180-B599-2FC8D00E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49E-6E87-4C69-862F-6277D1C6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01E-FFBF-4A44-8250-BEE6393F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EF8-5AFF-47A4-A354-16554860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CE3-8B7F-4409-844D-FB871D41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C0B-ECF0-4486-8334-4EB1B5A1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301-ABE7-474C-B6C6-E018F0B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8B8-D545-42D6-9A78-C317B154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677-9119-4357-8599-3CFC6E4C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9DB4-5ACE-488C-9DB0-6CF2094A0D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4400" y="990720"/>
            <a:ext cx="805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5360" y="2681280"/>
            <a:ext cx="38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Book Antiqua"/>
              </a:rPr>
              <a:t>Word Po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5628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安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5486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刘文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650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614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65920" y="533520"/>
            <a:ext cx="64882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tion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il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1066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6120" y="434340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.g.   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42973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4830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876920"/>
            <a:ext cx="167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000" y="2276640"/>
            <a:ext cx="8101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v.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Upon arriving on the island, we were eag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plore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一到岛上就急不可耐地考察起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380880"/>
            <a:ext cx="9144000" cy="61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ood afternoon, everyone. I’m so gl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be here to tell you something abou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uter spac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Space explor -ation began in 1957 with 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of the fir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ficial satellit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manned spaceships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have been launched into space since 1959. By 1961, people wer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rbiting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the Earth. Yuri Gagarin from the former Soviet Union become the first human being to travel in space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2040" y="425520"/>
            <a:ext cx="873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Read the first part of the speech and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the time line of the main events mentio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752480"/>
          <a:ext cx="7391520" cy="3835440"/>
        </p:xfrm>
        <a:graphic>
          <a:graphicData uri="http://schemas.openxmlformats.org/drawingml/2006/table">
            <a:tbl>
              <a:tblPr/>
              <a:tblGrid>
                <a:gridCol w="1524240"/>
                <a:gridCol w="58672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00"/>
                          </a:solidFill>
                          <a:latin typeface="Courier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727360" y="2631960"/>
            <a:ext cx="9543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2" action="ppaction://hlinksldjump"/>
              </a:rPr>
              <a:t>launch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of the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artificial 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657600"/>
            <a:ext cx="48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unmanned spaceship…  launch int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0160" y="4724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3" action="ppaction://hlinksldjump"/>
              </a:rPr>
              <a:t>orbit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685800"/>
            <a:ext cx="90676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launch: n.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品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上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890960"/>
            <a:ext cx="2057400" cy="167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14600" y="14018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 the successful launch of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01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duct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819520"/>
            <a:ext cx="63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上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733920"/>
            <a:ext cx="65530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Does everyone know how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unch a spacesh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152280" y="457200"/>
            <a:ext cx="90676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orbit: v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轨道运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围绕…运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e.g. The earth takes a year to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orbit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the sun.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905120"/>
            <a:ext cx="80773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(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天体等运行的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轨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earth’s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bit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rou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50292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33920"/>
            <a:ext cx="746748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 new satellite has been 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Times New Roman"/>
              </a:rPr>
              <a:t>put into orb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round the ear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颗新的人造卫星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送上了环绕地球的轨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1240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pace station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 orbi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round the mo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8335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553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38680" y="762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1386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aunch t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4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unch 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352680"/>
            <a:ext cx="3657600" cy="1981440"/>
          </a:xfrm>
          <a:prstGeom prst="wedgeEllipseCallout">
            <a:avLst>
              <a:gd name="adj1" fmla="val -110675"/>
              <a:gd name="adj2" fmla="val 932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581280"/>
            <a:ext cx="33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platform from which a space shuttle is sent into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23720" y="1066680"/>
            <a:ext cx="2590920" cy="1524240"/>
          </a:xfrm>
          <a:prstGeom prst="line">
            <a:avLst/>
          </a:prstGeom>
          <a:ln w="7632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9680" y="5105520"/>
            <a:ext cx="69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lifts the space shuttle into sp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729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ro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36232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217440"/>
            <a:ext cx="88390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at happens to the two rockets after they separate from the space shuttl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02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into the sea and a ship will pick them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2209680"/>
            <a:ext cx="2743200" cy="1524240"/>
          </a:xfrm>
          <a:prstGeom prst="cloudCallout">
            <a:avLst>
              <a:gd name="adj1" fmla="val -97745"/>
              <a:gd name="adj2" fmla="val 11895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620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racking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6480"/>
            <a:ext cx="88390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</a:t>
            </a: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Read the speech and fill in the blanks using words we learn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990720"/>
          <a:ext cx="8763120" cy="564012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6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 _____  and traveling to _____ to carry out _______. If this comes true, you’ll probably travel by ____, a spaceship that looks like an aeroplane. Two _____ supposed by a launch tower will lift the space shuttle into space. Some time after the rockets and the space shuttle are ______, the rockets will separate from the space shuttle and fall into the sea. Then a ship will pick them up. Astronauts will do their research in a base in outer space shuttle called _______. Sometimes they go out of their space shuttle to take a _______. In outer space astronauts cannot take off their 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421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608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o is sh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187280"/>
            <a:ext cx="4267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 beauty named Chang’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048120"/>
            <a:ext cx="4419720" cy="2971800"/>
          </a:xfrm>
          <a:prstGeom prst="cloudCallout">
            <a:avLst>
              <a:gd name="adj1" fmla="val -50217"/>
              <a:gd name="adj2" fmla="val -8808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ory about Chang’e told us that we human beings had been dreaming of traveling to space for thousands of 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8120" y="303120"/>
            <a:ext cx="6831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         space explora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                space shutt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tower       rocke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pad          astronau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racking ship      spacesui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walk           space 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76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280" y="380880"/>
          <a:ext cx="8915400" cy="631044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63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________ and traveling to ______ to carry out _________________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f this comes true, you’ll probably travel by ____________, a spaceship that looks like an aeroplane. Two ______ supported by a launch tower will lift the space shuttle into space. Some time after the rockets and the space shuttle are ________,  the rockets will separate from the space shuttle and fall into the sea. Then a ship will pick them up. Astronauts will do their research in a base in outer space  called ___________. Sometimes they go out of their space shuttle to take a _________. In outer space astronauts cannot take off their ____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7697880" y="380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tron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87400" y="762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7621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3720" y="114300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7600" y="1523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720" y="26319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720" y="380988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7440" y="41911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7484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722600"/>
            <a:ext cx="91440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day, most importa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lanet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examined. Photos have been taken 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ample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collected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ets, but no evidence of life has been discovered on any of the planets so far. Scientific research still contin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6094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entury Gothic"/>
              </a:rPr>
              <a:t>Today’s space explo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304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nine planets in the solar syste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371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arth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1295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upiter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ercury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rs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276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ptune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uto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冥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4343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turn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ranus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514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0" y="5334120"/>
          <a:ext cx="914400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6320" y="5486400"/>
            <a:ext cx="304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600" y="541008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53640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pi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0640" y="54244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rcu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8000" y="541008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9320" y="541008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ptu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49800"/>
            <a:ext cx="12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u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10760" y="6049800"/>
            <a:ext cx="13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e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840" y="604980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tu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640" y="604980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ra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3124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2286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120" y="545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1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892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00200" y="685800"/>
            <a:ext cx="5715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752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Thank you!</a:t>
            </a:r>
            <a:endParaRPr b="0" lang="en-US" sz="2400" spc="1" strike="noStrike">
              <a:ln w="4752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0360" y="658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3671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20480" y="243000"/>
            <a:ext cx="29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ui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170000"/>
            <a:ext cx="3429000" cy="523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640" y="15228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strona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6019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69.7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11280" y="4890960"/>
            <a:ext cx="29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wal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24080" cy="3260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05520" y="2590920"/>
            <a:ext cx="323856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76720" y="533520"/>
            <a:ext cx="3276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25080" y="5765760"/>
            <a:ext cx="35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67080" y="350532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920" y="434340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hut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612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94000" y="-10152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4190760" cy="235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52880" y="7632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914400"/>
            <a:ext cx="32767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228600"/>
            <a:ext cx="807732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506736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867280" y="106668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10666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838080"/>
            <a:ext cx="7467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    spaceman            space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uit              space shu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hip             outer spac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41316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800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张桌子占据了太多的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1276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地球大气以外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1148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The desk takes up too much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2362320"/>
            <a:ext cx="929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9:44:50Z</dcterms:created>
  <dc:creator>英语组02</dc:creator>
  <dc:description/>
  <dc:language>en-US</dc:language>
  <cp:lastModifiedBy>SEC</cp:lastModifiedBy>
  <dcterms:modified xsi:type="dcterms:W3CDTF">2005-11-06T23:22:57Z</dcterms:modified>
  <cp:revision>63</cp:revision>
  <dc:subject/>
  <dc:title>PowerPoint 演示文稿</dc:title>
</cp:coreProperties>
</file>