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12.jpeg" ContentType="image/jpeg"/>
  <Override PartName="/ppt/media/image13.png" ContentType="image/png"/>
  <Override PartName="/ppt/media/image20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camera.wav" ContentType="audio/x-wav"/>
  <Override PartName="/ppt/media/image6.png" ContentType="image/png"/>
  <Override PartName="/ppt/media/image18.png" ContentType="image/png"/>
  <Override PartName="/ppt/media/image7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535-E772-4E32-9377-69523F1F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9BC-A993-412F-9D4E-141A70D7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F92-D653-4426-88BE-380FB086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E18-B3B1-42FA-AE02-F48D1A7E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79DA-1AAC-4ECD-8921-01AEA245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1E35-C6A6-4170-8D6B-7556C2D2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19EC-4DA3-4E38-9F93-27F9297A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D40B-92D8-485D-A730-1068D8B5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1912-888D-4E33-978C-2F5EF662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6C99-1406-47BF-B904-1FF43E04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3592-A1FE-4F98-87FA-D938207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A46-21A6-4D5D-8CEC-F0B42919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D8BE-2D7D-40E3-8E63-0E6CC67E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939D-65E0-4D15-81B7-250E3397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4FE7-219B-47A0-89F2-5B79F9E1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6789-C8AE-4A4A-9E09-7AB6EBA0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E92A-A2E8-4D8F-8CD2-5843A2C6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88A58-CA51-468D-83A1-EC72A6DD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72DC-8BF3-4264-A92C-74A84C36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D43C-DFB8-4244-85ED-880B0240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810E-3B9C-49D8-9200-F7207675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7976-4321-4B9D-BD3F-F5608A0B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447-7302-4B35-A701-3E6F5FBB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01AE-5C48-4DE1-8CC6-01228A83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985DF-4272-41B6-9801-EA49910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6470-D57E-40DD-96EE-2FF90359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70F9-6B2B-45E0-A2F3-5A4C4A0E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4777-7CFA-4477-94E0-23A132AE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F56B-072E-4572-B3F5-B27533EB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6D6D-40DA-410E-BD17-F15BBE41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D3D50-17D9-4522-8BCE-E6B3734A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FB94-C652-4F27-AF37-B63AAFAD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E1B2-4239-4002-809F-CF547EDA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ED3-2C44-49BE-93EF-8A43ED71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09A5-7511-4A06-A26B-0C6753D1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90C7F-5B49-4895-A0AE-1357C1CF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A345-0293-44A3-A528-743B51A4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A9778-B24F-4031-97ED-6CA6B547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38901-6F74-4B51-A24D-E0C766D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B76F-BB11-45F1-B262-F320C334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D5CC7-24BE-4961-8F4A-85F4271E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136A-0E1B-4721-B6B1-F4741DE7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A56E0-555B-4FF6-9C56-00ECC8AC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B50-A7A4-4ED8-A731-185B810A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ADC-40F0-424A-BFD7-3BC41D73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395-D0F6-4433-8D17-FBA43D94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474-7450-4EB3-93A2-1ECE7A91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776-BF8F-40D3-A01B-023896C2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0F05-B38A-4673-AB98-10885085F9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E7BF-04AC-4030-A9A1-C64858037B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689D-B364-49BB-B0D3-259F7FCDBCE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83E9-622F-473E-BD8E-293C41FCDD4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93432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石庄高级中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8120" y="3808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7303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cc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295280" y="1447920"/>
          <a:ext cx="25909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25909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210040" cy="2667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78600" y="48006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ustin Foster, a fifteen-year-old boy,was missing two days ago i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ver, New Hampshire. Maybe he was taken away by alien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395280" y="620280"/>
            <a:ext cx="8480160" cy="5943960"/>
            <a:chOff x="395280" y="620280"/>
            <a:chExt cx="8480160" cy="5943960"/>
          </a:xfrm>
        </p:grpSpPr>
        <p:sp>
          <p:nvSpPr>
            <p:cNvPr id="290" name=""/>
            <p:cNvSpPr/>
            <p:nvPr/>
          </p:nvSpPr>
          <p:spPr>
            <a:xfrm flipV="1">
              <a:off x="395280" y="2068200"/>
              <a:ext cx="4496040" cy="44956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381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43320" y="222084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first part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6320" y="313524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rest par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43720" y="2525760"/>
              <a:ext cx="8380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5280" y="4049640"/>
              <a:ext cx="114300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5120" y="2297160"/>
              <a:ext cx="28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ain topic and the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ost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32440" y="3786120"/>
              <a:ext cx="38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new but less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7520" y="3059280"/>
              <a:ext cx="3504960" cy="0"/>
            </a:xfrm>
            <a:prstGeom prst="line">
              <a:avLst/>
            </a:prstGeom>
            <a:ln w="2844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8" name="PlaceHolder 1"/>
            <p:cNvSpPr>
              <a:spLocks noGrp="1"/>
            </p:cNvSpPr>
            <p:nvPr>
              <p:ph type="title"/>
            </p:nvPr>
          </p:nvSpPr>
          <p:spPr>
            <a:xfrm>
              <a:off x="547920" y="6202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A typical news story is written in an inverted pyramid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format.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0066ff"/>
                  </a:solidFill>
                  <a:latin typeface="Times New Roman"/>
                </a:rPr>
                <a:t>倒金字塔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endParaRPr b="0" i="1" lang="en-US" sz="2400" spc="-1" strike="noStrike">
                <a:solidFill>
                  <a:srgbClr val="79524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22896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ad the news story and finish the following exercise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00000" y="3068640"/>
          <a:ext cx="6858000" cy="3376440"/>
        </p:xfrm>
        <a:graphic>
          <a:graphicData uri="http://schemas.openxmlformats.org/drawingml/2006/table">
            <a:tbl>
              <a:tblPr/>
              <a:tblGrid>
                <a:gridCol w="2163600"/>
                <a:gridCol w="469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in Point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 a frien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 ______________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at the family lunch the next day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after the ga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 ______ at 10:45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at about 11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flying outsid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and then the UFO disappeare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1066680" y="685800"/>
            <a:ext cx="64008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 show up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Does Justin have any brothers or sister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Who else has been taken away by the alien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9325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went to bed early because of a headach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r. Foster was working that nigh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show up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became worried and told her husband to call the polic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Justin plays baseball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Does Justin have any brothers or sister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Yes, he has a sister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o else has been taken by the alien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avis Wood was taken  by the aliens too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826920" y="404640"/>
          <a:ext cx="8066160" cy="6147000"/>
        </p:xfrm>
        <a:graphic>
          <a:graphicData uri="http://schemas.openxmlformats.org/drawingml/2006/table">
            <a:tbl>
              <a:tblPr/>
              <a:tblGrid>
                <a:gridCol w="2276640"/>
                <a:gridCol w="578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in Poin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 frien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___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_____  at the family lunch the next day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_______   after the                               ga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_________________________       at 10:45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 ________________at about 11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was taken away by aliens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___________ flying outsid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___    and then the UFO disappeare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5874120" y="148284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e didn’t tell anyon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1680" y="1893960"/>
            <a:ext cx="29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at he was staying out lat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0320" y="22860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idn’t show up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40600" y="29941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went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33720" y="364320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y saw Justin walking 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67320" y="43434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return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3520" y="472428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large spaceshi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3160" y="510552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shout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55280" y="56815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as taken aw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5280" y="60706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y the alien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1729080" cy="1593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678320" y="4267080"/>
            <a:ext cx="17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V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19810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Fo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419112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Foster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0000" y="60930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9827000">
            <a:off x="3657600" y="243828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053800">
            <a:off x="3580920" y="3504960"/>
            <a:ext cx="1057320" cy="145800"/>
          </a:xfrm>
          <a:prstGeom prst="rightArrow">
            <a:avLst>
              <a:gd name="adj1" fmla="val 50000"/>
              <a:gd name="adj2" fmla="val 181296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1598800">
            <a:off x="3657600" y="297144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Cloud"/>
          <p:cNvSpPr/>
          <p:nvPr/>
        </p:nvSpPr>
        <p:spPr>
          <a:xfrm>
            <a:off x="236232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When? Where? Who ? What? How?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• • •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3310400">
            <a:off x="3188880" y="1611000"/>
            <a:ext cx="111240" cy="5173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a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lease give an ending to the story.Was Justin really taken away by aliens or were there any other reasons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2280" y="6477120"/>
            <a:ext cx="4191120" cy="380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495680" y="6477120"/>
            <a:ext cx="4191120" cy="380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62120" y="2124000"/>
            <a:ext cx="7257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nish part F and do some speaking practice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ccording to the sampl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581280" y="6094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95280" y="83664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ales of the unexplained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28800" y="3048120"/>
            <a:ext cx="4952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371520"/>
            <a:ext cx="14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F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19800" y="380880"/>
            <a:ext cx="29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en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919600" cy="3581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Do you believe in UFOs and aliens? Why or why no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If you saw a UFO and an alien some day, what would you do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at other unexplained things do you know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abou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Discussion</a:t>
            </a:r>
            <a:br>
              <a:rPr sz="4400"/>
            </a:b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50840" y="322092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8960" y="40384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53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60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4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e4d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53440" y="1125360"/>
            <a:ext cx="55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y missing, police puzzled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32920" y="259092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y is missing, and the police are puzzled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20" y="3860640"/>
            <a:ext cx="85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he title of a news story is usually incomplete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04920" y="6629400"/>
            <a:ext cx="419076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648320" y="6629400"/>
            <a:ext cx="4221000" cy="228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267080" y="1828800"/>
            <a:ext cx="304920" cy="824040"/>
          </a:xfrm>
          <a:prstGeom prst="downArrow">
            <a:avLst>
              <a:gd name="adj1" fmla="val 50000"/>
              <a:gd name="adj2" fmla="val 67562"/>
            </a:avLst>
          </a:prstGeom>
          <a:solidFill>
            <a:srgbClr val="ff0066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2e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Read the news story quickly and answer the question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191120" cy="304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1905120"/>
            <a:ext cx="7010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missing?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d where is he missing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police know what happened to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48320" y="6553080"/>
            <a:ext cx="41907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28600" y="655308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2:01:39Z</dcterms:created>
  <dc:creator>软件仓库</dc:creator>
  <dc:description/>
  <dc:language>en-US</dc:language>
  <cp:lastModifiedBy>USER</cp:lastModifiedBy>
  <dcterms:modified xsi:type="dcterms:W3CDTF">2005-11-06T15:53:01Z</dcterms:modified>
  <cp:revision>110</cp:revision>
  <dc:subject/>
  <dc:title>PowerPoint 演示文稿</dc:title>
</cp:coreProperties>
</file>