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00D-27A8-4445-BBA8-A9C97935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52C-647E-4C7E-BADE-16C2E80B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B71-9DBD-49B0-BA74-92692F95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357-FF6E-4794-9907-265DC4BD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9850-C360-4190-8061-F110896A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FC71-A499-488B-9B0E-9537279D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A0F-1283-4833-B396-C7BD1875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FD36-25D3-46F7-A43A-34F8CDAC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905F-2263-4AB1-A46B-2EE318E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5C95-8156-41A0-9606-A0D541DA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EEE4-7A4F-4E6C-9486-F420E03D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C7A-F4FA-4459-A26B-466B51B4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E765-2537-459D-9768-3E41282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B00B-B9BD-4982-AE95-18A305C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4411-F396-49CD-8CF9-D1A16462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B637-9400-4359-8D6E-B821AAD9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BB88-0DD2-422B-8408-37AE7C56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ACB-7DBD-484F-A4F7-D1256807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D0A-0D5C-4D72-AF94-F91C334C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9BA-C91D-4ACC-8966-C540E2B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B7E-F294-48D2-9449-D358929C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DBD-0024-4B22-9A2D-70B18A3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751-E705-4C0D-94CF-C57714A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F38-C55D-4156-9F61-BF0D22A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BAC1-4639-4EFC-8760-1B0A547F032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8884-6D84-472A-B545-BFE9AC008E2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 Black"/>
              </a:rPr>
              <a:t>English Idioms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格说，英语中没有中国式的歇后语。中国式歇后语前半句通常为比喻，后半句为本意，如猪八戒照镜子（里外不是人） ；和尚打伞（无法无天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另一类不涉及比喻或谐音，而是日常俗语，耳熟能详，不必说完，听者已可领会，如三人同行（必有吾师）。英语中不乏实例。请补完下半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A bird i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 A friend in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A penny sa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A stitch 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An apple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Ask not what your country do for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Better to have loved and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Birds of a f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.Damned if you 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Don’t count your chic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24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worth two in the bu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friend in de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penny ear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3240" y="1943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n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s the doctor a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 what you can do for your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72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never to have loved at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4724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 toge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25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mned if you don’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y are hatc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.Don’t call u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.Finders keeper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Fool me once, shame on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.He is a Jack of all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.Hope for the be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6.If you can’t beat th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7.If you can’t stand the h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8.If the shoe fi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.If the mountain cannot come to Mohamm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Man propos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e’ll call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0857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ers wee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l me twice, shame on 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ster of n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76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repare for the wo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 out of the kit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52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hammed will go to the mount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6039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dis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.One man’s m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.Penny wis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3.Speak of the de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.The grass is always greener on the other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.There but for the grace of the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.To err is hum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7.Too many c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8.Two’s compa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.United we st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.we must learn to w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953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other man’s po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nd foo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429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devil is sure to app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f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19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forgive, div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5520" y="3753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spoil the br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3243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’s a crow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2760" y="4857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d, we f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can 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094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1.What goes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.When poverty comes in at the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.When in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4.When the cat is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.When the going gets toug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6.Where there is a wi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7.Where there’s smok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8.With friends like hi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.You can catch more flies with hone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.You scratch my bac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come dow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14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ve flies out of the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73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what the Romans 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ce will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ugh get go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a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36840" y="388620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’s a fi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enem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with vin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543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I’ll scratch y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9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anks for your attentio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71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CAN YOU THINK 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MORE IDIO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LIKE THE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w</cp:lastModifiedBy>
  <dcterms:modified xsi:type="dcterms:W3CDTF">2003-10-31T01:18:42Z</dcterms:modified>
  <cp:revision>2</cp:revision>
  <dc:subject/>
  <dc:title>English Idioms</dc:title>
</cp:coreProperties>
</file>