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75D-F474-4ED2-A940-2DB93D00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4E1-DE48-4E35-BDE9-7516FBFD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411-208F-49FF-986C-40AAF8BC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16F-CF47-47D8-8D4E-CC785037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DF5-1432-46B9-BA51-22E0DF9C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CE2-DC00-4027-98C5-DF622BCB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682-0199-410E-A63A-437288FB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A1C-5E88-438B-9551-C46790B6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E14-2B2C-4521-AE6B-EC8C1397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232-8E4C-4C7B-89C9-D22337B5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449-44A0-49E7-BDE0-B2294E90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8A3-4C0D-484B-A532-AFC5BA8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9AB4-945D-4AC4-8E18-9D7625DC36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366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Money is no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house but not a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bed but not sle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289548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clock but no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ooks but not knowled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1523880"/>
            <a:ext cx="595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lood but not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sex but not l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181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position but not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medicine but not heal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259092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may not be the root of all evi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it often brings us anguish and regr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2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I would like to tell you how to solve the problem, my dear frie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I hope you will forward the solution to other friends of y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45720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Give all your money to me. Let me suffer from the anguish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ight now, Ok? :-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Lyq</cp:lastModifiedBy>
  <dcterms:modified xsi:type="dcterms:W3CDTF">2001-12-14T06:41:37Z</dcterms:modified>
  <cp:revision>19</cp:revision>
  <dc:subject/>
  <dc:title>没有幻灯片标题</dc:title>
</cp:coreProperties>
</file>