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9.gif" ContentType="image/gif"/>
  <Override PartName="/ppt/media/image25.wmf" ContentType="image/x-wmf"/>
  <Override PartName="/ppt/media/image27.wmf" ContentType="image/x-wmf"/>
  <Override PartName="/ppt/media/image22.wmf" ContentType="image/x-wmf"/>
  <Override PartName="/ppt/media/image21.gif" ContentType="image/gif"/>
  <Override PartName="/ppt/media/image10.jpeg" ContentType="image/jpeg"/>
  <Override PartName="/ppt/media/image19.wmf" ContentType="image/x-wmf"/>
  <Override PartName="/ppt/media/image18.wmf" ContentType="image/x-wmf"/>
  <Override PartName="/ppt/media/image5.jpeg" ContentType="image/jpeg"/>
  <Override PartName="/ppt/media/image20.wmf" ContentType="image/x-wmf"/>
  <Override PartName="/ppt/media/image26.jpeg" ContentType="image/jpeg"/>
  <Override PartName="/ppt/media/image9.jpeg" ContentType="image/jpeg"/>
  <Override PartName="/ppt/media/image23.wmf" ContentType="image/x-wmf"/>
  <Override PartName="/ppt/media/image11.jpeg" ContentType="image/jpeg"/>
  <Override PartName="/ppt/media/image8.jpeg" ContentType="image/jpeg"/>
  <Override PartName="/ppt/media/image30.gif" ContentType="image/gif"/>
  <Override PartName="/ppt/media/image16.wmf" ContentType="image/x-wmf"/>
  <Override PartName="/ppt/media/image33.wmf" ContentType="image/x-wmf"/>
  <Override PartName="/ppt/media/image34.png" ContentType="image/png"/>
  <Override PartName="/ppt/media/image35.wmf" ContentType="image/x-wmf"/>
  <Override PartName="/ppt/media/image3.jpeg" ContentType="image/jpeg"/>
  <Override PartName="/ppt/media/image6.jpeg" ContentType="image/jpeg"/>
  <Override PartName="/ppt/media/image12.wmf" ContentType="image/x-wmf"/>
  <Override PartName="/ppt/media/image36.wmf" ContentType="image/x-wmf"/>
  <Override PartName="/ppt/media/image4.jpeg" ContentType="image/jpeg"/>
  <Override PartName="/ppt/media/image32.wmf" ContentType="image/x-wmf"/>
  <Override PartName="/ppt/media/image2.wmf" ContentType="image/x-wmf"/>
  <Override PartName="/ppt/media/image28.png" ContentType="image/png"/>
  <Override PartName="/ppt/media/image31.wmf" ContentType="image/x-wmf"/>
  <Override PartName="/ppt/media/image7.jpeg" ContentType="image/jpeg"/>
  <Override PartName="/ppt/media/image1.wmf" ContentType="image/x-wmf"/>
  <Override PartName="/ppt/media/image24.wmf" ContentType="image/x-wmf"/>
  <Override PartName="/ppt/media/image14.gif" ContentType="image/gif"/>
  <Override PartName="/ppt/media/image15.wmf" ContentType="image/x-wmf"/>
  <Override PartName="/ppt/media/image13.wmf" ContentType="image/x-wmf"/>
  <Override PartName="/ppt/media/image17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28EC-FD0D-4CCA-88AC-E722832DE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CF80-5879-425B-BE5B-BB4BB17A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665E-9CA6-4F21-8415-DE00528CE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E21C-37DA-41AF-A69F-4B8304885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9283-414B-4DE1-A21F-15DAEF09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E393-1E76-4BB3-A102-FAEC01A8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CC91-DB46-4D1D-B385-E1B3FE59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F242-889A-4722-9395-BDDAFD52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F309-4DF5-488F-A009-791F4C85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65D1-F0D8-4EB0-8799-EED822C3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F65B-6AEF-4D59-93AD-2927D854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349D-47CE-4EA0-9A3B-92F51AC7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FF4D-1136-44A7-BF5B-5B8683E8A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4.gif"/><Relationship Id="rId3" Type="http://schemas.openxmlformats.org/officeDocument/2006/relationships/slide" Target="slide22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8.xml"/><Relationship Id="rId7" Type="http://schemas.openxmlformats.org/officeDocument/2006/relationships/slide" Target="slide24.xml"/><Relationship Id="rId8" Type="http://schemas.openxmlformats.org/officeDocument/2006/relationships/slide" Target="slide25.xml"/><Relationship Id="rId9" Type="http://schemas.openxmlformats.org/officeDocument/2006/relationships/slide" Target="slide20.xml"/><Relationship Id="rId10" Type="http://schemas.openxmlformats.org/officeDocument/2006/relationships/slide" Target="slide20.xml"/><Relationship Id="rId11" Type="http://schemas.openxmlformats.org/officeDocument/2006/relationships/slide" Target="slide27.xml"/><Relationship Id="rId12" Type="http://schemas.openxmlformats.org/officeDocument/2006/relationships/slide" Target="slide21.xml"/><Relationship Id="rId13" Type="http://schemas.openxmlformats.org/officeDocument/2006/relationships/slide" Target="slide19.xml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wmf"/><Relationship Id="rId3" Type="http://schemas.openxmlformats.org/officeDocument/2006/relationships/slide" Target="slide16.xml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8.wmf"/><Relationship Id="rId3" Type="http://schemas.openxmlformats.org/officeDocument/2006/relationships/slide" Target="slide16.xml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" Target="slide16.xml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18.wmf"/><Relationship Id="rId3" Type="http://schemas.openxmlformats.org/officeDocument/2006/relationships/image" Target="../media/image32.wmf"/><Relationship Id="rId4" Type="http://schemas.openxmlformats.org/officeDocument/2006/relationships/slide" Target="slide16.xml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jpeg"/><Relationship Id="rId3" Type="http://schemas.openxmlformats.org/officeDocument/2006/relationships/slide" Target="slide7.xml"/><Relationship Id="rId4" Type="http://schemas.openxmlformats.org/officeDocument/2006/relationships/image" Target="../media/image4.jpeg"/><Relationship Id="rId5" Type="http://schemas.openxmlformats.org/officeDocument/2006/relationships/slide" Target="slide9.xml"/><Relationship Id="rId6" Type="http://schemas.openxmlformats.org/officeDocument/2006/relationships/image" Target="../media/image5.jpeg"/><Relationship Id="rId7" Type="http://schemas.openxmlformats.org/officeDocument/2006/relationships/slide" Target="slide11.xml"/><Relationship Id="rId8" Type="http://schemas.openxmlformats.org/officeDocument/2006/relationships/image" Target="../media/image6.jpeg"/><Relationship Id="rId9" Type="http://schemas.openxmlformats.org/officeDocument/2006/relationships/slide" Target="slide4.xml"/><Relationship Id="rId10" Type="http://schemas.openxmlformats.org/officeDocument/2006/relationships/image" Target="../media/image7.jpeg"/><Relationship Id="rId11" Type="http://schemas.openxmlformats.org/officeDocument/2006/relationships/slide" Target="slide10.xml"/><Relationship Id="rId12" Type="http://schemas.openxmlformats.org/officeDocument/2006/relationships/image" Target="../media/image8.jpeg"/><Relationship Id="rId13" Type="http://schemas.openxmlformats.org/officeDocument/2006/relationships/slide" Target="slide6.xml"/><Relationship Id="rId14" Type="http://schemas.openxmlformats.org/officeDocument/2006/relationships/image" Target="../media/image9.jpeg"/><Relationship Id="rId15" Type="http://schemas.openxmlformats.org/officeDocument/2006/relationships/slide" Target="slide12.xml"/><Relationship Id="rId16" Type="http://schemas.openxmlformats.org/officeDocument/2006/relationships/image" Target="../media/image10.jpeg"/><Relationship Id="rId17" Type="http://schemas.openxmlformats.org/officeDocument/2006/relationships/slide" Target="slide8.xml"/><Relationship Id="rId18" Type="http://schemas.openxmlformats.org/officeDocument/2006/relationships/image" Target="../media/image11.jpeg"/><Relationship Id="rId1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-1752480"/>
          <a:ext cx="91440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752480"/>
                    <a:ext cx="9144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5791320" y="571500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ff33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57150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ff"/>
                </a:solidFill>
                <a:latin typeface="Times New Roman"/>
              </a:rPr>
              <a:t>exerc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19520" y="502920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cc99"/>
                </a:solidFill>
                <a:latin typeface="Times New Roman"/>
              </a:rPr>
              <a:t>tex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57150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95680" y="50292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ccff"/>
                </a:solidFill>
                <a:latin typeface="Times New Roman"/>
              </a:rPr>
              <a:t>g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971800" y="1219320"/>
            <a:ext cx="28098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3399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Calisto MT"/>
              </a:rPr>
              <a:t>Lesson 9</a:t>
            </a:r>
            <a:endParaRPr b="1" lang="en-US" sz="4400" spc="1" strike="noStrike">
              <a:ln w="9360">
                <a:solidFill>
                  <a:srgbClr val="ff6600"/>
                </a:solidFill>
                <a:miter/>
              </a:ln>
              <a:solidFill>
                <a:srgbClr val="ff3399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Calisto MT"/>
              <a:ea typeface="Calisto MT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NewsMedia_90034" descr=""/>
          <p:cNvPicPr/>
          <p:nvPr/>
        </p:nvPicPr>
        <p:blipFill>
          <a:blip r:embed="rId1"/>
          <a:stretch/>
        </p:blipFill>
        <p:spPr>
          <a:xfrm>
            <a:off x="0" y="785880"/>
            <a:ext cx="9144000" cy="607212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8305920" y="6477120"/>
            <a:ext cx="609480" cy="38088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0"/>
            <a:ext cx="8381880" cy="1312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Every year , a lot of people join the activity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活动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) of planting tre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NewsMedia_163692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62760"/>
          </a:xfrm>
          <a:prstGeom prst="rect">
            <a:avLst/>
          </a:prstGeom>
          <a:ln w="0">
            <a:noFill/>
          </a:ln>
        </p:spPr>
      </p:pic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8839080" y="6553080"/>
            <a:ext cx="304920" cy="304920"/>
          </a:xfrm>
          <a:prstGeom prst="wedgeEllipseCallout">
            <a:avLst>
              <a:gd name="adj1" fmla="val -293750"/>
              <a:gd name="adj2" fmla="val 697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0"/>
            <a:ext cx="7772400" cy="1312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This is a new way to collect the rubbish, very machinery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机械化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020913019b_2" descr=""/>
          <p:cNvPicPr/>
          <p:nvPr/>
        </p:nvPicPr>
        <p:blipFill>
          <a:blip r:embed="rId1"/>
          <a:stretch/>
        </p:blipFill>
        <p:spPr>
          <a:xfrm flipH="1">
            <a:off x="-305280" y="0"/>
            <a:ext cx="9448920" cy="673272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8610480" y="647712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0"/>
            <a:ext cx="7162560" cy="1922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Animals can live with people friendly and peacefully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和平）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, can w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228600"/>
            <a:ext cx="9144000" cy="78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1.What is the most important to u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2.Is the environment important to you and me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3.Do you have any good idea to protect the environmen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(think about it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413480" y="3666960"/>
            <a:ext cx="1730520" cy="31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547560"/>
            <a:ext cx="8610480" cy="65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1.pour ….into(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倾泻…进入…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2. die,death, d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3. be afraid of(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担心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,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害怕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4. Write a story(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报道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) about…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5. for a year,(for + 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一段时间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6. since you join Greener China(since + 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过去的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magichat" descr=""/>
          <p:cNvPicPr/>
          <p:nvPr/>
        </p:nvPicPr>
        <p:blipFill>
          <a:blip r:embed="rId1"/>
          <a:stretch/>
        </p:blipFill>
        <p:spPr>
          <a:xfrm>
            <a:off x="7415280" y="914400"/>
            <a:ext cx="1728720" cy="1981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6629400" y="228600"/>
            <a:ext cx="2514600" cy="6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注意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228600"/>
            <a:ext cx="571500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ds and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Read the dialogue on page 11 again and answer the question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143000"/>
            <a:ext cx="838188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 Where has Hu Lan just been t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 Why has the river near the factory become dir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. What has happened to the fish in the riv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. What does Greener China want to d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. Why are they going to write to the TV station and the newspap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. Do you like take care of the environment ? Why or why no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. What can you do to improve the environ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2133720" y="12193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304920"/>
            <a:ext cx="16765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ga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pic>
        <p:nvPicPr>
          <p:cNvPr id="99" name="pucca" descr=""/>
          <p:cNvPicPr/>
          <p:nvPr/>
        </p:nvPicPr>
        <p:blipFill>
          <a:blip r:embed="rId2"/>
          <a:stretch/>
        </p:blipFill>
        <p:spPr>
          <a:xfrm>
            <a:off x="6324480" y="4781520"/>
            <a:ext cx="1227240" cy="1112760"/>
          </a:xfrm>
          <a:prstGeom prst="rect">
            <a:avLst/>
          </a:prstGeom>
          <a:ln w="0">
            <a:noFill/>
          </a:ln>
        </p:spPr>
      </p:pic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2971800" y="20574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3809880" y="20574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4648320" y="20574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2133720" y="28954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2971800" y="28954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3809880" y="2895480"/>
            <a:ext cx="838440" cy="83844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4648320" y="2895480"/>
            <a:ext cx="838080" cy="8384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440"/>
              <a:gd name="textAreaBottom" fmla="*/ 784440 h 83844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9" action="ppaction://hlinksldjump"/>
          </p:cNvPr>
          <p:cNvSpPr/>
          <p:nvPr/>
        </p:nvSpPr>
        <p:spPr>
          <a:xfrm>
            <a:off x="3809880" y="121932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12193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2133720" y="20574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13" action="ppaction://hlinksldjump"/>
          </p:cNvPr>
          <p:cNvSpPr/>
          <p:nvPr/>
        </p:nvSpPr>
        <p:spPr>
          <a:xfrm>
            <a:off x="2971800" y="12193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2680" y="457200"/>
            <a:ext cx="60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ff"/>
                </a:solidFill>
                <a:latin typeface="Times New Roman"/>
              </a:rPr>
              <a:t>Answer the following ques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685800"/>
            <a:ext cx="63244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Have you ever smok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Have you ever picked flowers or stepped on the grass in a par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NA01062_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5295960"/>
            <a:ext cx="1751040" cy="15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2590920" y="762120"/>
            <a:ext cx="4419360" cy="1371600"/>
            <a:chOff x="2590920" y="762120"/>
            <a:chExt cx="4419360" cy="1371600"/>
          </a:xfrm>
        </p:grpSpPr>
        <p:sp>
          <p:nvSpPr>
            <p:cNvPr id="115" name=""/>
            <p:cNvSpPr/>
            <p:nvPr/>
          </p:nvSpPr>
          <p:spPr>
            <a:xfrm>
              <a:off x="2590920" y="762120"/>
              <a:ext cx="441936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66880" y="990720"/>
              <a:ext cx="4038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No smoking her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752480" y="3200400"/>
            <a:ext cx="3124080" cy="1676160"/>
            <a:chOff x="1752480" y="3200400"/>
            <a:chExt cx="3124080" cy="1676160"/>
          </a:xfrm>
        </p:grpSpPr>
        <p:sp>
          <p:nvSpPr>
            <p:cNvPr id="118" name=""/>
            <p:cNvSpPr/>
            <p:nvPr/>
          </p:nvSpPr>
          <p:spPr>
            <a:xfrm>
              <a:off x="1752480" y="3200400"/>
              <a:ext cx="3124080" cy="1676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36720" y="3200400"/>
              <a:ext cx="3039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Don’t step  on the gras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6019920" y="2819520"/>
            <a:ext cx="1523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77320" y="5791320"/>
            <a:ext cx="780840" cy="78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gif022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4746600" cy="5372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47920" y="0"/>
            <a:ext cx="76960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y a sentence with the picture and phrases( could you stop….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205740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raw pictures ,on the w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990720"/>
            <a:ext cx="1371600" cy="685800"/>
          </a:xfrm>
          <a:prstGeom prst="smileyFace">
            <a:avLst>
              <a:gd name="adj" fmla="val -465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1219320" cy="1216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51680" y="5662440"/>
            <a:ext cx="1192320" cy="11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What is the most important to u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ff"/>
                </a:solidFill>
                <a:latin typeface="Times New Roman"/>
              </a:rPr>
              <a:t>Is the environment important to you and me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9144000" cy="22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74400" y="304920"/>
            <a:ext cx="774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y a sentence with the picture and phr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4953240" cy="4946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048120" y="2743200"/>
            <a:ext cx="1488960" cy="1484280"/>
          </a:xfrm>
          <a:prstGeom prst="rect">
            <a:avLst/>
          </a:prstGeom>
          <a:ln w="0">
            <a:noFill/>
          </a:ln>
        </p:spPr>
      </p:pic>
      <p:pic>
        <p:nvPicPr>
          <p:cNvPr id="131" name="gif017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20120" y="5194440"/>
            <a:ext cx="1303200" cy="1233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324480" y="114300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Times New Roman"/>
              </a:rPr>
              <a:t>stop cutting down tre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5880" y="1143000"/>
            <a:ext cx="2286000" cy="1371600"/>
          </a:xfrm>
          <a:prstGeom prst="cloudCallout">
            <a:avLst>
              <a:gd name="adj1" fmla="val 64305"/>
              <a:gd name="adj2" fmla="val 37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48320" y="0"/>
            <a:ext cx="312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y a sentence with the picture and phr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58000" y="16765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1905120"/>
            <a:ext cx="5181840" cy="3695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780320" y="5181480"/>
            <a:ext cx="1363680" cy="1359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057400" y="0"/>
            <a:ext cx="1752480" cy="2057400"/>
          </a:xfrm>
          <a:prstGeom prst="cloudCallout">
            <a:avLst>
              <a:gd name="adj1" fmla="val 57606"/>
              <a:gd name="adj2" fmla="val 733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7400" y="457200"/>
            <a:ext cx="1523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ff"/>
                </a:solidFill>
                <a:latin typeface="Times New Roman"/>
              </a:rPr>
              <a:t>Stop  smo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371600" y="1219320"/>
            <a:ext cx="3886200" cy="19047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n’t throw li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 the gr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4343400"/>
            <a:ext cx="3886200" cy="1905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n’t draw pi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the public w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BD06455_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4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752480" y="83808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True or fal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2133720"/>
            <a:ext cx="59436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1.Every year we should plant more trees and flowers.(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2. We can pick the beautiful flowers in parks.(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07%5B2%5D" descr=""/>
          <p:cNvPicPr/>
          <p:nvPr/>
        </p:nvPicPr>
        <p:blipFill>
          <a:blip r:embed="rId1"/>
          <a:stretch/>
        </p:blipFill>
        <p:spPr>
          <a:xfrm>
            <a:off x="7238880" y="5057640"/>
            <a:ext cx="1428840" cy="13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 flipV="1">
            <a:off x="457200" y="914040"/>
            <a:ext cx="38098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1.</a:t>
            </a:r>
            <a:r>
              <a:rPr b="1" i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请勿吸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666880"/>
            <a:ext cx="3886200" cy="1067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请勿乱图乱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1600200"/>
            <a:ext cx="419112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2.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不要乱砍乱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38080" y="4191120"/>
            <a:ext cx="70866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A.Don't cut down the trees 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B. Don't draw pictures on the walls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C.No smoking here 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2286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ff"/>
                </a:solidFill>
                <a:latin typeface="Times New Roman"/>
              </a:rPr>
              <a:t>Find the the right trans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DD00448_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92960" y="5905440"/>
            <a:ext cx="85104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20560" y="1371600"/>
            <a:ext cx="6904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1. We should not throw about was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batteries(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电池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).(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2. We should put different rubbish(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垃圾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into different dustbins(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垃圾箱</a:t>
            </a:r>
            <a:r>
              <a:rPr b="1" i="1" lang="zh-CN" sz="3200" spc="-1" strike="noStrike">
                <a:solidFill>
                  <a:srgbClr val="d60093"/>
                </a:solidFill>
                <a:latin typeface="Times New Roman"/>
              </a:rPr>
              <a:t>).(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4572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True or fal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无标题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762120" y="9907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ff"/>
                </a:solidFill>
                <a:latin typeface="Times New Roman"/>
              </a:rPr>
              <a:t>Answer the following ques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1905120"/>
            <a:ext cx="74674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Do you keep your classroom clean and tid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Do you clean your bedroom every da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00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304920"/>
            <a:ext cx="156204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593080" y="533520"/>
            <a:ext cx="26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True or fal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2209680"/>
            <a:ext cx="792324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 can carv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刻）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r name on a tre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Every year we should plant more trees and flow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Students may put waste paper in a wastebaske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girl1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937200" y="304920"/>
            <a:ext cx="108432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onalimb" descr=""/>
          <p:cNvPicPr/>
          <p:nvPr/>
        </p:nvPicPr>
        <p:blipFill>
          <a:blip r:embed="rId1"/>
          <a:stretch/>
        </p:blipFill>
        <p:spPr>
          <a:xfrm>
            <a:off x="2868480" y="914400"/>
            <a:ext cx="3356280" cy="4952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200400" y="1143000"/>
            <a:ext cx="1447920" cy="1442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8600" y="228600"/>
            <a:ext cx="563868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y a sentence with the pi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tree3" descr=""/>
          <p:cNvPicPr/>
          <p:nvPr/>
        </p:nvPicPr>
        <p:blipFill>
          <a:blip r:embed="rId3"/>
          <a:stretch/>
        </p:blipFill>
        <p:spPr>
          <a:xfrm>
            <a:off x="4724280" y="914400"/>
            <a:ext cx="3353040" cy="2822400"/>
          </a:xfrm>
          <a:prstGeom prst="rect">
            <a:avLst/>
          </a:prstGeom>
          <a:ln w="0">
            <a:noFill/>
          </a:ln>
        </p:spPr>
      </p:pic>
      <p:pic>
        <p:nvPicPr>
          <p:cNvPr id="165" name="SY01265_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640720" y="5791320"/>
            <a:ext cx="503280" cy="10666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04920" y="1219320"/>
            <a:ext cx="2590560" cy="1752480"/>
          </a:xfrm>
          <a:prstGeom prst="cloudCallout">
            <a:avLst>
              <a:gd name="adj1" fmla="val -86027"/>
              <a:gd name="adj2" fmla="val 567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p hurting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43000" y="91440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2286000"/>
            <a:ext cx="81536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1.Read and listen  the dialogue .(at least 3 times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2.Recite the words and expressi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3. Finish the exercise 2 on page 103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gif056%5B1%5D" descr=""/>
          <p:cNvPicPr/>
          <p:nvPr/>
        </p:nvPicPr>
        <p:blipFill>
          <a:blip r:embed="rId1"/>
          <a:stretch/>
        </p:blipFill>
        <p:spPr>
          <a:xfrm>
            <a:off x="5715000" y="9144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2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9880" y="609480"/>
            <a:ext cx="2210040" cy="1451160"/>
          </a:xfrm>
          <a:prstGeom prst="rect">
            <a:avLst/>
          </a:prstGeom>
          <a:ln w="0">
            <a:noFill/>
          </a:ln>
        </p:spPr>
      </p:pic>
      <p:pic>
        <p:nvPicPr>
          <p:cNvPr id="53" name="kill1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2666880"/>
            <a:ext cx="3276720" cy="1513080"/>
          </a:xfrm>
          <a:prstGeom prst="rect">
            <a:avLst/>
          </a:prstGeom>
          <a:ln w="0">
            <a:noFill/>
          </a:ln>
        </p:spPr>
      </p:pic>
      <p:pic>
        <p:nvPicPr>
          <p:cNvPr id="54" name="NewsMedia_12860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858000" y="2590920"/>
            <a:ext cx="1905120" cy="2247840"/>
          </a:xfrm>
          <a:prstGeom prst="rect">
            <a:avLst/>
          </a:prstGeom>
          <a:ln w="0">
            <a:noFill/>
          </a:ln>
        </p:spPr>
      </p:pic>
      <p:pic>
        <p:nvPicPr>
          <p:cNvPr id="55" name="NewsMedia_163692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324480" y="4876920"/>
            <a:ext cx="2571840" cy="1704960"/>
          </a:xfrm>
          <a:prstGeom prst="rect">
            <a:avLst/>
          </a:prstGeom>
          <a:ln w="0">
            <a:noFill/>
          </a:ln>
        </p:spPr>
      </p:pic>
      <p:pic>
        <p:nvPicPr>
          <p:cNvPr id="56" name="NewsMedia_166686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0" y="228600"/>
            <a:ext cx="3276720" cy="2178000"/>
          </a:xfrm>
          <a:prstGeom prst="rect">
            <a:avLst/>
          </a:prstGeom>
          <a:ln w="0">
            <a:noFill/>
          </a:ln>
        </p:spPr>
      </p:pic>
      <p:pic>
        <p:nvPicPr>
          <p:cNvPr id="57" name="NewsMedia_90034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0" y="4419720"/>
            <a:ext cx="2971800" cy="1973160"/>
          </a:xfrm>
          <a:prstGeom prst="rect">
            <a:avLst/>
          </a:prstGeom>
          <a:ln w="0">
            <a:noFill/>
          </a:ln>
        </p:spPr>
      </p:pic>
      <p:pic>
        <p:nvPicPr>
          <p:cNvPr id="58" name="NewsMedia_207984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248520" y="304920"/>
            <a:ext cx="3333600" cy="2314440"/>
          </a:xfrm>
          <a:prstGeom prst="rect">
            <a:avLst/>
          </a:prstGeom>
          <a:ln w="0">
            <a:noFill/>
          </a:ln>
        </p:spPr>
      </p:pic>
      <p:pic>
        <p:nvPicPr>
          <p:cNvPr id="59" name="020913019b_2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352680" y="4800600"/>
            <a:ext cx="2286000" cy="1628640"/>
          </a:xfrm>
          <a:prstGeom prst="rect">
            <a:avLst/>
          </a:prstGeom>
          <a:ln w="0">
            <a:noFill/>
          </a:ln>
        </p:spPr>
      </p:pic>
      <p:pic>
        <p:nvPicPr>
          <p:cNvPr id="60" name="NewsMedia_196856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2895480" y="2286000"/>
            <a:ext cx="3810240" cy="2428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-228600" y="0"/>
            <a:ext cx="9372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33"/>
                </a:solidFill>
                <a:latin typeface="Times New Roman"/>
              </a:rPr>
              <a:t>To the nature, what have we don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33"/>
                </a:solidFill>
                <a:latin typeface="Times New Roman"/>
              </a:rPr>
              <a:t>what should we do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057400" y="3048120"/>
            <a:ext cx="6756480" cy="3500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858000" y="1697040"/>
            <a:ext cx="1371600" cy="1287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1066680" y="1219320"/>
            <a:ext cx="609624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goodby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4572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ickyka@sina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NewsMedia_166686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229440"/>
          </a:xfrm>
          <a:prstGeom prst="rect">
            <a:avLst/>
          </a:prstGeom>
          <a:ln w="0">
            <a:noFill/>
          </a:ln>
        </p:spPr>
      </p:pic>
      <p:sp>
        <p:nvSpPr>
          <p:cNvPr id="63" name="">
            <a:hlinkClick r:id="rId2" action="ppaction://hlinksldjump"/>
          </p:cNvPr>
          <p:cNvSpPr/>
          <p:nvPr/>
        </p:nvSpPr>
        <p:spPr>
          <a:xfrm>
            <a:off x="8381880" y="6400800"/>
            <a:ext cx="457200" cy="457200"/>
          </a:xfrm>
          <a:custGeom>
            <a:avLst/>
            <a:gdLst>
              <a:gd name="textAreaLeft" fmla="*/ 104400 w 457200"/>
              <a:gd name="textAreaRight" fmla="*/ 352800 w 45720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0"/>
            <a:ext cx="80773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is picture showed sandstorm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沙尘暴）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n this summer,it happened in Beijing and Tianjin and many other cities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22" descr=""/>
          <p:cNvPicPr/>
          <p:nvPr/>
        </p:nvPicPr>
        <p:blipFill>
          <a:blip r:embed="rId1"/>
          <a:stretch/>
        </p:blipFill>
        <p:spPr>
          <a:xfrm>
            <a:off x="-838080" y="0"/>
            <a:ext cx="9982080" cy="6551640"/>
          </a:xfrm>
          <a:prstGeom prst="rect">
            <a:avLst/>
          </a:prstGeom>
          <a:ln w="0">
            <a:noFill/>
          </a:ln>
        </p:spPr>
      </p:pic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8229600" y="6553080"/>
            <a:ext cx="457200" cy="30492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64771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If we don’t pay attention to the environment , maybe one day , we will be like this person here, using the mask( </a:t>
            </a:r>
            <a:r>
              <a:rPr b="0" lang="zh-CN" sz="3200" spc="-1" strike="noStrike">
                <a:solidFill>
                  <a:srgbClr val="660066"/>
                </a:solidFill>
                <a:latin typeface="Times New Roman"/>
              </a:rPr>
              <a:t>面具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</a:rPr>
              <a:t>）</a:t>
            </a:r>
            <a:r>
              <a:rPr b="0" lang="zh-CN" sz="4000" spc="-1" strike="noStrike">
                <a:solidFill>
                  <a:srgbClr val="660066"/>
                </a:solidFill>
                <a:latin typeface="Times New Roman"/>
              </a:rPr>
              <a:t>Do you think s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NewsMedia_20798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4824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rId2" action="ppaction://hlinksldjump"/>
          </p:cNvPr>
          <p:cNvSpPr/>
          <p:nvPr/>
        </p:nvSpPr>
        <p:spPr>
          <a:xfrm>
            <a:off x="8458200" y="655308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17268" y="7493"/>
                </a:moveTo>
                <a:lnTo>
                  <a:pt x="20776" y="7493"/>
                </a:lnTo>
                <a:lnTo>
                  <a:pt x="20776" y="12828"/>
                </a:lnTo>
                <a:cubicBezTo>
                  <a:pt x="20776" y="13751"/>
                  <a:pt x="21576" y="14482"/>
                  <a:pt x="22612" y="14482"/>
                </a:cubicBezTo>
                <a:lnTo>
                  <a:pt x="24275" y="14482"/>
                </a:lnTo>
                <a:cubicBezTo>
                  <a:pt x="25310" y="14482"/>
                  <a:pt x="26111" y="13751"/>
                  <a:pt x="26111" y="12828"/>
                </a:cubicBezTo>
                <a:lnTo>
                  <a:pt x="26111" y="7493"/>
                </a:lnTo>
                <a:lnTo>
                  <a:pt x="24275" y="7493"/>
                </a:lnTo>
                <a:lnTo>
                  <a:pt x="27782" y="3985"/>
                </a:lnTo>
                <a:lnTo>
                  <a:pt x="31455" y="7493"/>
                </a:lnTo>
                <a:lnTo>
                  <a:pt x="29619" y="7493"/>
                </a:lnTo>
                <a:lnTo>
                  <a:pt x="29619" y="12828"/>
                </a:lnTo>
                <a:cubicBezTo>
                  <a:pt x="29619" y="15596"/>
                  <a:pt x="27042" y="18155"/>
                  <a:pt x="24275" y="18155"/>
                </a:cubicBezTo>
                <a:lnTo>
                  <a:pt x="22612" y="18155"/>
                </a:lnTo>
                <a:cubicBezTo>
                  <a:pt x="19844" y="18155"/>
                  <a:pt x="17268" y="15596"/>
                  <a:pt x="17268" y="12828"/>
                </a:cubicBezTo>
                <a:close/>
              </a:path>
            </a:pathLst>
          </a:cu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5257800"/>
            <a:ext cx="9144000" cy="1190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so many trees were cut down ,so when a heavy rain comes ,a lot of people die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kill1" descr=""/>
          <p:cNvPicPr/>
          <p:nvPr/>
        </p:nvPicPr>
        <p:blipFill>
          <a:blip r:embed="rId1"/>
          <a:stretch/>
        </p:blipFill>
        <p:spPr>
          <a:xfrm>
            <a:off x="-380880" y="0"/>
            <a:ext cx="10972800" cy="5068800"/>
          </a:xfrm>
          <a:prstGeom prst="rect">
            <a:avLst/>
          </a:prstGeom>
          <a:ln w="0">
            <a:noFill/>
          </a:ln>
        </p:spPr>
      </p:pic>
      <p:sp>
        <p:nvSpPr>
          <p:cNvPr id="72" name="">
            <a:hlinkClick r:id="rId2" action="ppaction://hlinksldjump"/>
          </p:cNvPr>
          <p:cNvSpPr/>
          <p:nvPr/>
        </p:nvSpPr>
        <p:spPr>
          <a:xfrm>
            <a:off x="8305920" y="6095880"/>
            <a:ext cx="533160" cy="304920"/>
          </a:xfrm>
          <a:custGeom>
            <a:avLst/>
            <a:gdLst>
              <a:gd name="textAreaLeft" fmla="*/ 0 w 533160"/>
              <a:gd name="textAreaRight" fmla="*/ 533520 w 5331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952880"/>
            <a:ext cx="9144000" cy="1556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is is the bone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骨头）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f  a kind of animals in Tibet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西藏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They were killed by our human being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人类）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who know the animals’ Chinese nam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NewsMedia_196856" descr=""/>
          <p:cNvPicPr/>
          <p:nvPr/>
        </p:nvPicPr>
        <p:blipFill>
          <a:blip r:embed="rId1"/>
          <a:stretch/>
        </p:blipFill>
        <p:spPr>
          <a:xfrm>
            <a:off x="-457200" y="533520"/>
            <a:ext cx="9601200" cy="6118200"/>
          </a:xfrm>
          <a:prstGeom prst="rect">
            <a:avLst/>
          </a:prstGeom>
          <a:ln w="0">
            <a:noFill/>
          </a:ln>
        </p:spPr>
      </p:pic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152280 w 609480"/>
              <a:gd name="textAreaRight" fmla="*/ 457200 w 609480"/>
              <a:gd name="textAreaTop" fmla="*/ 4752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0"/>
            <a:ext cx="5790960" cy="1312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A lot of fish died , because of water pollution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污染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NewsMedia_128603" descr=""/>
          <p:cNvPicPr/>
          <p:nvPr/>
        </p:nvPicPr>
        <p:blipFill>
          <a:blip r:embed="rId1"/>
          <a:stretch/>
        </p:blipFill>
        <p:spPr>
          <a:xfrm>
            <a:off x="1143000" y="-1066680"/>
            <a:ext cx="7169040" cy="845820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8763120" y="6095880"/>
            <a:ext cx="380880" cy="76212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2239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ctories  were pouring dirty water in the ri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6T10:59:30Z</dcterms:created>
  <dc:creator>WW</dc:creator>
  <dc:description/>
  <dc:language>en-US</dc:language>
  <cp:lastModifiedBy>WW</cp:lastModifiedBy>
  <dcterms:modified xsi:type="dcterms:W3CDTF">2002-09-30T07:46:19Z</dcterms:modified>
  <cp:revision>58</cp:revision>
  <dc:subject/>
  <dc:title>没有幻灯片标题</dc:title>
</cp:coreProperties>
</file>