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8BB0-FE5E-4C5A-8331-7F8B5FA7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05E-6A69-41A5-B0A7-43DFE375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EED-2A57-4552-9A6A-5E86A0A6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72D-7FB9-4A3E-9267-8353B61C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80F6-6137-4663-A254-CA94C7B7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1879-6BA5-4145-9C0F-CCA118C9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8E3E-3928-47F6-B6F0-D901B054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3410-FC6E-4D5E-AE7F-C992BAD1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2FFC-D7D3-4D9B-8445-F61BEA6E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1F4B-3583-4670-A5C7-017E0349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8F1D-29D3-4DD4-A0F2-32435AA4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6E1-71F6-40E3-82F3-1B6E02E6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9680-1EC1-4FE5-9F1A-20C6C264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A4FD-F2AB-4634-831F-457CE927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8B85-256D-40B7-9083-B6393C2C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C300-5CE7-4391-8C98-A19F483C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5AD1-49D5-45B8-BBAD-E7BBE771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5609-FF68-4326-A237-32F68673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099-7E5B-4C78-B7FE-1F866C98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303-ADF3-4A21-85D6-4031A507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7CE-3ABA-45C0-BC47-08539AAC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B2E-2143-445C-8604-BE350D8F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936-FB6F-4F60-A2D0-89061040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242-B153-450C-BECE-ECA3F5D9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1F4D-5EEE-486C-811C-7C30DEB9F090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06C7-6B41-4B46-9BEA-86721051C31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1337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Unit 14 Mainly revis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9295b"/>
                </a:solidFill>
                <a:latin typeface="Arial"/>
              </a:rPr>
              <a:t>Lesson 55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Book Two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Language poi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help oneself to sth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此句型用于主人招待客人时，意为：别客气，随便吃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喝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)……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当你应邀参加宴会时，主人会对你说这样的话。意思是让你随便吃饭和菜，有对也表示随便取某物。此句型是一句常用的客套语。主人请客人不必拘束或客气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跟在家一样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–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Help yourself to some chicken, Jim. – Yes, I will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a piece of cake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有两层意思，其一是“一块蛋糕”；其二是“小菜一碟”，言外之意是“小事情”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E.g. –I’m not sure how to do this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   –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It’s a piece of cake, let me show you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at a party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在聚会上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everyday (adj.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每天的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日常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every day (n.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每一天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-15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Arial"/>
              </a:rPr>
              <a:t>Part 3 Practis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Arial"/>
              </a:rPr>
              <a:t>Useful expressions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May I have some fish, please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Could you pass me some fish, please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Help yourself t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Help yourself to some dumpling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Would you lik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Yes, pleas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Yes, just a littl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Yes, one more pleas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No, thank you.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8380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8380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80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3808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83808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83808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83808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8380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24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9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900"/>
                            </p:stCondLst>
                            <p:childTnLst>
                              <p:par>
                                <p:cTn id="2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150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7401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8401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220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602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1602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30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903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3903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12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103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6103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10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7203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8203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90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104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1104"/>
                            </p:stCondLst>
                            <p:childTnLst>
                              <p:par>
                                <p:cTn id="2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170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497520" y="836640"/>
            <a:ext cx="10149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选词填空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se are vegetable sandwiches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elp_________ (yourself, yourselves), children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e had some noodles ____ (for, with) supp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yesterday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 boy ___ (in, on) the right looks like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r Wang’s son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 chicken is more delicious. Do you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need __________(some, any)more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iss Gao teaches her students _______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nglish __________.(everyday,every day)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6280" y="177336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ourselv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78640" y="226224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8160" y="3341520"/>
            <a:ext cx="6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26880" y="47815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59240" y="522936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everyday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26520" y="5661000"/>
            <a:ext cx="18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every day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Rewrite the drills without changing their meaning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. How delicious the food is!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 ________ ______ it is!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. We need two more grape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We need ________ ______ grape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3. What’s the price of the coat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 ______ ______ the coat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4. We all enjoyed ourselves at the get - together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We all ______ ______ ______ ______ at the get - together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5. Don’t forget to bring some food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____ to bring some food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1219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7880" y="1219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liciou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57680" y="1219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o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9720" y="228600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other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wo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3640" y="32767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ow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82960" y="3276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uch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4600" y="32767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00240" y="42670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27640" y="4267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4267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goo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73680" y="42894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5715000"/>
            <a:ext cx="213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member 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Homework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64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 Recite the dialogues in the text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. Make his own dialogue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.Finish off the workbook exercise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o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Happy New Year!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495680" y="4495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391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-361800" y="895320"/>
            <a:ext cx="10107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根据汉语完成句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ould you like some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葡萄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,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hildren? They’re quite sweet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 Mother bought two ___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西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 th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orn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. She never eats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鱼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he usually eats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牛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. A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鸭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 can swim,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ut a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兔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 can’t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5. Could you passs me some __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饺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25640" y="1282680"/>
            <a:ext cx="16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grapes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96720" y="2282760"/>
            <a:ext cx="29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watermelons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6160" y="328464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68720" y="379584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eef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60720" y="422748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duck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4480" y="47242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rabbi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35360" y="515772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dumplings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8" name="" descr="">
            <a:hlinkClick r:id="rId2" action="ppaction://hlinksldjump"/>
          </p:cNvPr>
          <p:cNvPicPr/>
          <p:nvPr/>
        </p:nvPicPr>
        <p:blipFill>
          <a:blip r:embed="rId3"/>
          <a:srcRect l="8009" t="17613" r="33488" b="22018"/>
          <a:stretch/>
        </p:blipFill>
        <p:spPr>
          <a:xfrm>
            <a:off x="0" y="5911920"/>
            <a:ext cx="122400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708360" y="2708280"/>
            <a:ext cx="2057400" cy="1422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588000" y="0"/>
            <a:ext cx="2133720" cy="2079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762120" y="73152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492360" y="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324000" y="2492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6084720" y="4797360"/>
            <a:ext cx="2133720" cy="1633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6948360" y="2637000"/>
            <a:ext cx="1814760" cy="1828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1476360" y="4941720"/>
            <a:ext cx="2286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Revision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Revise </a:t>
            </a:r>
            <a:r>
              <a:rPr b="0" i="1" lang="zh-CN" sz="3200" spc="-1" strike="noStrike">
                <a:solidFill>
                  <a:srgbClr val="9900ff"/>
                </a:solidFill>
                <a:latin typeface="Arial"/>
              </a:rPr>
              <a:t>Shopping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981080"/>
            <a:ext cx="518148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Presentation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286000" cy="1776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00400" y="41148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187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200400" y="1523880"/>
            <a:ext cx="2644920" cy="1791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095880" y="1447920"/>
            <a:ext cx="2743200" cy="1976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5867280" y="3733920"/>
            <a:ext cx="301788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4019400"/>
            <a:ext cx="8964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Uncountable Nouns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hicken, fish, rice, bread, beef, duck,tofu etc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ountable Nouns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pples, grapes, melons, cakes, dumplings etc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3276720" cy="2306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809880" y="228600"/>
            <a:ext cx="236232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324480" y="304920"/>
            <a:ext cx="2590920" cy="213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0" y="2590920"/>
            <a:ext cx="91440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50600" y="105264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Part 1 Practic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Listen and answe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 Why does Ann want more meat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 When are Ann and her mother going to buy more food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. What did Ann’s mother buy this morning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. What else do they want to buy?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Practice 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11080" y="110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40800" y="2633760"/>
            <a:ext cx="62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en people are coming for dinner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412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Language poi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uy         bough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need to do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uy sth for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ome for dinn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ore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.g.  Would you like another mooncake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= Would you like one more mooncake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3716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ecff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Part 2 Practis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90720" y="-3052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Practice 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533412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25560" y="1052640"/>
            <a:ext cx="7391520" cy="5543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84360" y="4005360"/>
            <a:ext cx="1073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eef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440" y="1700280"/>
            <a:ext cx="114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duck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407664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￥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15 / kilo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5440" y="5157720"/>
            <a:ext cx="1325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rabbi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75400" y="5157720"/>
            <a:ext cx="1557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￥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20 / kilo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905120" y="1246320"/>
            <a:ext cx="59436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10:04:39Z</dcterms:created>
  <dc:creator>chenhuaxiu</dc:creator>
  <dc:description/>
  <dc:language>en-US</dc:language>
  <cp:lastModifiedBy>lingao</cp:lastModifiedBy>
  <dcterms:modified xsi:type="dcterms:W3CDTF">2005-12-21T03:13:06Z</dcterms:modified>
  <cp:revision>46</cp:revision>
  <dc:subject/>
  <dc:title>Unit 14 Mainly revision  Lesson 55  Book Two</dc:title>
</cp:coreProperties>
</file>