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wmf" ContentType="image/x-wmf"/>
  <Override PartName="/ppt/media/image2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20E-E05C-4C42-946A-7ED17A8C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8D0-157C-438A-8E79-1AF7A0A6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0BD-0B81-4B41-BB1D-145F2BE0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68B-873A-40E9-B283-5D324B67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38C-6986-49A0-B80E-D1B0F199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D9C-43B7-4ABF-9505-A2E15483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B22-A30B-436A-A231-226D64E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96A-853D-48E5-A542-A1FB7011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340-6F98-433F-B72A-52D85583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839-EB04-4343-B5DB-450E60B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A9E-5F27-463D-B21A-47B8846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3B1-DE6F-4D99-AC66-A537268C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6CDE-4842-4230-898A-57D3BAF673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cean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B_023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589040" cy="1235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3480" y="32544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oper Black"/>
              </a:rPr>
              <a:t>Lesson 62      The 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33120" y="6095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March 16</a:t>
            </a:r>
            <a:r>
              <a:rPr b="1" lang="en-US" sz="18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0" y="60958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imes New Roman"/>
              </a:rPr>
              <a:t>浙江椒江一中   田逢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J_046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200" y="15228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560" y="91440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he earth looks blue from the space because it is so fa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640" y="152388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.Only a few people have seen much of the earth’s solid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133720"/>
            <a:ext cx="81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.Altogether there are eleven minerals that make up the sal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of the oc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280" y="28954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.Chemicals produced by seaweeds help keep the seawater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120" y="350532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5.The surface water of the Mediterranean in summer can reac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o 25°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120" y="43434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6.According to the passage,if the sea loses a lot of water to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re Might be parts of salt per thousand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280" y="52578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7.Carol beds can be seen everywhere in the sea all over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960" y="579132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8.Corals must live in clean water and dirty water will kill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440" y="75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440" y="14479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20574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000" y="2743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000" y="3352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440" y="426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440" y="5181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320" y="5715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391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FJ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790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1960" y="457200"/>
            <a:ext cx="312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352680"/>
            <a:ext cx="86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How can we protect our se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5105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BJ_00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2440" y="22860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0680" y="2076480"/>
            <a:ext cx="75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 the text again and try to re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inish off the exercises in the work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sd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_00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32640" cy="5105160"/>
          </a:xfrm>
          <a:prstGeom prst="rect">
            <a:avLst/>
          </a:prstGeom>
          <a:ln w="0">
            <a:noFill/>
          </a:ln>
        </p:spPr>
      </p:pic>
      <p:pic>
        <p:nvPicPr>
          <p:cNvPr id="48" name="B_018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543800" cy="9223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035000" y="1066680"/>
            <a:ext cx="26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e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041120" y="175248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ast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041840" y="243828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eful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068120" y="312408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nguage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3560" y="43434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1035000" y="373392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OBE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8660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3071400">
            <a:off x="1084320" y="432324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240" y="9907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Arc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3200400">
            <a:off x="2935440" y="3312720"/>
            <a:ext cx="240048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 rot="3411600">
            <a:off x="5750280" y="3621960"/>
            <a:ext cx="1600200" cy="75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440" y="1676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960" y="2895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3080" y="1752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320" y="35812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2680" y="5410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ntarc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2826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lk about th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3809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ce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J_01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251460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How does sea water stay cl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4600" y="3809880"/>
            <a:ext cx="681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Where is the longest coral bed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1720" y="1600200"/>
            <a:ext cx="713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How salty is the water in the ocean?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5%    11%   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4240" y="518148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.Where is  the saltiest lake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040" y="380880"/>
            <a:ext cx="86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sten to the tape and then answer 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273800">
            <a:off x="2254320" y="174276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7800" y="2971800"/>
            <a:ext cx="58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eaweeds produce various chemic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at keep the sea cl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7080" y="472428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57150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Grand Salt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4876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581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J_04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920" y="1600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280" y="2610000"/>
            <a:ext cx="451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b6f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cea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diterrane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ad S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at Salt Lak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29200" y="23860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1b6f"/>
                </a:solidFill>
                <a:latin typeface="Times New Roman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680" y="32004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0240" y="38862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8000" y="44956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8000" y="51055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84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s206_01b_pic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03400" y="20160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: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2680" y="331164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dth: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440" y="4530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mperature: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1480" y="5673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alt: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46440" y="194004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,7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2760" y="32353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,8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360" y="44956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5℃-29 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2400" y="56736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7-39 parts per thou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12952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mething about Mediterran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162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h0026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69080" y="472428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oral 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720" y="13716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ditions for co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0040" y="22096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920" y="32418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200" y="415620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760" y="518148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280" y="220968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ater temperature above 20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3241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lent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191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lea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3640" y="51465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epth of less than 60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160" y="15238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8640" y="243828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000" y="3733920"/>
            <a:ext cx="42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280" y="4952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srael99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3080" y="3452760"/>
            <a:ext cx="405000" cy="1014480"/>
          </a:xfrm>
          <a:custGeom>
            <a:avLst/>
            <a:gdLst/>
            <a:ahLst/>
            <a:rect l="l" t="t" r="r" b="b"/>
            <a:pathLst>
              <a:path w="255" h="639">
                <a:moveTo>
                  <a:pt x="214" y="50"/>
                </a:moveTo>
                <a:cubicBezTo>
                  <a:pt x="166" y="83"/>
                  <a:pt x="167" y="143"/>
                  <a:pt x="136" y="190"/>
                </a:cubicBezTo>
                <a:cubicBezTo>
                  <a:pt x="128" y="244"/>
                  <a:pt x="124" y="315"/>
                  <a:pt x="83" y="356"/>
                </a:cubicBezTo>
                <a:cubicBezTo>
                  <a:pt x="69" y="416"/>
                  <a:pt x="80" y="380"/>
                  <a:pt x="40" y="461"/>
                </a:cubicBezTo>
                <a:cubicBezTo>
                  <a:pt x="24" y="493"/>
                  <a:pt x="14" y="539"/>
                  <a:pt x="5" y="574"/>
                </a:cubicBezTo>
                <a:cubicBezTo>
                  <a:pt x="8" y="589"/>
                  <a:pt x="0" y="612"/>
                  <a:pt x="14" y="618"/>
                </a:cubicBezTo>
                <a:cubicBezTo>
                  <a:pt x="67" y="639"/>
                  <a:pt x="83" y="617"/>
                  <a:pt x="110" y="592"/>
                </a:cubicBezTo>
                <a:cubicBezTo>
                  <a:pt x="148" y="513"/>
                  <a:pt x="106" y="610"/>
                  <a:pt x="136" y="469"/>
                </a:cubicBezTo>
                <a:cubicBezTo>
                  <a:pt x="143" y="436"/>
                  <a:pt x="188" y="382"/>
                  <a:pt x="188" y="382"/>
                </a:cubicBezTo>
                <a:cubicBezTo>
                  <a:pt x="191" y="370"/>
                  <a:pt x="193" y="358"/>
                  <a:pt x="197" y="347"/>
                </a:cubicBezTo>
                <a:cubicBezTo>
                  <a:pt x="202" y="335"/>
                  <a:pt x="210" y="324"/>
                  <a:pt x="214" y="312"/>
                </a:cubicBezTo>
                <a:cubicBezTo>
                  <a:pt x="229" y="266"/>
                  <a:pt x="233" y="218"/>
                  <a:pt x="249" y="173"/>
                </a:cubicBezTo>
                <a:cubicBezTo>
                  <a:pt x="246" y="123"/>
                  <a:pt x="255" y="72"/>
                  <a:pt x="240" y="24"/>
                </a:cubicBezTo>
                <a:cubicBezTo>
                  <a:pt x="233" y="0"/>
                  <a:pt x="157" y="80"/>
                  <a:pt x="214" y="5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7720" y="236232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inerals from thousands of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prings and the River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2240" y="37339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ttle rai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20" y="487692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 river flowing out of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0878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The Dea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4400" y="152280"/>
            <a:ext cx="85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proper words or phr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858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lt to every thousand parts of water,or25%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9760" y="736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880" y="119376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th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40480" y="11430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800" y="157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96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2438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120" y="2819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1040" y="3276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240" y="36576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320" y="4114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2320" y="4572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560" y="4572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334120"/>
            <a:ext cx="8229600" cy="1523880"/>
          </a:xfrm>
          <a:prstGeom prst="horizontalScroll">
            <a:avLst>
              <a:gd name="adj" fmla="val 9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n from the plane,(=When it is seen from the plane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.Folded up along the lines, the paper will be a littl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When/If it is folded up along the line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4120"/>
            <a:ext cx="8305920" cy="16761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/be made u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stories make up the whol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ok is made up of these three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81480"/>
            <a:ext cx="8305920" cy="19051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kers are pai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is s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pound, eggs by the d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cloth by the y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77240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Terence</cp:lastModifiedBy>
  <dcterms:modified xsi:type="dcterms:W3CDTF">1999-12-16T17:06:39Z</dcterms:modified>
  <cp:revision>16</cp:revision>
  <dc:subject/>
  <dc:title>PowerPoint 演示文稿</dc:title>
</cp:coreProperties>
</file>