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941-EBA1-4BE6-B637-45C467A7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41B2-92E5-48EA-993F-EE43CF1A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4F9-AB6F-4D14-9C61-C843ED6C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F0B-A8B7-4632-9F2D-310FF562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A2D-F449-4950-9E57-0CA0ED28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DAE-FF63-48CB-A894-D56A98DC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059-0D6E-46F4-802D-2D13914E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FAF6-234E-43A3-9280-C390CF0F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37D-ECC8-45FB-84D2-0E6D7946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0DC-876A-4CA0-B06E-6AE9195C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439-BC65-4C74-96AD-1E79D2EE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71CA-74DE-49FC-9B07-FE2A24D6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4D16-1D12-4DC7-A923-2E9BC68382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859240YIZAAgwxQ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33660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Money is not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It can buy you a house but not a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It can buy you a bed but not sle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6694789DCxkenpKXn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289548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a clock but no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books but not knowled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695026qjUlFEoDK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1523880"/>
            <a:ext cx="5953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blood but not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sex but not lo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6793365FabZdmYCCF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51814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a position but not resp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can buy you medicine but not heal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6695245LzskAPqpjQ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5120" y="2590920"/>
            <a:ext cx="693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ney may not be the root of all evi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it often brings us anguish and regr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694891lLxigTZtRh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228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w I would like to tell you how to solve the problem, my dear frien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I hope you will forward the solution to other friends of y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6694676DHnqOTFmA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45720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Give all your money to me. Let me suffer from the anguish for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Right now, Ok? :-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6:32:35Z</dcterms:created>
  <dc:creator>Peggy Pan</dc:creator>
  <dc:description/>
  <dc:language>en-US</dc:language>
  <cp:lastModifiedBy>Lyq</cp:lastModifiedBy>
  <dcterms:modified xsi:type="dcterms:W3CDTF">2001-12-14T06:41:37Z</dcterms:modified>
  <cp:revision>19</cp:revision>
  <dc:subject/>
  <dc:title>没有幻灯片标题</dc:title>
</cp:coreProperties>
</file>