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B53-F6FA-4FF0-BC29-C6593556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292-E1DD-4569-A4F0-C5C2BA2C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D69-76E4-4CEC-B82D-19361926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A69-612A-49A0-8249-C4269C22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6B47-16A9-44F7-A96B-EF91CA7E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B694-D57A-42C3-AD53-D2BEB251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6A6C-1450-47EB-92DA-B13C35A7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FCBE-7F8B-48E4-AABA-6647181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6E7-C673-48B4-AD57-1CFA79E4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24E0-6533-40AF-A453-3D0AD8C3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C0E-2858-4C19-A6BB-5D25340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E90-4D6E-42AE-99BC-8E4AC286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9B3A-A1BE-433E-8D75-62D1096A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6B4F-A5C5-430C-873C-FC13470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B49B-BD84-4BCA-9D4B-D1AB39F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B510-0920-4AA3-9FB9-A7988C30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6B8F-E7AD-4800-B1F4-7543A453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6D0-A098-4477-A5B6-F401476E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BD5-EF1B-46D6-8A62-890465BE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2F2-B378-4DC2-913A-E2DE0B53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735-9EEF-44D0-9A32-6679F649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227-8D9B-480A-988E-6804615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2E3-2C18-46D6-9E20-56635767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D84-8579-4E1C-A446-7E742FE1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0DE-3031-41AD-93E2-7CAD76AAB48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48C7-6C8D-42F2-ACAD-28221B1D14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四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67652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B. can     C. need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82880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C. must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42440" y="60912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. mu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7316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31520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D. migh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can’t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. can’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949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112920"/>
            <a:ext cx="7924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talk on … 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854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572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105520"/>
            <a:ext cx="5790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558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19320" y="4387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d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76160" y="2590560"/>
            <a:ext cx="297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 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Medical Conference 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2286000" cy="218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25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r. Ba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Unit 25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下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86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4481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ed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2417760" cy="23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ugh he was a bit surprised, because he was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752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 the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105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xpert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21004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4295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d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527200" cy="275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1752480"/>
            <a:ext cx="3200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rri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some peopl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ere also surpris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see him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23200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50920" y="4292640"/>
            <a:ext cx="4826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ight speaker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give a talk on …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3429000"/>
            <a:ext cx="403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was even more surprised, because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new noth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6765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that morning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right spe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uldn’t come, and Dr. Baker was asked 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 a talk 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209680" cy="18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4267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d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2232360" cy="280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1447920"/>
            <a:ext cx="3429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n they found out someon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had made a careless mist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the name li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062080" cy="1820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95640" y="403848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1905120" cy="178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2946240"/>
            <a:ext cx="464832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stands for illnesses of ea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e and thr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700280"/>
            <a:ext cx="6324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tunately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Dr. L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was just going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alk on 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5238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0"/>
            <a:ext cx="739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812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886200"/>
            <a:ext cx="797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 the phone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52680" y="1916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05120" y="3809880"/>
            <a:ext cx="5790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 interest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92360" cy="3352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1523880"/>
            <a:ext cx="36576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Baker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ave a very good tal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later that day and everyone at the conferenc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 very interes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 an invitation from a  Medical Conference ____ London. He got a bit ____ because they didn’t usually ____ him to such conferences. He wondered 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 the invitation. A few months 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 Dr. Baker to give the talk. Dr. Baker ____ very surprised because he was not an 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, but different given 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2240" y="1163520"/>
            <a:ext cx="78645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___ an invitation from a  Medical Conference _____ London. He got a bit _________ because they didn’t usually _____ him to such conferences. He wondered __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244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urpr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5720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1317600"/>
            <a:ext cx="7239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____ the invitation. A few months __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92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220500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9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81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537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1273320"/>
            <a:ext cx="7620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1268280"/>
            <a:ext cx="838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492280"/>
            <a:ext cx="121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141720"/>
            <a:ext cx="20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beca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3792600"/>
            <a:ext cx="685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5084640"/>
            <a:ext cx="1143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81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780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982960"/>
            <a:ext cx="774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97360"/>
            <a:ext cx="782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735440"/>
            <a:ext cx="790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___  the phon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rgan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0481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9625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1523880"/>
            <a:ext cx="69343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__ Dr. Baker to give the talk. Dr. Baker ____ very surprised because he was not an __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1844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s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27813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616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exp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1600200"/>
            <a:ext cx="7696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_, but different given ___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773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458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58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18446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565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284640"/>
            <a:ext cx="4129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ould you mi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doing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464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22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make oneself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916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37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答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您做…好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5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是这个主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272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. invitation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受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592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某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886200"/>
            <a:ext cx="2057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到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5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拒绝某人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91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2362320"/>
            <a:ext cx="4038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30481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giv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.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3809880"/>
            <a:ext cx="471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4572000"/>
            <a:ext cx="47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fus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’s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562720"/>
            <a:ext cx="472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33556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end o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62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1600" y="2254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某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092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91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6450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自某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178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the invitation of s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3016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on / up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3778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o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540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1996 Medical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ference in London. (P.42 L.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414600"/>
            <a:ext cx="77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昨天我收到了汤姆请我参加生日聚会的请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979800"/>
            <a:ext cx="769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d an invita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rom T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his birthday party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19320" y="190512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怀特小姐拒绝了汤姆请她吃晚饭的邀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78136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s White refused Tom’s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24922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02572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她发出了许多参加她的婚礼的邀请，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没有收到任何答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6400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sent out many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er wedding, but she hasn’t received any reply to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447920"/>
            <a:ext cx="79898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to +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ask sb. to come to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arty, wedding,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21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hould w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3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他参加你的生日聚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好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61484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m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our birthday party, shall 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35080"/>
            <a:ext cx="7257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959200"/>
            <a:ext cx="774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79027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. for a drink /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743200"/>
            <a:ext cx="8353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y don’t you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er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club one even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508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咱们请他们过来喝点东西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10552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he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ver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20574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to do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th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781360"/>
            <a:ext cx="7981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thinking of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ing them to spe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ummer with us in Ita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4437000"/>
            <a:ext cx="76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汤姆想邀请他同学周末一起去游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4797360"/>
            <a:ext cx="77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m wants to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s classmates to g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wimming at the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19320" y="167652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2. 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&amp; vi. 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330280"/>
            <a:ext cx="76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i.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to sth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1240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eas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my question righ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960" y="4495680"/>
            <a:ext cx="69501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er where she was go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didn’t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178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48292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“Certainly, Sir.”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he didn’t know the secr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06640" y="16588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06640" y="66780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7238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have had 60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ertisement so f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6480" y="4135320"/>
            <a:ext cx="690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im if I could help,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de no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he pleas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himself 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me? (P.42 Para.3 L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1523880"/>
            <a:ext cx="79246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nderstood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oneself        seen               …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belie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182880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8320 h 3962520"/>
              <a:gd name="textAreaBottom" fmla="*/ 3904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5400" y="10800"/>
                  <a:pt x="0" y="10800"/>
                </a:cubicBezTo>
                <a:cubicBezTo>
                  <a:pt x="54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&amp;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re are all my friends.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like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yoursel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到前面来，这样大家就能看清楚你了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771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come to the front in order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yourself see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lear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4343400"/>
            <a:ext cx="670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please speak slow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make yourself 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52760" y="4948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95280" y="281952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mind giving a ta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 about DNA? (P.42 Para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4. Would you mind doing sth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807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35080"/>
            <a:ext cx="712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59200"/>
            <a:ext cx="7602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886200"/>
            <a:ext cx="77612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048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96252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ese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66680" y="1989000"/>
            <a:ext cx="6961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Would you mind wait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f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minu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299736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再多等一会儿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76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7047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外出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帮忙照顾我的孩子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4960800"/>
            <a:ext cx="696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Would mind keep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ey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my child while I’m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19320" y="1523880"/>
            <a:ext cx="37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5. very </a:t>
            </a: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2701800"/>
            <a:ext cx="723744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Dr. Lively was going to tal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bject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P.43 Para.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ing I ne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3132000"/>
            <a:ext cx="7543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decided to leave on 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n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1752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正是我要找的那本书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2514600"/>
            <a:ext cx="66294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ook I 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f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396252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前你就是在这家医院出生的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4572000"/>
            <a:ext cx="64008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were born in this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spital 15 years ag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19810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03848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0720" y="4173480"/>
            <a:ext cx="782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19112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752480"/>
            <a:ext cx="75866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4249800"/>
            <a:ext cx="6513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7524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95560" y="4044960"/>
            <a:ext cx="64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5040" y="490068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yourself 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1680" y="55692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700280"/>
            <a:ext cx="73454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39680" y="4121280"/>
            <a:ext cx="733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__________ his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4760" y="5569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700280"/>
            <a:ext cx="741672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4325760"/>
            <a:ext cx="7456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 __________ his letter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5800" y="430056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75248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0880"/>
            <a:ext cx="77472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429000"/>
            <a:ext cx="7272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800600"/>
            <a:ext cx="8062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4173480"/>
            <a:ext cx="79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67652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14400" y="3944880"/>
            <a:ext cx="808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400536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he 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676520"/>
            <a:ext cx="7682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14400" y="4173480"/>
            <a:ext cx="825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5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66680" y="1752480"/>
            <a:ext cx="760896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4191120"/>
            <a:ext cx="802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2354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ind s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676520"/>
            <a:ext cx="7392960" cy="175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上节课的部分作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口头复述课文的情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习、巩固了上节课的语法要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继续归纳总结了本单元的语言知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835280"/>
            <a:ext cx="6705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103. 2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 101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review Unit 2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820880"/>
            <a:ext cx="746784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429000"/>
            <a:ext cx="78375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0060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357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64832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1828800"/>
            <a:ext cx="7791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B. can  C. need  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9:39:22Z</dcterms:created>
  <dc:creator>acer</dc:creator>
  <dc:description/>
  <dc:language>en-US</dc:language>
  <cp:lastModifiedBy>Zhang Lingdi</cp:lastModifiedBy>
  <dcterms:modified xsi:type="dcterms:W3CDTF">2003-06-15T10:25:39Z</dcterms:modified>
  <cp:revision>203</cp:revision>
  <dc:subject/>
  <dc:title>PowerPoint 演示文稿</dc:title>
</cp:coreProperties>
</file>