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3.jpeg" ContentType="image/jpeg"/>
  <Override PartName="/ppt/media/image15.png" ContentType="image/png"/>
  <Override PartName="/ppt/media/image4.png" ContentType="image/png"/>
  <Override PartName="/ppt/media/image23.png" ContentType="image/png"/>
  <Override PartName="/ppt/media/image1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702-E4DE-4DCF-9D2D-679297E51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0FAE-C0F3-419F-9B24-782A8148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C57B-AF35-4ED4-86E7-E6B01330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B1E4-A808-4476-BB3B-8D6826DEF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6C46-0A34-4C97-91DF-AB3EA6F3F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05DC8-FA18-40CD-B4D6-1891EED35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243AC-2928-482C-BA3B-EA7FDDE0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7402-BBE0-4B55-9E37-282102C9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AABB-2AF4-4CDD-89F1-A8056FD98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BC4C-B83B-4A55-9094-457DC498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F4C8F-402F-43E0-A6D9-6913B4D3B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AD7D-59E0-4073-AF2C-5AB59C403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9BC06-A7D7-4C69-827B-A54AB5EE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8AE9E-739F-407B-A44E-845C48E6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F466-4083-41E6-A8F2-14D13267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E38C-6CA6-4E51-A486-B784A6D4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2A50-2C82-4B01-82A1-08C212E5F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40B4-4FF4-4908-A515-548F8D83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2476-F4F8-4B04-8844-61E6D362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7553-CE04-40F5-A5FC-9D8F2962C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9082-8C31-4F90-8855-94BEDA44C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273B-16AA-4F57-8995-0B64FCD0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DD14-8EE4-469D-A13A-6433A34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88D-1E20-4CFC-92C8-018E982CB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42F9-8A19-4331-9974-E7DAD39941E0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1027-ED7A-4446-821A-D559688591A1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hurrican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380880" y="228600"/>
            <a:ext cx="25909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Haettenschweiler"/>
              </a:rPr>
              <a:t>Lesson 42</a:t>
            </a:r>
            <a:endParaRPr b="1" lang="en-US" sz="8000" spc="1" strike="noStrike">
              <a:ln w="0">
                <a:noFill/>
              </a:ln>
              <a:solidFill>
                <a:srgbClr val="0033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Haettenschweiler"/>
              <a:ea typeface="Haettenschweiler"/>
            </a:endParaRPr>
          </a:p>
        </p:txBody>
      </p:sp>
      <p:sp>
        <p:nvSpPr>
          <p:cNvPr id="211" name=""/>
          <p:cNvSpPr/>
          <p:nvPr/>
        </p:nvSpPr>
        <p:spPr>
          <a:xfrm>
            <a:off x="1523880" y="5486400"/>
            <a:ext cx="6553440" cy="64260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50000">
                <a:srgbClr val="99ffcc"/>
              </a:gs>
              <a:gs pos="100000">
                <a:srgbClr val="46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湖南省怀化市第一中学  宫可成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85800" y="175248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e Hurrica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hurricane" descr=""/>
          <p:cNvPicPr/>
          <p:nvPr/>
        </p:nvPicPr>
        <p:blipFill>
          <a:blip r:embed="rId1"/>
          <a:stretch/>
        </p:blipFill>
        <p:spPr>
          <a:xfrm>
            <a:off x="380880" y="2743200"/>
            <a:ext cx="8366400" cy="37339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304920" y="228600"/>
            <a:ext cx="8458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Haettenschweiler"/>
              </a:rPr>
              <a:t>Could you describe the picture according to the third paragraph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905120"/>
            <a:ext cx="80010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方正舒体"/>
                <a:ea typeface="方正舒体"/>
              </a:rPr>
              <a:t>Many trees had been blown down by the high winds, blocking roads. Electricity lines as well as telephone poles were brought down by falling trees or branches</a:t>
            </a:r>
            <a:r>
              <a:rPr b="1" lang="en-US" sz="4800" spc="-1" strike="noStrike">
                <a:solidFill>
                  <a:srgbClr val="ff0000"/>
                </a:solidFill>
                <a:latin typeface="Arthritis (BRK)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3809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1371600"/>
            <a:ext cx="9144000" cy="524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.The winter of 1962in England was one of the coldest  _____ hi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.________January 1st ______March 20th the temperature below 0°C nearly every da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.The paths were difficult to walk on, especially ______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.There were many snow storms,with winds of up ________80 kp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5.Many branches of trees broke because ______ the weight _______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17524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" y="2362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Betw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495680" y="23623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388620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49528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43800" y="55627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6095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80880" y="1676520"/>
            <a:ext cx="8534520" cy="41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6.Trucks ran ______each other on the roads, which were covered _________i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7._________the day-time schoolchildren had great fun in the snow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8.One day in March two children were skating ______ a l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9.The ice broke and one of them fell ______ the wa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Practice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1280" y="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Fill in the blanks with suitable  preposi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95480" y="1676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91120" y="21337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with/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62120" y="2743200"/>
            <a:ext cx="2133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666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/Dur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33520" y="419112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238880" y="48006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i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609480" y="457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0"/>
            <a:ext cx="670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0" y="1219320"/>
            <a:ext cx="9144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subtitlewhathappens" descr=""/>
          <p:cNvPicPr/>
          <p:nvPr/>
        </p:nvPicPr>
        <p:blipFill>
          <a:blip r:embed="rId1"/>
          <a:stretch/>
        </p:blipFill>
        <p:spPr>
          <a:xfrm>
            <a:off x="0" y="380880"/>
            <a:ext cx="6248520" cy="1371600"/>
          </a:xfrm>
          <a:prstGeom prst="rect">
            <a:avLst/>
          </a:prstGeom>
          <a:ln w="0">
            <a:noFill/>
          </a:ln>
        </p:spPr>
      </p:pic>
      <p:pic>
        <p:nvPicPr>
          <p:cNvPr id="269" name="benitezsnapshot" descr=""/>
          <p:cNvPicPr/>
          <p:nvPr/>
        </p:nvPicPr>
        <p:blipFill>
          <a:blip r:embed="rId2"/>
          <a:stretch/>
        </p:blipFill>
        <p:spPr>
          <a:xfrm>
            <a:off x="838080" y="2057400"/>
            <a:ext cx="73915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meetstacy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581280"/>
          </a:xfrm>
          <a:prstGeom prst="rect">
            <a:avLst/>
          </a:prstGeom>
          <a:ln w="0">
            <a:noFill/>
          </a:ln>
        </p:spPr>
      </p:pic>
      <p:pic>
        <p:nvPicPr>
          <p:cNvPr id="271" name="meetpatrick" descr="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272" name="meetkristen" descr=""/>
          <p:cNvPicPr/>
          <p:nvPr/>
        </p:nvPicPr>
        <p:blipFill>
          <a:blip r:embed="rId3"/>
          <a:stretch/>
        </p:blipFill>
        <p:spPr>
          <a:xfrm>
            <a:off x="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273" name="meetpatricia" descr=""/>
          <p:cNvPicPr/>
          <p:nvPr/>
        </p:nvPicPr>
        <p:blipFill>
          <a:blip r:embed="rId4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BS00554_" descr=""/>
          <p:cNvPicPr/>
          <p:nvPr/>
        </p:nvPicPr>
        <p:blipFill>
          <a:blip r:embed="rId1"/>
          <a:stretch/>
        </p:blipFill>
        <p:spPr>
          <a:xfrm>
            <a:off x="5257800" y="3886200"/>
            <a:ext cx="2832120" cy="209700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808080"/>
            </a:outerShdw>
          </a:effectLst>
        </p:spPr>
      </p:pic>
      <p:sp>
        <p:nvSpPr>
          <p:cNvPr id="275" name=""/>
          <p:cNvSpPr txBox="1"/>
          <p:nvPr/>
        </p:nvSpPr>
        <p:spPr>
          <a:xfrm>
            <a:off x="533520" y="3581280"/>
            <a:ext cx="312408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Homework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2133720"/>
            <a:ext cx="6782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00"/>
                </a:solidFill>
                <a:latin typeface="Times New Roman"/>
              </a:rPr>
              <a:t>Ex. 2  on page 124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PE07677_" descr=""/>
          <p:cNvPicPr/>
          <p:nvPr/>
        </p:nvPicPr>
        <p:blipFill>
          <a:blip r:embed="rId2"/>
          <a:stretch/>
        </p:blipFill>
        <p:spPr>
          <a:xfrm>
            <a:off x="609480" y="533520"/>
            <a:ext cx="1676520" cy="1523880"/>
          </a:xfrm>
          <a:prstGeom prst="rect">
            <a:avLst/>
          </a:prstGeom>
          <a:ln w="0">
            <a:noFill/>
          </a:ln>
        </p:spPr>
      </p:pic>
      <p:pic>
        <p:nvPicPr>
          <p:cNvPr id="278" name="tree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21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iris_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200400" y="0"/>
            <a:ext cx="5943600" cy="155700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A hurricane is a powerful storm that measures several hundred miles in diameter 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直径</a:t>
            </a:r>
            <a:r>
              <a:rPr b="1" i="1" lang="zh-CN" sz="2400" spc="-1" strike="noStrike">
                <a:solidFill>
                  <a:srgbClr val="ff0000"/>
                </a:solidFill>
                <a:latin typeface="Verdana"/>
              </a:rPr>
              <a:t>). Hurricanes have two main part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titlehowhurrwork" descr=""/>
          <p:cNvPicPr/>
          <p:nvPr/>
        </p:nvPicPr>
        <p:blipFill>
          <a:blip r:embed="rId2"/>
          <a:stretch/>
        </p:blipFill>
        <p:spPr>
          <a:xfrm>
            <a:off x="-457200" y="5257800"/>
            <a:ext cx="63244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hurricane" descr=""/>
          <p:cNvPicPr/>
          <p:nvPr/>
        </p:nvPicPr>
        <p:blipFill>
          <a:blip r:embed="rId1"/>
          <a:stretch/>
        </p:blipFill>
        <p:spPr>
          <a:xfrm>
            <a:off x="1828800" y="1066680"/>
            <a:ext cx="5715000" cy="4572000"/>
          </a:xfrm>
          <a:prstGeom prst="rect">
            <a:avLst/>
          </a:prstGeom>
          <a:ln w="0">
            <a:noFill/>
          </a:ln>
        </p:spPr>
      </p:pic>
      <p:sp>
        <p:nvSpPr>
          <p:cNvPr id="218" name="PubRRectCallout"/>
          <p:cNvSpPr/>
          <p:nvPr/>
        </p:nvSpPr>
        <p:spPr>
          <a:xfrm flipV="1">
            <a:off x="3962520" y="4266360"/>
            <a:ext cx="5181480" cy="2590920"/>
          </a:xfrm>
          <a:custGeom>
            <a:avLst/>
            <a:gdLst>
              <a:gd name="textAreaLeft" fmla="*/ 34560 w 5181480"/>
              <a:gd name="textAreaRight" fmla="*/ 5135760 w 5181480"/>
              <a:gd name="textAreaTop" fmla="*/ 16920 h 2590920"/>
              <a:gd name="textAreaBottom" fmla="*/ 2051640 h 25909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0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66"/>
                </a:solidFill>
                <a:latin typeface="Verdana"/>
              </a:rPr>
              <a:t>The second part is the wall of clouds that surrounds the calm eye. This is where the hurricane's strongest winds and heaviest rain happe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ubRRectCallout"/>
          <p:cNvSpPr/>
          <p:nvPr/>
        </p:nvSpPr>
        <p:spPr>
          <a:xfrm flipH="1">
            <a:off x="-720" y="0"/>
            <a:ext cx="8534520" cy="2133720"/>
          </a:xfrm>
          <a:custGeom>
            <a:avLst/>
            <a:gdLst>
              <a:gd name="textAreaLeft" fmla="*/ 57240 w 8534520"/>
              <a:gd name="textAreaRight" fmla="*/ 8459280 w 8534520"/>
              <a:gd name="textAreaTop" fmla="*/ 14040 h 2133720"/>
              <a:gd name="textAreaBottom" fmla="*/ 1689840 h 213372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445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The first is the eye(</a:t>
            </a:r>
            <a:r>
              <a:rPr b="1" i="1" lang="zh-CN" sz="2400" spc="-1" strike="noStrike">
                <a:solidFill>
                  <a:srgbClr val="ff0066"/>
                </a:solidFill>
                <a:latin typeface="Times New Roman"/>
              </a:rPr>
              <a:t>风眼</a:t>
            </a:r>
            <a:r>
              <a:rPr b="1" i="1" lang="zh-CN" sz="2400" spc="-1" strike="noStrike">
                <a:solidFill>
                  <a:srgbClr val="ff0066"/>
                </a:solidFill>
                <a:latin typeface="Verdana"/>
              </a:rPr>
              <a:t>) of the hurricane,which is a calm area in the center of the storm.  Usually, the eye of a hurricane measures about 20 miles in diameter, and has very few clouds.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subtitlehowdohurrwork" descr=""/>
          <p:cNvPicPr/>
          <p:nvPr/>
        </p:nvPicPr>
        <p:blipFill>
          <a:blip r:embed="rId2"/>
          <a:stretch/>
        </p:blipFill>
        <p:spPr>
          <a:xfrm>
            <a:off x="228600" y="5257800"/>
            <a:ext cx="3581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rail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3810240" cy="2971800"/>
          </a:xfrm>
          <a:prstGeom prst="rect">
            <a:avLst/>
          </a:prstGeom>
          <a:ln w="0">
            <a:noFill/>
          </a:ln>
        </p:spPr>
      </p:pic>
      <p:pic>
        <p:nvPicPr>
          <p:cNvPr id="222" name="hurricane2" descr=""/>
          <p:cNvPicPr/>
          <p:nvPr/>
        </p:nvPicPr>
        <p:blipFill>
          <a:blip r:embed="rId2"/>
          <a:stretch/>
        </p:blipFill>
        <p:spPr>
          <a:xfrm>
            <a:off x="838080" y="3276720"/>
            <a:ext cx="3810240" cy="3200400"/>
          </a:xfrm>
          <a:prstGeom prst="rect">
            <a:avLst/>
          </a:prstGeom>
          <a:ln w="0">
            <a:noFill/>
          </a:ln>
        </p:spPr>
      </p:pic>
      <p:pic>
        <p:nvPicPr>
          <p:cNvPr id="223" name="hurricane-boat" descr=""/>
          <p:cNvPicPr/>
          <p:nvPr/>
        </p:nvPicPr>
        <p:blipFill>
          <a:blip r:embed="rId3"/>
          <a:stretch/>
        </p:blipFill>
        <p:spPr>
          <a:xfrm>
            <a:off x="4648320" y="304920"/>
            <a:ext cx="3733560" cy="2971800"/>
          </a:xfrm>
          <a:prstGeom prst="rect">
            <a:avLst/>
          </a:prstGeom>
          <a:ln w="0">
            <a:noFill/>
          </a:ln>
        </p:spPr>
      </p:pic>
      <p:pic>
        <p:nvPicPr>
          <p:cNvPr id="224" name="buffalo2" descr=""/>
          <p:cNvPicPr/>
          <p:nvPr/>
        </p:nvPicPr>
        <p:blipFill>
          <a:blip r:embed="rId4"/>
          <a:stretch/>
        </p:blipFill>
        <p:spPr>
          <a:xfrm>
            <a:off x="4648320" y="3276720"/>
            <a:ext cx="37335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04920" y="685800"/>
            <a:ext cx="8610480" cy="67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The reason why nineteen people died in the hurricane perhaps was that_______.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 it rained heavily and they were washed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 ver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 the big trees fell down where they were slee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 they were missing in the d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From the passage the greatest harm to the towns and villages was that______ in the hurric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A.there was no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B.water supply was cut off without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C.people could't get touch with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i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D.a great many tall trees were brown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76520" y="8380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990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76520" y="41148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04920" y="1066680"/>
            <a:ext cx="84582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At that night some people couldn't get to sleep, which made them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safe the whole night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nervous all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lucky all night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protect themselves as possible as they cou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With the help of the soldiers and the workers from other parts of Britain____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A. everything would be  better as soon as possi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. things were got back as they were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.the towns and villages were much better than bef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.the people had nothing to worry ab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04920" y="228600"/>
            <a:ext cx="6553080" cy="7034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3300"/>
                </a:solidFill>
                <a:latin typeface="Times New Roman"/>
              </a:rPr>
              <a:t>Reading comprehension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12952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3886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Verdan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hurricane1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610480" cy="6248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762120" y="1523880"/>
            <a:ext cx="7619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ntsyPants"/>
              </a:rPr>
              <a:t>A hurricane stuck the southeast of England. Between the hours of midnight and 6 a.m. the hurricane crossed the southeast corner of England with winds of up to 160 kph. Nineteen people lost their liv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685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 </a:t>
            </a:r>
            <a:r>
              <a:rPr b="1" i="1" lang="en-US" sz="3600" spc="-1" strike="noStrike">
                <a:solidFill>
                  <a:srgbClr val="9a0000"/>
                </a:solidFill>
                <a:latin typeface="Times New Roman"/>
              </a:rPr>
              <a:t>What happened on Friday October, 1987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images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190760" cy="2819160"/>
          </a:xfrm>
          <a:prstGeom prst="rect">
            <a:avLst/>
          </a:prstGeom>
          <a:ln w="0">
            <a:noFill/>
          </a:ln>
        </p:spPr>
      </p:pic>
      <p:pic>
        <p:nvPicPr>
          <p:cNvPr id="238" name="rain" descr=""/>
          <p:cNvPicPr/>
          <p:nvPr/>
        </p:nvPicPr>
        <p:blipFill>
          <a:blip r:embed="rId2"/>
          <a:stretch/>
        </p:blipFill>
        <p:spPr>
          <a:xfrm>
            <a:off x="304920" y="3124080"/>
            <a:ext cx="4114800" cy="33530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876920" y="228600"/>
            <a:ext cx="3733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  <a:ea typeface="华文新魏"/>
              </a:rPr>
              <a:t>What’s the weather like in Engla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724280" y="144792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00"/>
                </a:solidFill>
                <a:latin typeface="Asimov"/>
              </a:rPr>
              <a:t>England usually has plenty of rain every month of the ye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00600" y="3124080"/>
            <a:ext cx="3733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a0000"/>
                </a:solidFill>
                <a:latin typeface="Alfredo's Dance"/>
              </a:rPr>
              <a:t>What about the rain that nigh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95680" y="4495680"/>
            <a:ext cx="4343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a0000"/>
                </a:solidFill>
                <a:latin typeface="Alfredo's Dance"/>
              </a:rPr>
              <a:t>That night was the worst one in the history. It had been raining heavily for two day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2:14:36Z</dcterms:created>
  <dc:creator>gong</dc:creator>
  <dc:description/>
  <dc:language>en-US</dc:language>
  <cp:lastModifiedBy>gong</cp:lastModifiedBy>
  <dcterms:modified xsi:type="dcterms:W3CDTF">2002-12-01T01:52:08Z</dcterms:modified>
  <cp:revision>39</cp:revision>
  <dc:subject/>
  <dc:title>PowerPoint 演示文稿</dc:title>
</cp:coreProperties>
</file>