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290C-F353-47E2-9C4D-9EE526F8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7EB1-BA8D-454A-909D-0018BF55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593C-4386-4B78-9066-B9C348D3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1FEE-5C59-4143-A864-38FAC8C9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F316-4C5D-487B-B138-4EA7DE28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E669-D95F-49C3-85BC-25B5F95C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5FED-F555-4AEA-A84A-1E25A7E5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4B0D-332C-495F-9846-61C7E496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4E09-D764-4615-8653-8586C5D5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F28-AB86-4A50-A882-FDF9032D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BE20-1017-41D4-ACAA-4E883D03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3C69-666C-43D4-ADDA-D1B5F077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BB87-F96F-4F19-AFBF-5128320EC3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84582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. The White family are _____ breakfast in a ho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in Asw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for   B. at     C. on    D.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2. Pippa said she didn’t feel____very much that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walk   B. like to walk   C. walking   D. like wal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3.Then anyone____wants to can go for a walk 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swan after the boat tr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who     B. which     C. what     D. 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4. I’d prefer ____some shopping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do     B. done     C. to do     D.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5. The sun will burn you ___ you’re not car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unless   B. if     C. and      D. 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tick" descr=""/>
          <p:cNvPicPr/>
          <p:nvPr/>
        </p:nvPicPr>
        <p:blipFill>
          <a:blip r:embed="rId2"/>
          <a:stretch/>
        </p:blipFill>
        <p:spPr>
          <a:xfrm>
            <a:off x="2133720" y="1523880"/>
            <a:ext cx="328320" cy="328680"/>
          </a:xfrm>
          <a:prstGeom prst="rect">
            <a:avLst/>
          </a:prstGeom>
          <a:ln w="0">
            <a:noFill/>
          </a:ln>
        </p:spPr>
      </p:pic>
      <p:pic>
        <p:nvPicPr>
          <p:cNvPr id="43" name="stick" descr=""/>
          <p:cNvPicPr/>
          <p:nvPr/>
        </p:nvPicPr>
        <p:blipFill>
          <a:blip r:embed="rId3"/>
          <a:stretch/>
        </p:blipFill>
        <p:spPr>
          <a:xfrm>
            <a:off x="6477120" y="2362320"/>
            <a:ext cx="328320" cy="328320"/>
          </a:xfrm>
          <a:prstGeom prst="rect">
            <a:avLst/>
          </a:prstGeom>
          <a:ln w="0">
            <a:noFill/>
          </a:ln>
        </p:spPr>
      </p:pic>
      <p:pic>
        <p:nvPicPr>
          <p:cNvPr id="44" name="stick" descr=""/>
          <p:cNvPicPr/>
          <p:nvPr/>
        </p:nvPicPr>
        <p:blipFill>
          <a:blip r:embed="rId4"/>
          <a:stretch/>
        </p:blipFill>
        <p:spPr>
          <a:xfrm>
            <a:off x="914400" y="3657600"/>
            <a:ext cx="328680" cy="328680"/>
          </a:xfrm>
          <a:prstGeom prst="rect">
            <a:avLst/>
          </a:prstGeom>
          <a:ln w="0">
            <a:noFill/>
          </a:ln>
        </p:spPr>
      </p:pic>
      <p:pic>
        <p:nvPicPr>
          <p:cNvPr id="45" name="stick" descr=""/>
          <p:cNvPicPr/>
          <p:nvPr/>
        </p:nvPicPr>
        <p:blipFill>
          <a:blip r:embed="rId5"/>
          <a:stretch/>
        </p:blipFill>
        <p:spPr>
          <a:xfrm>
            <a:off x="3733920" y="4495680"/>
            <a:ext cx="328320" cy="328680"/>
          </a:xfrm>
          <a:prstGeom prst="rect">
            <a:avLst/>
          </a:prstGeom>
          <a:ln w="0">
            <a:noFill/>
          </a:ln>
        </p:spPr>
      </p:pic>
      <p:pic>
        <p:nvPicPr>
          <p:cNvPr id="46" name="stick" descr=""/>
          <p:cNvPicPr/>
          <p:nvPr/>
        </p:nvPicPr>
        <p:blipFill>
          <a:blip r:embed="rId6"/>
          <a:stretch/>
        </p:blipFill>
        <p:spPr>
          <a:xfrm>
            <a:off x="2514600" y="5334120"/>
            <a:ext cx="32868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914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e Rescue of Abu Simbe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9480" y="1600200"/>
          <a:ext cx="7391520" cy="4327560"/>
        </p:xfrm>
        <a:graphic>
          <a:graphicData uri="http://schemas.openxmlformats.org/drawingml/2006/table">
            <a:tbl>
              <a:tblPr/>
              <a:tblGrid>
                <a:gridCol w="2895840"/>
                <a:gridCol w="4495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rescued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ider,decide, marked …with,carried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much mone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 b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0workers ,200 other peo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to vis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ther…or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838080"/>
            <a:ext cx="73152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on holiday/va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 break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enty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el like d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fer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lik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 the edg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/pay a visi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in da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nger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ords and expressions in Unit 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95280" y="380880"/>
            <a:ext cx="4572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-made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loo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ro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water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N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980 meters 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ise b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63 meter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/rai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ggest plan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c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: think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/on the water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 on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marked with:ma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295280"/>
            <a:ext cx="8458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Introduction to Egy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apital city= Ca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opulation=53153000(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ulation growth=2.7% (1987-199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 expectancy= 62 (199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=1000000sq 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st=0sq 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Oral practice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Lesson 90-9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8808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yram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80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wan D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90720" y="1295280"/>
          <a:ext cx="7391160" cy="4030560"/>
        </p:xfrm>
        <a:graphic>
          <a:graphicData uri="http://schemas.openxmlformats.org/drawingml/2006/table">
            <a:tbl>
              <a:tblPr/>
              <a:tblGrid>
                <a:gridCol w="2241360"/>
                <a:gridCol w="5149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sons for building 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od,dest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e electr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 3838 meters l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 at the base-40 at the t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lake: 500k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 by 63 ms, move 53,000 peo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les in dang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666880" y="457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swan D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288078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9144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temple of Abu Sim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5791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s carved in the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43000" y="9144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temple of Abu Sim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914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e Rescue of Abu Simbe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1600200"/>
          <a:ext cx="7391520" cy="4064040"/>
        </p:xfrm>
        <a:graphic>
          <a:graphicData uri="http://schemas.openxmlformats.org/drawingml/2006/table">
            <a:tbl>
              <a:tblPr/>
              <a:tblGrid>
                <a:gridCol w="2895840"/>
                <a:gridCol w="449568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rescued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much mone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to vis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7T02:42:59Z</dcterms:created>
  <dc:creator>qz</dc:creator>
  <dc:description/>
  <dc:language>en-US</dc:language>
  <cp:lastModifiedBy>蒋黎梅</cp:lastModifiedBy>
  <dcterms:modified xsi:type="dcterms:W3CDTF">2002-08-14T06:05:02Z</dcterms:modified>
  <cp:revision>30</cp:revision>
  <dc:subject/>
  <dc:title>Unit 23</dc:title>
</cp:coreProperties>
</file>