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D3E-A3ED-4939-B337-DE897C86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38B-2F4C-4015-BC27-2AD0C05D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72E-D706-4899-A38B-B74A1B01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7B3-9F57-4F64-A452-E0FD86BF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D80D-7124-4579-A993-8B4A5CE7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C1E8-0341-4EA1-8038-2A636108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9EC6-6999-4207-8ABE-097B6641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CE00-F43C-47C6-B990-851D6EC0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1301-5300-442D-9CF6-628EC430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F377-5EAF-4C89-94CC-A208EF66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0C5D-FFE4-4611-8EA9-B84899AF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6EA-0E5F-4068-B384-7DAC9BA7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29FC-A2BC-4349-B662-308369C8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2C8D-B706-4C3F-8F64-3413BCBE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397C-BDE2-43DA-AA56-99F8C5A7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0876-2DD3-4364-A2CD-1AE2CAAA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1D04-82C0-491A-A4FC-B0D6F496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048-1058-4718-934E-7C5C398C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BDC-D59A-4DEF-AF3E-E47697E3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7D3-CC77-40D4-AB4D-19D3F9E8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68A-53EA-4A8E-B449-125B8D87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676-3253-40D9-B520-31E07D76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DDD-FD40-4D71-92BD-BBAE7FD5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EBC-E351-4B85-A95B-D328ABEA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C05E-FBAC-4125-BD0D-5237D6EE6827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9C11-79F7-4EAB-B15D-1A78451F256F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zh-CN" sz="4800" spc="-1" strike="noStrike">
                <a:solidFill>
                  <a:srgbClr val="ff0000"/>
                </a:solidFill>
                <a:latin typeface="Times New Roman"/>
              </a:rPr>
              <a:t>定语从句高考点例析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的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493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5. Whose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从句可转换为“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of +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关系代词”型，如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They live in a house, whose door opens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657600"/>
            <a:ext cx="762120" cy="7632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105520"/>
            <a:ext cx="685800" cy="75960"/>
          </a:xfrm>
          <a:prstGeom prst="rightArrow">
            <a:avLst>
              <a:gd name="adj1" fmla="val 50000"/>
              <a:gd name="adj2" fmla="val 225711"/>
            </a:avLst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04760" y="18493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y lived in a house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which the door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opens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y lived in a house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door of which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open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an you work them out?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9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8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ll in the blanks with proper preposition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 The sun gives us heat and light, ________ which we can’t liv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. The student ________ whom we were talking just now is the best student in our class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. I’ll never forget the day _____ which she said good-bye to m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4. Who can give me the reason ______ which he hasn’t turned up y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095880" y="502884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640" y="3200400"/>
            <a:ext cx="117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1160" y="4114800"/>
            <a:ext cx="61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2286000"/>
            <a:ext cx="151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考点四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关系副词的运用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在限定性和非限定性从句中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whe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先行词是时间名词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where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先行词是地点名词，分别在定语从句中做状语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e.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After living in Paris for 50 years he returned to the small town ______ he grew up as a chil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which    B. where    C. that    D. 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It was an exciting moment for these people this year, ______ for the first time their team won the World Cup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that    B. while    C. which    D. 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752480" y="3352680"/>
            <a:ext cx="289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考点五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as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which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引导的定语从句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两者均可引导非限制性定语从句，有时可以互换，但下列情况多用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1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关系代词引导的定语从句居句首时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e.g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we all know, the earth is roun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2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当与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such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或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e same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连用时，一般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as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Such books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you tell me are interesting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I have the same plan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you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0" y="4876920"/>
            <a:ext cx="1219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Go on Please!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当从句和主句语义一致时，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，反之则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She has married again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was expecte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She has married again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was      unexpected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13716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Go on please!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在从句中作主语时，后面常接行为动词的被动语态，如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known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sai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reporte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等，如从句中行为动词是主动语态，一般要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作主语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She has been late again,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was expect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Tom has made great progress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made us happy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781680" y="5105520"/>
            <a:ext cx="138744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1. I’m using the pen which he bought it yesterda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. Is that factory which your father once worked in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3. The man whom I spoke is from Canad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4. July 1,1999 is the day when we’ll never forget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8098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28954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860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__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286000"/>
            <a:ext cx="167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去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49528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4572000"/>
            <a:ext cx="1067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40384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31240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on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. I still remember the holidays I stayed with them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. I’m going to work in the hospital where needs m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7. Those that haven’t been to the West Lake will gather at the school gat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. I don’t like the way which you talked to your frien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724280"/>
            <a:ext cx="60948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057400"/>
            <a:ext cx="2057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9907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9880"/>
            <a:ext cx="21333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3505320"/>
            <a:ext cx="914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3048120"/>
            <a:ext cx="28954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that/which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3920" y="1828440"/>
            <a:ext cx="838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9.This is the last time when I’ve given you lesson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. Soon they came to a farm house,and in front of which sat a small bo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1. We heard the news which our team won the gam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2. The reason which he explained it sounds reasonabl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391160" y="2742840"/>
            <a:ext cx="106668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3080" y="1905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1320" y="4495680"/>
            <a:ext cx="7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1680" y="411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5720" y="54100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0840" y="3276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5000" y="502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3. Those at the desk want to buy tickets write down your nam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4. That was the reason because she looked ol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5. Miss Chen is the only one of the few teachers who give us wonderful English lessons in our scho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6. Taiwan, that we know, belongs to Chin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286000" y="5409720"/>
            <a:ext cx="914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2920" y="2209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8000" y="3048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1480" y="5105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2520" y="4267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1440" y="4648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v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41000" y="3429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4840" y="19810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Impact"/>
                <a:ea typeface="黑体"/>
              </a:rPr>
              <a:t>Have a try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指出关系代词（副词）在定语从句中的成份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1.The man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came to our school is Mr. Wang.               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2.The girl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whom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I met is Lucy.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3.A child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parents are dead is called Tom.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4.I like the book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which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you bought yesterday.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   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19560" y="2819160"/>
            <a:ext cx="1523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定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7. It is the one of the best films that have been shown recentl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8. The third place which we are going to visit is Hangzhou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9. Which is known to all, many satellite are going around in the sk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. The students and things which you spoke of are known to u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76360" y="3352320"/>
            <a:ext cx="1066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21520" y="4952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20760" y="3733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4880" y="2209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3080" y="411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21160" y="5334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8520" y="2971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8200" y="1905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1148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1.Einstein is such a great scientist that we must learn from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2. The student who’s book I had borrowed didn’t come to school toda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3. Who is the worker who took some pictures of the factor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4. The bike by which I travelled was hi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09720" y="2209320"/>
            <a:ext cx="114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7280" y="31240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9400" y="403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5360" y="44197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7800" y="4952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4120" y="5334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9600" y="1905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badi MT Condensed Light"/>
              </a:rPr>
              <a:t>Homework:</a:t>
            </a:r>
            <a:endParaRPr b="0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41008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6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   </a:t>
            </a: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1) Finish off the exercises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6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   </a:t>
            </a: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2) Preview Lesson 89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95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666880" y="480060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ff99ff"/>
                </a:solidFill>
                <a:latin typeface="Comic Sans MS"/>
              </a:rPr>
              <a:t>THE END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ff99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Impact"/>
              </a:rPr>
              <a:t>Have a try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5. His parents wouldn’t let him marry anyone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family  was poor.                           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6. I like the person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to whom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you just talk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7. We shall never forget the days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that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we spent together.                                         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8. We shall never the days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we lived together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52720" y="17524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定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介宾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状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考点一：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that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和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which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情况，引导词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不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which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先行词为不定代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ver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muc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l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n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no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Finally, the thief handed everything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he had stole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先行词前有形容词最高级、序数词修饰时，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This is the best book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(that)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I’ve ever rea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考点一：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that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和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which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3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先行词被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only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very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last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修饰时，用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He is the only person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I want to see now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4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先行词同时指人和指物时，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We talked about the things and persons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we saw the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5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定语从句内容为解释名词的性质、概念时，需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A plane is a machine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can fly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考点二：连接词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which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的用法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Which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引导非限定性定语从句，其先行词可是一个词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也可是整个主句或主句的某一部分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e.g.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1. She heard a terrible noise, ______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brought her heart into her m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A. it    B. which    C. this    D. th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2. The weather turned out to be good,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___ was more than we could expect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A. what    B. which    C. that    D. it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62920" y="4616280"/>
          <a:ext cx="140976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616280"/>
                    <a:ext cx="140976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320" y="1599840"/>
            <a:ext cx="624852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B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828800" y="2057400"/>
            <a:ext cx="4952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Handwriting"/>
              </a:rPr>
              <a:t>Good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Handwriting"/>
              <a:ea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考点三：介词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+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关系代词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****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“of + which/whom”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可用来限定名词、代词、分数词、数词等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1. In the dark street, there wasn’t a single person ____________ she could turn for help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A. that    B. who    C. from whom    D. to who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2. He paid the boy $10 for washing the windows, most of ________ hadn’t been cleaned  for at least a year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A. these    B. those    C. that    D. which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95480" y="4343040"/>
            <a:ext cx="609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84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根据从句中动词与先行词的逻辑关系，请体会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Is that the newspaper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for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you often write articles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根据从句中动词或形容词的习惯搭配，如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Can you explain to me how to use these  idioms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about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I’m sur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根据先行词与介词的搭配习惯，请体会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1949 was the year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the P.R.C. was found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非限制性定与从句中，要表示先行词的一部分时，可用“数词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代词 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+ of + 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关系代词”的结构，如：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There are 50 students in our class,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two-    thirds of whom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 have been to Beijing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13:56:08Z</dcterms:created>
  <dc:creator>dx</dc:creator>
  <dc:description/>
  <dc:language>en-US</dc:language>
  <cp:lastModifiedBy>user</cp:lastModifiedBy>
  <dcterms:modified xsi:type="dcterms:W3CDTF">2005-04-03T12:18:11Z</dcterms:modified>
  <cp:revision>15</cp:revision>
  <dc:subject/>
  <dc:title>Have a try</dc:title>
</cp:coreProperties>
</file>