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12.jpeg" ContentType="image/jpeg"/>
  <Override PartName="/ppt/media/image13.png" ContentType="image/png"/>
  <Override PartName="/ppt/media/image20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camera.wav" ContentType="audio/x-wav"/>
  <Override PartName="/ppt/media/image6.png" ContentType="image/png"/>
  <Override PartName="/ppt/media/image18.png" ContentType="image/png"/>
  <Override PartName="/ppt/media/image7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595-2A0E-4BAC-80EC-5A813591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3ED-D24C-4293-8611-10F4F3D4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BAE-7E2F-4B4A-BB2E-C8100EB2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8FD-58CF-47C3-AC2D-E234C18B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9285-427F-421A-A90E-8B837E21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DD73-FBA7-4E29-9008-A5F30452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6495-B618-4FB5-8EDB-0B5E95EA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C340-135A-48B6-B30C-BD76E7B9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0214-EEAD-44EC-8069-9BFE72D1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7E9F-A499-4588-9433-EE94AE3D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46B4-5D6B-4E5E-9B40-2619C3B8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CAD-8A90-4E08-9B19-94B5567D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59E2-A004-4538-AFB1-57EE25A9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D208-55C4-4363-9130-F9C7653C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1F6F-6528-4502-9711-6195E963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59F7-6275-4E0E-852A-C75E2929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76AA-1417-4C02-9D0D-9BB0B909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5199F-72BC-499D-B227-9F1D9063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EE9F7-C25B-459C-9F33-C1FC6FEB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B82F-4E24-4004-8AFF-E8BC1EBE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829F-2F5C-4F74-A1CA-F596DC30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7FB0-D168-4A2D-BE1E-FF59162E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DAF-19BF-4831-A202-7084B90C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EBF9-840E-4C55-8120-0C06F423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1A55-9BD8-4C81-9E53-237DBFB0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71B1D-3CC1-44D7-A78F-22F3283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0BAE-EB09-4245-AFB9-CA0EAD0C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B262-03F3-4FD0-8C5E-76C05465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D9E4-4AA4-4B9F-B74D-5491E343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5D7F-17F4-4C9C-91C5-84610312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3A6DF-732A-44BF-A014-0DAB85FC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47441-2BB1-4912-B51D-C4076FC9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B8D4-25BF-4997-9C58-311802E3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18A-862D-48EA-8A7B-DC58F4E5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7D5C4-3F51-4CB9-B2C6-884C2933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9C88-3272-46BA-A950-D1C64BF2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E6AF-D31D-413F-B067-68D40BFD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F864-F181-4EC1-8FB5-FB461B45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15168-228A-4303-A1F0-6E8B271C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2BBA8-2C2C-4233-9CC8-2F9A366A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768D-ED2F-4BAE-808A-DE8188FC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28E02-4A24-4400-88D7-7F1E2B8B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84B3-BB25-4488-B19B-E7C1FC47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258-59ED-4C02-B65B-CE9F6F1D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997-C5D5-43B0-AC3D-6B6A3751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572-D92E-4FDA-9737-0D404063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3E7-442D-4CB3-B4D8-271714E7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AD5-EAB6-4718-B812-E5F6E581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39AF-3E5C-4793-AA25-29CE00AE68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DFBC-848B-49F2-B6C4-1C9F485442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2690-00DA-42F0-BDAC-DB54D3FD274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110E-AFA1-4AE0-B501-688795C82F6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9343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石庄高级中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8120" y="3808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303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cc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295280" y="1447920"/>
          <a:ext cx="25909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25909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210040" cy="2667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78600" y="48006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ustin Foster, a fifteen-year-old boy,was missing two days ago i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ver, New Hampshire. Maybe he was taken away by alien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95280" y="620280"/>
            <a:ext cx="8480160" cy="5943960"/>
            <a:chOff x="395280" y="620280"/>
            <a:chExt cx="8480160" cy="5943960"/>
          </a:xfrm>
        </p:grpSpPr>
        <p:sp>
          <p:nvSpPr>
            <p:cNvPr id="290" name=""/>
            <p:cNvSpPr/>
            <p:nvPr/>
          </p:nvSpPr>
          <p:spPr>
            <a:xfrm flipV="1">
              <a:off x="395280" y="2068200"/>
              <a:ext cx="4496040" cy="44956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381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43320" y="222084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first part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6320" y="313524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rest par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43720" y="2525760"/>
              <a:ext cx="8380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5280" y="4049640"/>
              <a:ext cx="114300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120" y="2297160"/>
              <a:ext cx="28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ain topic and the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ost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32440" y="3786120"/>
              <a:ext cx="38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new but less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7520" y="3059280"/>
              <a:ext cx="3504960" cy="0"/>
            </a:xfrm>
            <a:prstGeom prst="line">
              <a:avLst/>
            </a:prstGeom>
            <a:ln w="2844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8" name="PlaceHolder 1"/>
            <p:cNvSpPr>
              <a:spLocks noGrp="1"/>
            </p:cNvSpPr>
            <p:nvPr>
              <p:ph type="title"/>
            </p:nvPr>
          </p:nvSpPr>
          <p:spPr>
            <a:xfrm>
              <a:off x="547920" y="6202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A typical news story is written in an inverted pyramid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format.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66ff"/>
                  </a:solidFill>
                  <a:latin typeface="Times New Roman"/>
                </a:rPr>
                <a:t>倒金字塔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endParaRPr b="0" i="1" lang="en-US" sz="2400" spc="-1" strike="noStrike">
                <a:solidFill>
                  <a:srgbClr val="79524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22896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ad the news story and finish the following exercise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00000" y="3068640"/>
          <a:ext cx="6858000" cy="3376440"/>
        </p:xfrm>
        <a:graphic>
          <a:graphicData uri="http://schemas.openxmlformats.org/drawingml/2006/table">
            <a:tbl>
              <a:tblPr/>
              <a:tblGrid>
                <a:gridCol w="2163600"/>
                <a:gridCol w="469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in Point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 a frien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 ______________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at the family lunch the next day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after the ga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 ______ at 10:45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at about 11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flying outsid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and then the UFO disappeare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1066680" y="685800"/>
            <a:ext cx="64008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 show up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Does Justin have any brothers or sister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Who else has been taken away by the alien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9325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went to bed early because of a headach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r. Foster was working that nigh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show up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became worried and told her husband to call the polic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Justin plays baseball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Does Justin have any brothers or sister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es, he has a sister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o else has been taken by the alien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avis Wood was taken  by the aliens to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826920" y="404640"/>
          <a:ext cx="8066160" cy="6147000"/>
        </p:xfrm>
        <a:graphic>
          <a:graphicData uri="http://schemas.openxmlformats.org/drawingml/2006/table">
            <a:tbl>
              <a:tblPr/>
              <a:tblGrid>
                <a:gridCol w="2276640"/>
                <a:gridCol w="578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in Poin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 frien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___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_____  at the family lunch the next day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_______   after the                               ga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_________________________       at 10:45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 ________________at about 11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was taken away by aliens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___________ flying outsid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___    and then the UFO disappeare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874120" y="148284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e didn’t tell anyon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1680" y="1893960"/>
            <a:ext cx="29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at he was staying out lat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0320" y="22860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idn’t show up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40600" y="29941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went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33720" y="364320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y saw Justin walking 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67320" y="43434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return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3520" y="472428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large spaceshi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3160" y="510552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shout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55280" y="56815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as taken aw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5280" y="60706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y the alien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1729080" cy="1593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678320" y="4267080"/>
            <a:ext cx="17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V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19810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Fo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19112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Foster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0000" y="6093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9827000">
            <a:off x="3657600" y="243828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053800">
            <a:off x="3580920" y="3504960"/>
            <a:ext cx="1057320" cy="145800"/>
          </a:xfrm>
          <a:prstGeom prst="rightArrow">
            <a:avLst>
              <a:gd name="adj1" fmla="val 50000"/>
              <a:gd name="adj2" fmla="val 181296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598800">
            <a:off x="3657600" y="297144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Cloud"/>
          <p:cNvSpPr/>
          <p:nvPr/>
        </p:nvSpPr>
        <p:spPr>
          <a:xfrm>
            <a:off x="236232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When? Where? Who ? What? How?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• • •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3310400">
            <a:off x="3188880" y="1611000"/>
            <a:ext cx="111240" cy="5173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a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lease give an ending to the story.Was Justin really taken away by aliens or were there any other reasons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2280" y="6477120"/>
            <a:ext cx="4191120" cy="380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495680" y="6477120"/>
            <a:ext cx="4191120" cy="380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62120" y="2124000"/>
            <a:ext cx="7257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nish part F and do some speaking practice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ccording to the sampl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581280" y="6094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95280" y="83664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ales of the unexplained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28800" y="3048120"/>
            <a:ext cx="4952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371520"/>
            <a:ext cx="14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F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19800" y="380880"/>
            <a:ext cx="29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en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919600" cy="3581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Do you believe in UFOs and aliens? Why or why no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If you saw a UFO and an alien some day, what would you do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at other unexplained things do you know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abou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Discussion</a:t>
            </a:r>
            <a:br>
              <a:rPr sz="4400"/>
            </a:b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50840" y="322092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8960" y="40384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53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60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e4d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3440" y="1125360"/>
            <a:ext cx="55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y missing, police puzzle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32920" y="259092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y is missing, and the police are puzzled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20" y="386064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he title of a news story is usually incomplete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04920" y="6629400"/>
            <a:ext cx="419076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648320" y="6629400"/>
            <a:ext cx="4221000" cy="228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267080" y="1828800"/>
            <a:ext cx="304920" cy="824040"/>
          </a:xfrm>
          <a:prstGeom prst="downArrow">
            <a:avLst>
              <a:gd name="adj1" fmla="val 50000"/>
              <a:gd name="adj2" fmla="val 67562"/>
            </a:avLst>
          </a:prstGeom>
          <a:solidFill>
            <a:srgbClr val="ff0066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2e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Read the news story quickly and answer the question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191120" cy="304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1905120"/>
            <a:ext cx="7010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missing?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d where is he missing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police know what happened to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48320" y="6553080"/>
            <a:ext cx="41907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28600" y="655308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2:01:39Z</dcterms:created>
  <dc:creator>软件仓库</dc:creator>
  <dc:description/>
  <dc:language>en-US</dc:language>
  <cp:lastModifiedBy>USER</cp:lastModifiedBy>
  <dcterms:modified xsi:type="dcterms:W3CDTF">2005-11-06T15:53:01Z</dcterms:modified>
  <cp:revision>110</cp:revision>
  <dc:subject/>
  <dc:title>PowerPoint 演示文稿</dc:title>
</cp:coreProperties>
</file>