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FE4-45A3-4AD4-A2A0-8ECDD385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565-95C1-4BAA-AE01-D5B45788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D19-2B38-43AA-A618-033D8642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080-4AD6-4F6A-A161-AB60840C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C57-1025-4DD5-B5BC-D9E6F7EC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36B-C661-474F-AE65-A1BAFC76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3C0-B26A-4228-A2D1-740CD74A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A44-5AFC-44A9-B9C0-3E3D0964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5DF-2CD3-47B6-8791-96E730E5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295-C8E1-4B85-B3CC-2163FC2F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9D1-E90F-4660-B89F-047F41D3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923-F2FA-4513-9854-E8F8BB86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C4D0-9B5B-49AA-9E9A-76767766F9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2620800"/>
            <a:ext cx="1066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Welcome to our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isten to the tape, and identify the supporting details for each point be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95280"/>
          <a:ext cx="9144000" cy="5664240"/>
        </p:xfrm>
        <a:graphic>
          <a:graphicData uri="http://schemas.openxmlformats.org/drawingml/2006/table">
            <a:tbl>
              <a:tblPr/>
              <a:tblGrid>
                <a:gridCol w="3252960"/>
                <a:gridCol w="5891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 Foster thought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 Foster was surprised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olice found that Justin retur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 friend said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nesses said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said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58680" y="1517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3680" y="324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1: Justin Foster went mi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760" y="330192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600200"/>
            <a:ext cx="2971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s Foster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Foster was surp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stin F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1565280"/>
            <a:ext cx="32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e was spend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ight with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32767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hat his son 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tell anyone that he was staying out late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302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show up at the family lunch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2: The police found that Justin returned                        hom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" y="3625920"/>
            <a:ext cx="19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360" y="2260440"/>
            <a:ext cx="279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friend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e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8273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went home after playing basebal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35124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y saw Justin walking towards his home 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5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im put on his favorite CD after he went to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3: The boy was taken away by ali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828800"/>
            <a:ext cx="266724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is Woo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1778040"/>
            <a:ext cx="27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large space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lying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4200" y="34434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sh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772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aliens took her away so that they could do scientific research on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0574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0c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u=4231877098,3831793191&amp;gp=1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4008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200522117148269" descr=""/>
          <p:cNvPicPr/>
          <p:nvPr/>
        </p:nvPicPr>
        <p:blipFill>
          <a:blip r:embed="rId2"/>
          <a:stretch/>
        </p:blipFill>
        <p:spPr>
          <a:xfrm>
            <a:off x="76320" y="-76320"/>
            <a:ext cx="259056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2320" y="1676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you are Justin Foster, try to tell  us you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006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Detective Sam Peterson, try to tell us        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991040" y="-1181160"/>
            <a:ext cx="1219320" cy="3886200"/>
          </a:xfrm>
          <a:prstGeom prst="cloudCallout">
            <a:avLst>
              <a:gd name="adj1" fmla="val 7148"/>
              <a:gd name="adj2" fmla="val 37157550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Kelly, try to tell us  what  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9067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Mavis Wood, try to tell us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-1440"/>
            <a:ext cx="5057640" cy="25923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533520"/>
            <a:ext cx="32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543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rite down your own opinion on what you  think happened to Justin Foster in about 100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dac8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4840" y="1892160"/>
            <a:ext cx="5426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410211650431" descr="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=2838073443,3507240701&amp;gp=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wsMedia_2075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50000">
              <a:srgbClr val="fefefe"/>
            </a:gs>
            <a:gs pos="100000">
              <a:srgbClr val="8da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43000"/>
            <a:ext cx="8991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" descr=""/>
          <p:cNvPicPr/>
          <p:nvPr/>
        </p:nvPicPr>
        <p:blipFill>
          <a:blip r:embed="rId1"/>
          <a:stretch/>
        </p:blipFill>
        <p:spPr>
          <a:xfrm>
            <a:off x="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33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8620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oy missing, police puzzled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956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boy  is missing and the police are puzz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000000071" descr=""/>
          <p:cNvPicPr/>
          <p:nvPr/>
        </p:nvPicPr>
        <p:blipFill>
          <a:blip r:embed="rId1"/>
          <a:stretch/>
        </p:blipFill>
        <p:spPr>
          <a:xfrm>
            <a:off x="5029200" y="0"/>
            <a:ext cx="42670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newspaper article quickly, then try to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rticle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 the police know what happened to Justin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5000" y="3276720"/>
            <a:ext cx="563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article is about a missing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640" y="4572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ustin Foster is mi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58816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57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91440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article carefully, and answer the following questions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oes Justin Foster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y di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's mother go to bed e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ort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d the witnesses see Justin walk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Justin has any brothers and si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were the alie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else has been taken by the ali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in charge of the 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6240" y="23115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cause she had a head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9718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plays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920" y="35956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42670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es, he has a s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8720" y="489096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y were wh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1440" y="548640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vis Wood has been taken by the al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0" y="62485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tective Sam Peterson was in charge of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9240" y="1690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lives in Dover, New Hampsh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8:43:23Z</dcterms:created>
  <dc:creator>SEC</dc:creator>
  <dc:description/>
  <dc:language>en-US</dc:language>
  <cp:lastModifiedBy>SEC</cp:lastModifiedBy>
  <dcterms:modified xsi:type="dcterms:W3CDTF">2005-11-05T14:24:41Z</dcterms:modified>
  <cp:revision>36</cp:revision>
  <dc:subject/>
  <dc:title>PowerPoint 演示文稿</dc:title>
</cp:coreProperties>
</file>