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24.gif" ContentType="image/gif"/>
  <Override PartName="/ppt/media/image21.jpeg" ContentType="image/jpeg"/>
  <Override PartName="/ppt/media/image23.gif" ContentType="image/gif"/>
  <Override PartName="/ppt/media/explode.wav" ContentType="audio/x-wav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27.gif" ContentType="image/gif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7B9-5B5A-42AC-8B7F-4E372C72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1CA-B686-455D-AE0F-D5F04A80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BDD-EAF5-4BCE-80D1-8953D276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B55-D74A-4A48-B0A8-1BBE4648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09B3-8A8E-4941-8EFB-3B3BE0DA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3072-0955-4F0C-9562-63E05703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34A1-CFA8-4766-8A6D-29E69EB4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40A2-2809-44B5-901E-0E6E3086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39CE-9B12-41F2-A926-C64BCD6E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0342-C458-46F3-AFB9-1A23391C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2438-2C46-4D09-BA25-89C5D359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161-1742-415D-9E5F-17FD6029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BC75-5731-4C69-93AF-3F47DC95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27DC-9B73-4E7C-AEB0-08474BE3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61FB-93FE-4B40-857F-F8340124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9360-2DF9-409C-A68B-63F3581A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81EA-5CD6-4408-B76C-C94045CC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A142-46E7-4A95-8828-F1CA9403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F0EB-5A5A-42FA-AAE0-FB36D19B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A9D01-DAF8-4544-84BA-284438BF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07B3-0A68-4D33-BD68-B9EDA288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6AE2-05DD-43E6-895E-ABCC30B9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A08-E059-4988-89BA-30A51324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10AA-BCCD-49D5-994D-79CBE2BD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3402-5057-427A-A3A6-2842AC4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2A0C-F4B0-482D-AEA9-8A2456E9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429B7-634F-42DA-B705-3749F88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B08E-A013-4BEA-BBFF-B67E3C07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033E-6B55-4BE4-A49E-616D798F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F814-654C-4091-9EDC-EA69343F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3635-6F77-4D0F-8908-815455A3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55E7F-73DC-4560-B62F-1BF6BC87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483C-3480-4D4B-A219-F98A5281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BD7-0EA1-43CD-B6C4-1BBBBCAE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8C5C-FA2F-403C-88AB-C3770AF3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9B46B-B54A-4575-8C3E-A143FB46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C5CCB-C745-4655-9C5A-5D84E7B2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A17E4-534D-4B5C-8F20-866E2D5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F110-354F-4F59-AAB2-2299FB28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8E6D-AD3B-4903-908A-7A85C62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607CC-52C8-43FC-A223-D2B7C27A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C24CA-A707-4270-8B77-D8FAF6CA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5CD1-8FC6-410C-A0F8-2C775431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5533A-F920-438B-A047-FBE80F16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6CF-C463-4B61-9BFC-F425A169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3840D-F57A-4D63-B445-A5C5A9D0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C857E-7A17-456C-9439-BB11CC6D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D3A8A-9C3E-4B8C-AE03-73F7F4F7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171B6-344D-4C42-ADDF-91F48422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25624-08C7-43D4-B982-AD79182C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1B2B8-E68C-4125-9D27-37142577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49A91-466E-4AFE-A978-F1001229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ED06-61AF-492A-A089-FF0E297F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1D394-5241-4AC7-A215-539B525C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B44C1-5EC7-4427-B0D4-0AA5281E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E8F-C4B2-4F2C-B96E-6048580E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85089-862D-4773-B4C7-BC31F764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E6416-2E58-44C8-93C3-B98F2D16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402B7-8FA8-4F83-AD53-434084A5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A4D0A-7332-4A27-8962-94E1F4E3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FDE22-C948-497A-B925-B1A5FB39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158AF-9E3B-45B1-9296-AC81F641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697DC-B2FD-449D-9B4D-221F5155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8262C-1F8C-43B6-B828-C972F88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382D7-9788-49A2-AEE6-E1C1D6C8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84CFF-9A38-472C-B761-75A6E989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7F0-67D1-4103-9CB9-5667A720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A0806-9610-4103-942A-1FD44562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305CD-3B49-4A53-BD3E-9BA3DFCD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B5779-5F87-4A0C-AD3B-5DCF8638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A15-5206-4658-8051-D2C9E35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5E3-E53E-41C4-A249-E99801D6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CC40-C694-43A1-B509-56BE51A567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3F39-236D-457F-9FEA-F680EE35DEC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5CF8-5826-4591-AFDF-F3A27F9EE6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A81B-B5C0-430C-88BD-EFFD698CA8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EAEA-23C7-4703-A15A-FA0CB083A9C4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887A-D978-46D4-9816-C80AF4CDA10B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Welcome to the class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26920" y="4292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执教者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皋市第一中学  周海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Tell about a strange dream even a nightmare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2358720"/>
            <a:ext cx="6337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uppose you were taken away by the aliens, what would you do ?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736720" cy="396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1034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Is mystery equal to superstition(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迷信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)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657600" cy="4103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★</a:t>
            </a:r>
            <a:r>
              <a:rPr b="1" lang="en-US" sz="4000" spc="-1" strike="noStrike">
                <a:solidFill>
                  <a:srgbClr val="000099"/>
                </a:solidFill>
                <a:latin typeface="Basemic Times"/>
              </a:rPr>
              <a:t>take scientific attitudes towards mysteries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great succes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velopment of science and technolog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set up  great ideals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理想）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and work har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75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410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deals are like the stars — It seems that we never reach them, but like mariners ,we chart our course by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理想犹如天上的星—     我们似乎不能到达，但像水手一样，我们的航程可凭它指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33360"/>
            <a:ext cx="420696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532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Write a strange dream of a mysterious s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Search for some information about Shenzhou </a:t>
            </a:r>
            <a:r>
              <a:rPr b="1" lang="en-US" sz="2800" spc="-1" strike="noStrike">
                <a:solidFill>
                  <a:srgbClr val="006600"/>
                </a:solidFill>
                <a:latin typeface="BatangChe"/>
              </a:rPr>
              <a:t>Ⅵ</a:t>
            </a: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BatangCh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520" y="1599840"/>
            <a:ext cx="3504960" cy="6858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隶书"/>
              </a:rPr>
              <a:t>感谢您的光临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请留下宝贵建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7617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832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484360" y="981000"/>
            <a:ext cx="2303640" cy="2737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CascadeUp">
              <a:avLst>
                <a:gd name="adj" fmla="val 43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S Gothic"/>
              </a:rPr>
              <a:t>Good by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S Gothic"/>
              <a:ea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Unexplained mysterie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887640" cy="3673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71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Boy missing, police puzzled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226960" cy="3095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05440" cy="287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boy is missing; the police are puzzle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en to Para1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zz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3280" y="148392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day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over, New Hampshi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htings of puzzling lights &amp; reports of alien visi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1773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49228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Reading strategy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titl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main ide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paragraph on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2852640"/>
            <a:ext cx="360360" cy="2665440"/>
          </a:xfrm>
          <a:custGeom>
            <a:avLst/>
            <a:gdLst>
              <a:gd name="textAreaLeft" fmla="*/ 0 w 360360"/>
              <a:gd name="textAreaRight" fmla="*/ 129960 w 360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ad the rest part for main po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Justin Foster went missing.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 2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police found that Justin returned home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Para3-4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boy was taken away by alien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4-5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9292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foster went mi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s</a:t>
                      </a:r>
                      <a:r>
                        <a:rPr b="1" lang="zh-CN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oster thought </a:t>
                      </a:r>
                      <a:r>
                        <a:rPr b="1" lang="zh-CN" sz="2400" spc="-1" strike="noStrike" u="sng">
                          <a:solidFill>
                            <a:srgbClr val="fc04a3"/>
                          </a:solidFill>
                          <a:uFillTx/>
                          <a:latin typeface="Arial"/>
                        </a:rPr>
                        <a:t>he was spending the night with a frie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 Foster was surpri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lice found that Justin returned ho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Justin’s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riends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Witnesses said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2909520" y="1557360"/>
            <a:ext cx="64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his 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4a3"/>
                </a:solidFill>
                <a:latin typeface="Arial"/>
              </a:rPr>
              <a:t>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didn’t tell anyone that he was staying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1520" y="2565360"/>
            <a:ext cx="44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didn’t show up 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amily lunch the next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96440" y="3933720"/>
            <a:ext cx="58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Justin w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ome after playing baseball with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3680" y="4941720"/>
            <a:ext cx="589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they saw Just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walking towards his home at 10.45 p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7160" y="5962680"/>
            <a:ext cx="441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im put on his favour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CD after he went to his 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160" y="59500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Kelly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360" y="25653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Justin Fo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342900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y was taken away by alien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sa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 he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avis Wood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3339720" y="765000"/>
            <a:ext cx="4188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a large space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lying out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162864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Justin s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7920" y="2060640"/>
            <a:ext cx="6078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that the aliens to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Her away so that they could do scient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research on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3443400"/>
            <a:ext cx="9144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- Kelly ( seeing &amp; hearing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ve (Sam Peterson) ( possibilitie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ist ( report the ne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7:31:08Z</dcterms:created>
  <dc:creator>MC SYSTEM</dc:creator>
  <dc:description/>
  <dc:language>en-US</dc:language>
  <cp:lastModifiedBy>高一英语组</cp:lastModifiedBy>
  <dcterms:modified xsi:type="dcterms:W3CDTF">2005-11-06T02:26:18Z</dcterms:modified>
  <cp:revision>20</cp:revision>
  <dc:subject/>
  <dc:title>Welcome to the class </dc:title>
</cp:coreProperties>
</file>