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B237-FE09-4964-9DD8-2632F86E20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7C1FC-2D1F-4E14-8DCD-DA246BE4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787-FB32-416E-B110-BA8AFBAC7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650A6-15CE-47FF-AA74-48B14060F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EFFEB-DD6B-4840-BE0A-1E948E819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5250D-E196-4FBB-A2DF-7726FDF7A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050D7-8FCE-4E31-869D-2309B5F5F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1F1A2-46DB-410F-AD6D-644007AB8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3DA0B-1B64-4CCE-9BC4-61DB1FF0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5A7C0-12B3-431E-94D6-25559174A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7530-4646-427A-BD84-13D89D348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649-BDAA-4AB3-B0FE-8E9FF7D90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0762A-5FF6-43EC-9E51-1539A8D0F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4CA4A-C83B-4E17-9889-2FEF49D57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F27F5-AF28-4B2E-8733-EC7C1072D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C3A39-DFAF-4274-B8DD-D58402EB7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E27CD-6518-4477-B10E-5696A8D41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83189-D08F-457A-B371-4CFFF9A21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7535C-9520-472E-BDA5-1B476B6E0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61B4-2622-43AF-A349-7B902A6C4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4D72-593E-405D-B2B7-875B6ABE3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E98-2280-4FB7-8ED4-799FB701A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990C-8C04-43E5-B4DD-F1680C4B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8E90-3ABB-40A0-984B-A010C6367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3CD562-4078-4ED1-A6F0-81AE6EAF06C7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CF838-7DF9-46DE-87FE-3A479AEA6E0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584280"/>
            <a:ext cx="7772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66"/>
                </a:solidFill>
                <a:latin typeface="Arial Black"/>
              </a:rPr>
              <a:t>English Idioms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严格说，英语中没有中国式的歇后语。中国式歇后语前半句通常为比喻，后半句为本意，如猪八戒照镜子（里外不是人） ；和尚打伞（无法无天）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另一类不涉及比喻或谐音，而是日常俗语，耳熟能详，不必说完，听者已可领会，如三人同行（必有吾师）。英语中不乏实例。请补完下半句：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3049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.A bird in han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. A friend in ne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.A penny sav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.A stitch in 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5.An apple a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6.Ask not what your country do for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7.Better to have loved and l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8.Birds of a feath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9.Damned if you do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0.Don’t count your chicken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2400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worth two in the bu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514600" y="8380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friend in de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0" y="1371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 penny earn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43240" y="194328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aves n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251460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eeps the doctor a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029200" y="304812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sk what you can do for your countr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86200" y="417204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never to have loved at 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472428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lock togethe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25780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amned if you don’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9880" y="579132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they are hatche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533520"/>
            <a:ext cx="9144000" cy="602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1.Don’t call u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2.Finders keeper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3.Fool me once, shame on you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4.He is a Jack of all tr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5.Hope for the bes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6.If you can’t beat the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7.If you can’t stand the heat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8.If the shoe fit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19.If the mountain cannot come to Mohammed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0.Man propose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6094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we’ll call yo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108576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sers weep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16765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ool me twice, shame on m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429000" y="22096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master of no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743200" y="27622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prepare for the wors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390840" y="3276720"/>
            <a:ext cx="54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join them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733920" y="3809880"/>
            <a:ext cx="541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y out of the kitch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362320" y="4419720"/>
            <a:ext cx="51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ar i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495288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hammed will go to the mountai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09680" y="6039000"/>
            <a:ext cx="512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d dispos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0" y="45720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1.One man’s me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2.Penny wis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3.Speak of the devi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4.The grass is always greener on the other s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5.There but for the grace of the Go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6.To err is human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7.Too many cook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8.Two’s company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29.United we stand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0.we must learn to wal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610000" y="49536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s another man’s pois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990720"/>
            <a:ext cx="647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und foolis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743200" y="154296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the devil is sure to appe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19920" y="2133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f the fenc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724280" y="26668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 I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14600" y="3219480"/>
            <a:ext cx="53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forgive, divin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5520" y="37530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ill spoil the broth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590920" y="4324320"/>
            <a:ext cx="533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ree’s a crow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2760" y="485784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vided, we fall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124080" y="541008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efore we can ru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09480"/>
            <a:ext cx="9144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1.What goes u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2.When poverty comes in at the do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3.When in 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4.When the cat is aw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5.When the going gets tough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6.Where there is a will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7.Where there’s smoke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8.With friends like him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39.You can catch more flies with honey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40.You scratch my back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6094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ust come dow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648320" y="1143000"/>
            <a:ext cx="44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ve flies out of the window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362320" y="1733400"/>
            <a:ext cx="57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 what the Romans d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124080" y="228600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mice will pl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86200" y="2819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tough get going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76720" y="335268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 is a way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36840" y="3886200"/>
            <a:ext cx="48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re’s a fi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441972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o needs enemie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5029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an with vinegar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5543640"/>
            <a:ext cx="449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and I’ll scratch you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0" y="990720"/>
            <a:ext cx="91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Monotype Corsiva"/>
              </a:rPr>
              <a:t>Thanks for your attention!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2971800"/>
            <a:ext cx="9144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CAN YOU THINK OF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MORE IDIOM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 </a:t>
            </a:r>
            <a:r>
              <a:rPr b="1" lang="en-US" sz="4400" spc="-1" strike="noStrike">
                <a:solidFill>
                  <a:srgbClr val="ff0066"/>
                </a:solidFill>
                <a:latin typeface="Palatino"/>
              </a:rPr>
              <a:t>LIKE THESE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15T15:40:02Z</dcterms:created>
  <dc:creator/>
  <dc:description/>
  <dc:language>en-US</dc:language>
  <cp:lastModifiedBy>w</cp:lastModifiedBy>
  <dcterms:modified xsi:type="dcterms:W3CDTF">2003-10-31T01:18:42Z</dcterms:modified>
  <cp:revision>2</cp:revision>
  <dc:subject/>
  <dc:title>English Idioms</dc:title>
</cp:coreProperties>
</file>