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204-B8DF-45A5-9068-EE94F204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2F8-2E91-479D-A448-EF2C4B60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B33-626A-4C5D-9A85-39AFA941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1A6-E988-4B5E-85F1-735EBB52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FFF-44DB-493B-B0C0-D8711E33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B34-4AB0-4944-91DD-3985D0BA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AD2-77E8-4787-BD2F-1FFB3418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12D-B31E-4CA6-9883-E8552733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5CF-AEF0-4803-835C-B1D90508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627-059E-4191-8459-634FEF10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005-A705-48D6-8A3C-CC496221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222-D878-4CCC-A31D-AD675110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1246-1DA6-4DE6-90DA-00CF60EE6B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表示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过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时发生的行为对主语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目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产生的影响。即用过去发生的某个行为来说明现在的某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are good friends.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的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knew him in 1997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过去的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have known each other since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完成时把过去的动作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并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着眼于现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5440" y="1263600"/>
            <a:ext cx="810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ice ___,but I doubt whether it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ain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ent down    B.will go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s gone down   D.was going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200" y="4495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示已发生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997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8380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preparations for the task__,and we’re ready to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completed     B.comp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ve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040" y="4057560"/>
            <a:ext cx="46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过去的动作“完成了准备工作”，对现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影响是“现在已准备出发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068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197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dictionary ___. I have looked for it everywhere but still ___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86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197000"/>
            <a:ext cx="772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our town at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this is the first time I ___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       B. have b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came     D. am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645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360"/>
            <a:ext cx="72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Where ___ the recorder? I can’t see it anyw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I ___ it right here, 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you put;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you putting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64500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3120" y="890640"/>
            <a:ext cx="8589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Who is Jerry Coo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____? I saw you shaking hands with him at the mee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o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229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1197000"/>
            <a:ext cx="812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You don’t need to describe her. I ___ her several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765000"/>
            <a:ext cx="772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CTV </a:t>
            </a:r>
            <a:r>
              <a:rPr b="1" lang="en-US" sz="4800" spc="-1" strike="noStrike">
                <a:solidFill>
                  <a:srgbClr val="da0000"/>
                </a:solidFill>
                <a:latin typeface="Times New Roman"/>
              </a:rPr>
              <a:t>has been broadcas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glish programs ever since 197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3357720"/>
            <a:ext cx="7056360" cy="1650240"/>
            <a:chOff x="611280" y="3357720"/>
            <a:chExt cx="7056360" cy="1650240"/>
          </a:xfrm>
        </p:grpSpPr>
        <p:sp>
          <p:nvSpPr>
            <p:cNvPr id="77" name=""/>
            <p:cNvSpPr/>
            <p:nvPr/>
          </p:nvSpPr>
          <p:spPr>
            <a:xfrm>
              <a:off x="611280" y="3789000"/>
              <a:ext cx="70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19280" y="3357720"/>
              <a:ext cx="0" cy="79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4149360"/>
              <a:ext cx="460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3357720"/>
              <a:ext cx="0" cy="431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7640" y="4365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197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120" y="4251240"/>
              <a:ext cx="109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79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一个事件在某个事件之前一直进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用于表达事件的持续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ou look hot and tir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exercis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'm sorry I'm la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waiting long?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3840" y="819000"/>
            <a:ext cx="729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Hi, Tracy, you look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 I am tired. I ___ the living room all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inte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d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. have been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. have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50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38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to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已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in Beijing for two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197000"/>
            <a:ext cx="73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he ___ letters all morning and felt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w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wri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221000"/>
            <a:ext cx="649440" cy="7207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61920"/>
            <a:ext cx="8156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Isn’t it hard to drive downtown to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Yes, that’s why I ____ to work by t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been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4936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三种基本用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未完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。表示动作或状态开始于过去，一直延续到现在，可能继续发展，也可能刚刚结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been in the army for t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studied English since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lived here 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.be,live,stu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是延续性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的时间状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ince…,for…,in the past few years,so f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反复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表示过去到现在这段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反复发生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been to the city twice this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often wondered where she gets her money all thes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用法从时间上与现在发生了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524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完成性用法，表示动作或状态到说话时已经完成，通常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所产生的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过去的动作和状态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gone to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已经去了上海。（结果：他已不在这儿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is not here now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440" y="907920"/>
            <a:ext cx="77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make sure ___ the gold 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here Alice had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where had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here Alice has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where has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2760" y="4292640"/>
            <a:ext cx="49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用现在完成时表示过去发生的“放”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现在的影响，究竟金戒指现在“在哪里”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565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280" y="609480"/>
            <a:ext cx="838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at college I ___ three fore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guages,but I ___ all except a few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spoke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spoke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spoken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d spoken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8520" y="50292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都忘了”是现在的情况，要用现在完成时，强调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852640"/>
            <a:ext cx="576360" cy="5749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2120" y="882720"/>
            <a:ext cx="74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I’m sorry to keep you wa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Oh,not at all.I ___ here only a 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have been      B.had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as                 D.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9000" y="4191120"/>
            <a:ext cx="65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for) only a few minutes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明几分钟前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这里，一直到现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637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1111320"/>
            <a:ext cx="77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___ the sports meet might be put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Yes,it all depends on the w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I’ve been told   B. I’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I’m told             D.I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0840" y="4114800"/>
            <a:ext cx="48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告知”是过去的事，</a:t>
            </a:r>
            <a:r>
              <a:rPr b="1" lang="zh-CN" sz="3600" spc="-1" strike="noStrike">
                <a:solidFill>
                  <a:srgbClr val="da0000"/>
                </a:solidFill>
                <a:latin typeface="Times New Roman"/>
              </a:rPr>
              <a:t>对现在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“我已知道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76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3:07Z</dcterms:created>
  <dc:creator>zhao jinliang</dc:creator>
  <dc:description/>
  <dc:language>en-US</dc:language>
  <cp:lastModifiedBy>Legend User</cp:lastModifiedBy>
  <dcterms:modified xsi:type="dcterms:W3CDTF">2002-12-08T10:10:58Z</dcterms:modified>
  <cp:revision>19</cp:revision>
  <dc:subject/>
  <dc:title>PowerPoint 演示文稿</dc:title>
</cp:coreProperties>
</file>