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D91-0869-455C-A390-BFB5D406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478-1CCB-4B50-B2BD-7CE85EC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94C-7624-4197-A879-32C9A6EA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3BF-9CA0-435B-809E-FD5D56BE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8DB-3C7F-4DB7-BABC-634F6A3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940-59C4-47F4-9748-08E4CA1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2B2-FB37-438E-8995-91DA93BF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FF6-26E8-41D2-8DB3-9D49883D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999-72A6-49E7-A254-590E4CC3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314-D7D9-4396-BB06-684535A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9BB-8674-4ED9-92A9-32A2FDC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516-310B-447D-8CA9-9C02987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B67-93D6-483F-94B1-5CC385D2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elcome to the Automated 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Salary Review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lease answer the following questions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adjusted salary will be based on your ans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9360" y="608184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your answer to answer th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9720" y="608184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9720" y="60818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please get on with your wor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est Reg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B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nd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480060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ou can send your answer automatically by clicking the button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 you for your reply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remain the sam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lan Beynon</cp:lastModifiedBy>
  <dcterms:modified xsi:type="dcterms:W3CDTF">2001-11-13T00:07:34Z</dcterms:modified>
  <cp:revision>19</cp:revision>
  <dc:subject/>
  <dc:title>Anser du att du har tillräckligt hög lön?</dc:title>
</cp:coreProperties>
</file>