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2C4-E310-4419-B04F-53AEAA9A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F73-5832-44C3-963C-B64B8772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F2B-D519-4D5F-A3C3-4611D90D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4A6-049B-4AF3-89B0-DDD6FD39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3977-C670-4701-A265-428D9E5A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837B-F7E1-4F77-AE8F-AC445633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86F3-D76D-4A85-93F2-030FD8C8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E733-8C1C-4DD6-86E3-83D1F948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E88A-8D6F-4180-AEC5-5FF8772C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A214-658A-493A-AA80-B8BD47B3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3106-6D12-4630-A7B6-68F5FC8C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13E-803F-494C-B2AA-5CA0A787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92B1-5D0B-4133-AED9-2CB4B44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8700-4C03-4233-AD64-6DF4254D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3986-00D8-460F-BB42-DF112DB2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E45A-2D0C-4C91-B3FD-E1628F1B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6B75-3A3B-427B-9014-D7188A7A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D42-E0BD-43B5-A075-D8A654FB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64E-2229-40EF-AB7A-8CC81BDB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1F3-8138-46A5-BEEE-BA3C5E2C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53B-C6E5-4A29-84CF-861CF50E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305-42AE-4DBE-8F80-CBB2F8F2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A50-72A2-4D4B-8C79-87A81ED7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C4F-D726-4301-A8DF-D94799C3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9294-B328-4B62-8091-D0DC988F1312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B67F-5D77-4D49-B6C0-7925F472218A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80880"/>
            <a:ext cx="595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The –ing for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构成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一般情况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rain-----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以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结尾的动词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hope----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重读闭音节的动词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stop-----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以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ie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结尾的动词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die-----                   lie-----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tie---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74400" y="148896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rain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17400" y="202248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hop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560" y="31240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stopp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4267080"/>
            <a:ext cx="10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dy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3960" y="4191120"/>
            <a:ext cx="9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ly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0600" y="487692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ty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2349360"/>
            <a:ext cx="812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Walking through the park,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we</a:t>
            </a: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 saw a lot of flower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989000"/>
            <a:ext cx="79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Standing on the tower ,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the whole village</a:t>
            </a: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 could be see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84000" y="1268280"/>
            <a:ext cx="3672360" cy="4105440"/>
            <a:chOff x="2484000" y="1268280"/>
            <a:chExt cx="3672360" cy="4105440"/>
          </a:xfrm>
        </p:grpSpPr>
        <p:sp>
          <p:nvSpPr>
            <p:cNvPr id="124" name=""/>
            <p:cNvSpPr/>
            <p:nvPr/>
          </p:nvSpPr>
          <p:spPr>
            <a:xfrm flipH="1">
              <a:off x="2484000" y="1341360"/>
              <a:ext cx="3382920" cy="3816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56000" y="1268280"/>
              <a:ext cx="3600360" cy="4105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03480" y="988920"/>
            <a:ext cx="769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6.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作宾语补足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I saw  two birds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build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a nes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495288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作定语、状语、宾补的用法被称作现在分词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41200" y="2859120"/>
            <a:ext cx="597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1.-ing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表示正在发生的动作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与动词宾语是主动关系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3.hear,watch,see,feel:make,hav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32000" y="105264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的完成时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e was praised for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having taught for 60 years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Having been there several times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,he offered to be our guid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8560" y="119700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Arial Narrow"/>
              </a:rPr>
              <a:t>Having+-e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35280" y="3716280"/>
            <a:ext cx="5883120" cy="1556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表达的事件发生在主要动词的时间之前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9120" y="1341360"/>
            <a:ext cx="835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Having finished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the work,she went ou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190512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-ing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的被动语态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He did it with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being asked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The building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being built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is our librar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1371600"/>
            <a:ext cx="76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的所有格形式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Mr. Lee complained ab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Mary’s com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to class lat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Mr. Lee complained ab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Mary com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 to class lat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83000" y="1828800"/>
            <a:ext cx="681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否定式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Not having received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 a reply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she decided to write agai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2560" y="4265640"/>
            <a:ext cx="22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33"/>
                </a:solidFill>
                <a:latin typeface="Arial Narrow"/>
              </a:rPr>
              <a:t>Not+-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00200" y="1371600"/>
            <a:ext cx="7026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比较下列每组句子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Judy always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remembers to lock the door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remember seeing the Alps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for the first tim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3048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记住去做某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28840" y="4494240"/>
            <a:ext cx="22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 Narrow"/>
              </a:rPr>
              <a:t>记得过去做过的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28800" y="1600200"/>
            <a:ext cx="6019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.Sam often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forgets to lock the doo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I’ll never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forget seeing the Alps for the first time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47040" y="2514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忘记去做某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70520" y="4695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忘记发生的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52480" y="2057400"/>
            <a:ext cx="647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主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Collect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information is very important to busines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3880" y="1219320"/>
            <a:ext cx="701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ry to learn English well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The room was hot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ried opening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the window,but that didn’t help.So 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ried turning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on the fan,but I was still hot</a:t>
            </a: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480" y="62064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努力做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2200" y="5029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尝试新的方法，看是否行得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1600200"/>
            <a:ext cx="7483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regret to tell you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that you failed the tes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regret lending him some money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.He never paid me back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8880" y="1143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遗憾地告诉某人某个坏消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4797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对发生在过去 的某事感到后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05120" y="1600200"/>
            <a:ext cx="62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Missing the train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eans waiting for an hou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didn’t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ean to start an argumen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92200" y="114300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Narrow"/>
              </a:rPr>
              <a:t>意味着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05280" y="38862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</a:rPr>
              <a:t>打算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81080" y="1371600"/>
            <a:ext cx="6324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带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-ing 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的动词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appreciate,advise,consider,dislike,enjoy,finish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can’t  help,keep,mind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miss,practice,sugges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1447920"/>
            <a:ext cx="800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She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advised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wait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until tomorrow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appreciated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earing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from them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will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consider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go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with you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islike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riv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long distance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03280" y="620640"/>
            <a:ext cx="73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enjoy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visit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them.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can’t help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worrying about it.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keep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hoping he will com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Would you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ind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helping me with thi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iss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being with my famil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1752480"/>
            <a:ext cx="69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 athlete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practiced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throwing the ball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he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suggested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going to a movi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143000"/>
            <a:ext cx="693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动名词用法检测题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1.I would appreciate___ back this afternoo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A.you to call   B.you call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C.your calling  D. you’re cal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4952880"/>
            <a:ext cx="2819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14300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I can hardly imagine Peter ___ across the Atlantic Ocean in five day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sail   B.to sail   C.sai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to have sail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4191120"/>
            <a:ext cx="1752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90720" y="1600200"/>
            <a:ext cx="8153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3.____ is a good form of exercise for both young and o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he walk   B. Walk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walk     D.Wal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3809880"/>
            <a:ext cx="2438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1676520"/>
            <a:ext cx="7256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宾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I enjoy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learn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English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How ab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meet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outside the theatr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76520" y="546120"/>
            <a:ext cx="6545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4.__You were brave enough to raise objections at the meet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Well,now I regret ___ tha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do     B. to be do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have done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having don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647712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19320" y="762120"/>
            <a:ext cx="6933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5.Only one of these books is__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worth to read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worth being rea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worth of reading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worth read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525780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1295280"/>
            <a:ext cx="7772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6.The squirrel was lucky that it just missed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atching          B.to be caugh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being caught   D.to cat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434340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828800" y="1066680"/>
            <a:ext cx="6629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7.The boy is looking forward ___ a gif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be give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to being giv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being giv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to giv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407664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1981080"/>
            <a:ext cx="7238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8.Has the driver been used to ___in all kinds of weather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drive       B.dro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driving    D.be driv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02920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828800" y="1371600"/>
            <a:ext cx="640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9.Do you feel like ___ or shall we go by bu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walk    B.walk  C.walking   D.to walk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434340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33720" y="914400"/>
            <a:ext cx="5486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0.It’s no use ___ me believe you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rying making    B.trying to mak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rying to forc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to try to mak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72428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52480" y="1523880"/>
            <a:ext cx="6923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1.Our teacher suggested ___ the exhibition once agai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us to visit  B.our visi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visit       D.our to visi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58136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5120" y="685800"/>
            <a:ext cx="6770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2.What worried the child most was ___ to visit his mother in the hospital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his not allowing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his not being a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his being not allowed   D.having not been a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343400"/>
            <a:ext cx="5181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9120" y="1065240"/>
            <a:ext cx="7671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3.As soon as he arrived home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e got down to _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developing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develop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develop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developed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3352680"/>
            <a:ext cx="4724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87320" y="609480"/>
            <a:ext cx="661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表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The work was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tir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试比较 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I  was </a:t>
            </a:r>
            <a:r>
              <a:rPr b="0" lang="zh-CN" sz="4800" spc="-1" strike="noStrike">
                <a:solidFill>
                  <a:srgbClr val="ff0000"/>
                </a:solidFill>
                <a:latin typeface="Arial Narrow"/>
              </a:rPr>
              <a:t>tired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for the hard work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They </a:t>
            </a:r>
            <a:r>
              <a:rPr b="0" lang="zh-CN" sz="4800" spc="-1" strike="noStrike">
                <a:solidFill>
                  <a:srgbClr val="ff0000"/>
                </a:solidFill>
                <a:latin typeface="Arial Narrow"/>
              </a:rPr>
              <a:t>are danc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86400" y="4724280"/>
            <a:ext cx="37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以上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作用相当于名词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被 称作是动名词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55840" y="838080"/>
            <a:ext cx="769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现在分词用法检测题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1.European football is played i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80 countries,___ it the mos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popular sport in the wor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A.making       B.mak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C.made         D.to mak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457200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48000" y="760320"/>
            <a:ext cx="6755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She asked me to help her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_ that she couldn’t mo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 heavy  suitcase alon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only to realiz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realiz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having been realiz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realiz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449568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07760" y="1370160"/>
            <a:ext cx="714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3.The salesman scolded th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girl caught ___and let her off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have stole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to be stea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steal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stea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5867280"/>
            <a:ext cx="259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98280" y="1065240"/>
            <a:ext cx="7698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4.There was a terrible noise 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 sudden burst of ligh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fo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follow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be fo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being fo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11480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62240" y="1566720"/>
            <a:ext cx="65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5.Do you know the boy 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under the big tre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lay                   B.lai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laying              D.ly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472428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34800" y="1065240"/>
            <a:ext cx="7171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6.“Can’t you read?”Mary sai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__ to the noti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angrily poin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and point angrily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angrily point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and angrily poin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335268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50920" y="988920"/>
            <a:ext cx="802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7.The visiting Minister express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is satisfaction with his talks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_ that he had enjoyed his sta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er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having added    B.to ad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adding               D.add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4100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70760" y="988920"/>
            <a:ext cx="8113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8.____ a reply,he decided to writ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gai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Not receiv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Receiving no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Not having receiv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Having not receiv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4724280"/>
            <a:ext cx="4724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74240" y="912960"/>
            <a:ext cx="736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9.When he was a boy,he use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o go there and watch 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repair bicycl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bicycles to be repair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bicycles being repair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repairing bicycl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4724280"/>
            <a:ext cx="5410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8480" y="1446120"/>
            <a:ext cx="694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10.____,his face turned pal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A.Hearing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B.When hearing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C.Having heard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D.After he heard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5181480"/>
            <a:ext cx="586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13000" y="907920"/>
            <a:ext cx="719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4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定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sleep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boy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I know the man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stand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ther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81240" y="3573360"/>
            <a:ext cx="31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1.</a:t>
            </a: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与被修饰词是主动关系 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2.</a:t>
            </a: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表示 正在发生的动作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7040" y="4941720"/>
            <a:ext cx="353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0" lang="zh-CN" sz="4800" spc="-1" strike="noStrike">
                <a:solidFill>
                  <a:srgbClr val="ff0000"/>
                </a:solidFill>
                <a:latin typeface="Arial Narrow"/>
              </a:rPr>
              <a:t>walk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stic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36640" y="19922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03560" y="1217520"/>
            <a:ext cx="675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12.Not until Jane got off 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bus did she find her walle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_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A.missing    B.miss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C.losing      D.mis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4267080"/>
            <a:ext cx="1905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27680" y="1065240"/>
            <a:ext cx="7783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2.When I got back hom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saw a message pinned to 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oor___ “Sorry to miss you;Will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all later.”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read              B.read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read          D.read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56272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685800"/>
            <a:ext cx="7239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             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5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状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They stood there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waiting for the bus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Walking in the street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,I saw two birds building a nes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1295280"/>
            <a:ext cx="746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作什么状语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2.-ing 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与句子主语存在主动关系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的逻辑主语与句子主语一致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伴随状语表示与主要动词同时间发生， 常放在句尾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;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时间、原因状语常放在句子开头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916280"/>
            <a:ext cx="775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现在分词作状语时，它逻辑上的主语必须与句子的主语一致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2205000"/>
            <a:ext cx="860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Walking through the park,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the  flowers</a:t>
            </a: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 looked very beautiful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484000" y="1268280"/>
            <a:ext cx="3672360" cy="4105440"/>
            <a:chOff x="2484000" y="1268280"/>
            <a:chExt cx="3672360" cy="4105440"/>
          </a:xfrm>
        </p:grpSpPr>
        <p:sp>
          <p:nvSpPr>
            <p:cNvPr id="119" name=""/>
            <p:cNvSpPr/>
            <p:nvPr/>
          </p:nvSpPr>
          <p:spPr>
            <a:xfrm flipH="1">
              <a:off x="2484000" y="1341360"/>
              <a:ext cx="3382920" cy="3816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56000" y="1268280"/>
              <a:ext cx="3600360" cy="4105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9:17:35Z</dcterms:created>
  <dc:creator>Legend User</dc:creator>
  <dc:description/>
  <dc:language>en-US</dc:language>
  <cp:lastModifiedBy>赵晨盼</cp:lastModifiedBy>
  <dcterms:modified xsi:type="dcterms:W3CDTF">2002-11-03T13:08:29Z</dcterms:modified>
  <cp:revision>32</cp:revision>
  <dc:subject/>
  <dc:title>PowerPoint 演示文稿</dc:title>
</cp:coreProperties>
</file>