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3.gif" ContentType="image/gif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21.jpeg" ContentType="image/jpeg"/>
  <Override PartName="/ppt/media/image17.gif" ContentType="image/gif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C34D-C6B0-4922-A648-4C389123A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14C0-5788-4E64-90E8-EDFD79EB5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6CB7-5896-450C-9003-4C2908069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EB41-4770-4297-8B07-BACE86F58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FEFA-BDFD-470D-A8D6-4EE5C835B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A450-1EA7-42C9-AAB9-7785D22DF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567D-F06B-4510-BB74-3DC6363AB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8E92-45FE-47B5-B5AE-DD19DE668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D33F-6F65-4204-A407-E38C6211A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2458-A975-45B5-82FD-CD3BFA43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DB6A-7E23-4CE5-8759-853FEF8A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4F55-BBC8-4F4D-A9B7-153C66AE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D6D2A-96A2-4708-A57E-0AD0DA1E782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54400" y="990720"/>
            <a:ext cx="805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man Old Style"/>
              </a:rPr>
              <a:t>Unit 1 Tales of the unexplain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475360" y="2681280"/>
            <a:ext cx="388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Book Antiqua"/>
              </a:rPr>
              <a:t>Word Pow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56280" y="4952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江安中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934320" y="54864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刘文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08000" y="6508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8614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465920" y="533520"/>
            <a:ext cx="6488280" cy="28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explor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ation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: n.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勘探，勘查，探索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e.g.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pace expl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il expl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362320" y="10663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4952880"/>
            <a:ext cx="1905120" cy="16160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436120" y="4343400"/>
            <a:ext cx="2571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.g.   organiz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46483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05520" y="51814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19920" y="429732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organiz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43600" y="483084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aliz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05320" y="4876920"/>
            <a:ext cx="1676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aliz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92000" y="2276640"/>
            <a:ext cx="810108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explor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e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: v.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勘探，勘查，探索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.g. Upon arriving on the island, we were eager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xplore.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们一到岛上就急不可耐地考察起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)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6320" y="380880"/>
            <a:ext cx="9144000" cy="61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Good afternoon, everyone. I’m so gla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to be here to tell you something about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outer space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and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space exploration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. Space explor -ation began in 1957 with the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launch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of the first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rtificial satellite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Unmanned spaceships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have been launched into space since 1959. By 1961, people were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orbiting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the Earth. Yuri Gagarin from the former Soviet Union become the first human being to travel in space.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28440"/>
            <a:ext cx="9144000" cy="71344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22040" y="425520"/>
            <a:ext cx="873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Century Gothic"/>
              </a:rPr>
              <a:t>        </a:t>
            </a:r>
            <a:r>
              <a:rPr b="1" i="1" lang="en-US" sz="2800" spc="-1" strike="noStrike">
                <a:solidFill>
                  <a:srgbClr val="3333cc"/>
                </a:solidFill>
                <a:latin typeface="Century Gothic"/>
              </a:rPr>
              <a:t>Read the first part of the speech and comp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Century Gothic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Century Gothic"/>
              </a:rPr>
              <a:t>the time line of the main events mentio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066680" y="1752480"/>
          <a:ext cx="7391520" cy="3835440"/>
        </p:xfrm>
        <a:graphic>
          <a:graphicData uri="http://schemas.openxmlformats.org/drawingml/2006/table">
            <a:tbl>
              <a:tblPr/>
              <a:tblGrid>
                <a:gridCol w="1524240"/>
                <a:gridCol w="5867280"/>
              </a:tblGrid>
              <a:tr h="78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m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5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5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6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00"/>
                          </a:solidFill>
                          <a:latin typeface="Courier New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2727360" y="2631960"/>
            <a:ext cx="9543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urier New"/>
              </a:rPr>
              <a:t>the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urier New"/>
                <a:hlinkClick r:id="rId2" action="ppaction://hlinksldjump"/>
              </a:rPr>
              <a:t>launch</a:t>
            </a:r>
            <a:r>
              <a:rPr b="0" lang="en-US" sz="3200" spc="-1" strike="noStrike" u="sng">
                <a:solidFill>
                  <a:srgbClr val="ff3300"/>
                </a:solidFill>
                <a:uFillTx/>
                <a:latin typeface="Courier New"/>
              </a:rPr>
              <a:t> of the fir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urier New"/>
              </a:rPr>
              <a:t>artificial satell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66880" y="3657600"/>
            <a:ext cx="48294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urier New"/>
              </a:rPr>
              <a:t>unmanned spaceship…  launch into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10160" y="4724280"/>
            <a:ext cx="383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Courier New"/>
                <a:hlinkClick r:id="rId3" action="ppaction://hlinksldjump"/>
              </a:rPr>
              <a:t>orbit</a:t>
            </a:r>
            <a:r>
              <a:rPr b="0" lang="en-US" sz="3200" spc="-1" strike="noStrike" u="sng">
                <a:solidFill>
                  <a:srgbClr val="ff3300"/>
                </a:solidFill>
                <a:uFillTx/>
                <a:latin typeface="Courier New"/>
              </a:rPr>
              <a:t> the Ea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85800" y="685800"/>
            <a:ext cx="9067680" cy="36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launch: n.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航天器的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发射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;(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产品的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上市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4890960"/>
            <a:ext cx="2057400" cy="16779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514600" y="140184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.g.  the successful launch of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52680" y="20113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product laun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90920" y="2819520"/>
            <a:ext cx="630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v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发射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;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把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航天器等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发射上天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3733920"/>
            <a:ext cx="6553080" cy="10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.g. Does everyone know how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unch a spaceship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4952880"/>
            <a:ext cx="1905120" cy="16160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-152280" y="457200"/>
            <a:ext cx="9067680" cy="25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orbit: v.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绕轨道运行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;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围绕…运动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e.g. The earth takes a year to </a:t>
            </a:r>
            <a:r>
              <a:rPr b="1" i="1" lang="zh-CN" sz="3000" spc="-1" strike="noStrike">
                <a:solidFill>
                  <a:srgbClr val="000000"/>
                </a:solidFill>
                <a:latin typeface="Times New Roman"/>
              </a:rPr>
              <a:t>orbit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the sun.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52480" y="1905120"/>
            <a:ext cx="807732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n. (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天体等运行的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轨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 earth’s </a:t>
            </a:r>
            <a:r>
              <a:rPr b="1" i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orbit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round the s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62320" y="502920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62320" y="3733920"/>
            <a:ext cx="7467480" cy="22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A new satellite has been </a:t>
            </a:r>
            <a:r>
              <a:rPr b="1" i="1" lang="zh-CN" sz="3000" spc="-1" strike="noStrike" u="sng">
                <a:solidFill>
                  <a:srgbClr val="000000"/>
                </a:solidFill>
                <a:uFillTx/>
                <a:latin typeface="Times New Roman"/>
              </a:rPr>
              <a:t>put into orbi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around the earth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颗新的人造卫星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送上了环绕地球的轨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0" y="3124080"/>
            <a:ext cx="746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 space station </a:t>
            </a:r>
            <a:r>
              <a:rPr b="1" i="1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in orbi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round the mo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" dur="83357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66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9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952880" cy="65530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638680" y="76212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What’s t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86400" y="13860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launch tow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38680" y="24526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unch p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57800" y="3352680"/>
            <a:ext cx="3657600" cy="1981440"/>
          </a:xfrm>
          <a:prstGeom prst="wedgeEllipseCallout">
            <a:avLst>
              <a:gd name="adj1" fmla="val -110675"/>
              <a:gd name="adj2" fmla="val 9326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08720" y="3581280"/>
            <a:ext cx="333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 platform from which a space shuttle is sent into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123720" y="1066680"/>
            <a:ext cx="2590920" cy="1524240"/>
          </a:xfrm>
          <a:prstGeom prst="line">
            <a:avLst/>
          </a:prstGeom>
          <a:ln w="76320">
            <a:solidFill>
              <a:srgbClr val="ff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79680" y="5105520"/>
            <a:ext cx="692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What lifts the space shuttle into sp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57294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wo rocke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2362320"/>
            <a:ext cx="8458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19720" cy="51055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4419720" y="0"/>
            <a:ext cx="47242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28440"/>
            <a:ext cx="9144000" cy="71344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57200" y="217440"/>
            <a:ext cx="8839080" cy="23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What happens to the two rockets after they separate from the space shuttle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1600200"/>
            <a:ext cx="88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ll into the sea and a ship will pick them 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2362320"/>
            <a:ext cx="9144000" cy="42670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867280" y="2209680"/>
            <a:ext cx="2743200" cy="1524240"/>
          </a:xfrm>
          <a:prstGeom prst="cloudCallout">
            <a:avLst>
              <a:gd name="adj1" fmla="val -97745"/>
              <a:gd name="adj2" fmla="val 118958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43600" y="26208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tracking 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04920" y="6480"/>
            <a:ext cx="8839080" cy="12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Century Gothic"/>
              </a:rPr>
              <a:t>         </a:t>
            </a:r>
            <a:r>
              <a:rPr b="1" i="1" lang="en-US" sz="2400" spc="-1" strike="noStrike">
                <a:solidFill>
                  <a:srgbClr val="3333cc"/>
                </a:solidFill>
                <a:latin typeface="Century Gothic"/>
              </a:rPr>
              <a:t>Read the speech and fill in the blanks using words we learn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28600" y="990720"/>
          <a:ext cx="8763120" cy="5640120"/>
        </p:xfrm>
        <a:graphic>
          <a:graphicData uri="http://schemas.openxmlformats.org/drawingml/2006/table">
            <a:tbl>
              <a:tblPr/>
              <a:tblGrid>
                <a:gridCol w="8763120"/>
              </a:tblGrid>
              <a:tr h="565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 guess some of you are dreaming of becoming an _____  and traveling to _____ to carry out _______. If this comes true, you’ll probably travel by ____, a spaceship that looks like an aeroplane. Two _____ supposed by a launch tower will lift the space shuttle into space. Some time after the rockets and the space shuttle are ______, the rockets will separate from the space shuttle and fall into the sea. Then a ship will pick them up. Astronauts will do their research in a base in outer space shuttle called _______. Sometimes they go out of their space shuttle to take a _______. In outer space astronauts cannot take off their _____, which protect them and provide oxygen. In 1965, Alexei Leonov from the former Soviet Union became the first human being to take a walk in spac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6842160" y="1773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74880" y="276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60880" y="466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24280" cy="6553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10552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Who is she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05520" y="1187280"/>
            <a:ext cx="426708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 beauty named Chang’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n the mo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24280" y="3048120"/>
            <a:ext cx="4419720" cy="2971800"/>
          </a:xfrm>
          <a:prstGeom prst="cloudCallout">
            <a:avLst>
              <a:gd name="adj1" fmla="val -50217"/>
              <a:gd name="adj2" fmla="val -8808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10080" y="3352680"/>
            <a:ext cx="358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tory about Chang’e told us that we human beings had been dreaming of traveling to space for thousands of year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18120" y="303120"/>
            <a:ext cx="683136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pace         space exploration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launch                 space shuttl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launch tower       rocket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launch pad          astronaut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tracking ship      spacesuit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pacewalk           space s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04920" y="7632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Century Gothic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52280" y="380880"/>
          <a:ext cx="8915400" cy="6310440"/>
        </p:xfrm>
        <a:graphic>
          <a:graphicData uri="http://schemas.openxmlformats.org/drawingml/2006/table">
            <a:tbl>
              <a:tblPr/>
              <a:tblGrid>
                <a:gridCol w="8915400"/>
              </a:tblGrid>
              <a:tr h="631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 guess some of you are dreaming of becoming an________ and traveling to ______ to carry out _________________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f this comes true, you’ll probably travel by ____________, a spaceship that looks like an aeroplane. Two ______ supported by a launch tower will lift the space shuttle into space. Some time after the rockets and the space shuttle are ________,  the rockets will separate from the space shuttle and fall into the sea. Then a ship will pick them up. Astronauts will do their research in a base in outer space  called ___________. Sometimes they go out of their space shuttle to take a _________. In outer space astronauts cannot take off their _________, which protect them and provide oxygen. In 1965, Alexei Leonov from the former Soviet Union became the first human being to take a walk in spac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7697880" y="38088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strona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687400" y="76212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4120" y="762120"/>
            <a:ext cx="24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pace expl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53720" y="1143000"/>
            <a:ext cx="192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pace shut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17600" y="15238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r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47720" y="263196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launc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16720" y="3809880"/>
            <a:ext cx="192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pace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57440" y="419112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pacewa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174840" y="4572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pacesu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28440"/>
            <a:ext cx="9144000" cy="71344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914400" y="114300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0880" y="1722600"/>
            <a:ext cx="9144000" cy="43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oday, most importan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planets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ave been examined. Photos have been taken an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samples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ave been collected from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lanets, but no evidence of life has been discovered on any of the planets so far. Scientific research still continu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60948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Century Gothic"/>
              </a:rPr>
              <a:t>Today’s space explo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762120" y="30492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entury Gothic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Century Gothic"/>
              </a:rPr>
              <a:t>nine planets in the solar system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13716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arth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地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105520" y="12952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Jupiter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木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22860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Mercury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181480" y="22860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Mars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火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32767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eptune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海王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81480" y="3276720"/>
            <a:ext cx="40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Pluto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冥王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14400" y="4343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Venus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金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105520" y="42670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aturn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土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105520" y="518148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Uranus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天王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0" y="5029200"/>
            <a:ext cx="251460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334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5" name=""/>
          <p:cNvGraphicFramePr/>
          <p:nvPr/>
        </p:nvGraphicFramePr>
        <p:xfrm>
          <a:off x="0" y="5334120"/>
          <a:ext cx="9144000" cy="13716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>
            <a:off x="76320" y="5486400"/>
            <a:ext cx="3045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5486400"/>
            <a:ext cx="304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5486400"/>
            <a:ext cx="304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5486400"/>
            <a:ext cx="304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91520" y="5486400"/>
            <a:ext cx="304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6320" y="60958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905120" y="60958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733920" y="60958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62720" y="60958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1600" y="5410080"/>
            <a:ext cx="119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a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09680" y="5364000"/>
            <a:ext cx="15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Jupit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040640" y="5424480"/>
            <a:ext cx="160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ercu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868000" y="5410080"/>
            <a:ext cx="121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99320" y="5410080"/>
            <a:ext cx="155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eptu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6049800"/>
            <a:ext cx="120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lu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10760" y="6049800"/>
            <a:ext cx="136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enu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38840" y="604980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atur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867640" y="6049800"/>
            <a:ext cx="157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ranu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90720" y="25909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447920" y="3200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057400" y="3124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66880" y="22860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42900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19720" y="2057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638680" y="1828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2666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29600" y="1752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120" y="545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184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889280" y="123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600200" y="685800"/>
            <a:ext cx="571500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47520">
                  <a:solidFill>
                    <a:srgbClr val="ff00ff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entury Gothic"/>
              </a:rPr>
              <a:t>Thank you!</a:t>
            </a:r>
            <a:endParaRPr b="0" lang="en-US" sz="2400" spc="1" strike="noStrike">
              <a:ln w="47520">
                <a:solidFill>
                  <a:srgbClr val="ff00ff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entury Gothic"/>
              <a:ea typeface="Century Gothic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90360" y="6580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1" dur="236710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820480" y="243000"/>
            <a:ext cx="2941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spacesuit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410080" y="1170000"/>
            <a:ext cx="3429000" cy="5230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62520" y="3429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4640" y="152280"/>
            <a:ext cx="258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astronau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80880" y="1143000"/>
            <a:ext cx="3505320" cy="5257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28600" y="60199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969.7.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511280" y="4890960"/>
            <a:ext cx="290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spacewal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33520" y="1219320"/>
            <a:ext cx="3124080" cy="32605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105520" y="2590920"/>
            <a:ext cx="3238560" cy="28954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3276720" y="533520"/>
            <a:ext cx="327636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125080" y="5765760"/>
            <a:ext cx="356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space st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19720" cy="35053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267080" y="0"/>
            <a:ext cx="4876920" cy="35053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4267080" y="3505320"/>
            <a:ext cx="4876920" cy="31240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57920" y="4343400"/>
            <a:ext cx="341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space shutt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-27612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494000" y="-101520"/>
            <a:ext cx="277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spaceshi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962520" y="3581280"/>
            <a:ext cx="4190760" cy="2357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4952880" y="76320"/>
            <a:ext cx="3276720" cy="33526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609480" y="914400"/>
            <a:ext cx="327672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914400" y="228600"/>
            <a:ext cx="8077320" cy="44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pac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5067360"/>
            <a:ext cx="1981080" cy="14857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867280" y="1066680"/>
            <a:ext cx="152640" cy="1371600"/>
          </a:xfrm>
          <a:custGeom>
            <a:avLst/>
            <a:gdLst>
              <a:gd name="textAreaLeft" fmla="*/ 97560 w 152640"/>
              <a:gd name="textAreaRight" fmla="*/ 153000 w 15264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00400" y="1066680"/>
            <a:ext cx="152280" cy="2057400"/>
          </a:xfrm>
          <a:custGeom>
            <a:avLst/>
            <a:gdLst>
              <a:gd name="textAreaLeft" fmla="*/ 97200 w 152280"/>
              <a:gd name="textAreaRight" fmla="*/ 152640 w 1522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38280" y="838080"/>
            <a:ext cx="74678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.g.     spaceman            space st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acesuit              space shut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aceship             outer space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acewal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41316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n.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空间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空地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48006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张桌子占据了太多的空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438280" y="212760"/>
            <a:ext cx="501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n.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地球大气以外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14600" y="4114800"/>
            <a:ext cx="6629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.g. The desk takes up too much sp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80880" y="2362320"/>
            <a:ext cx="9296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00"/>
                </a:solidFill>
                <a:latin typeface="Times New Roman"/>
              </a:rPr>
              <a:t>Space exploration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56360" y="5430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09:44:50Z</dcterms:created>
  <dc:creator>英语组02</dc:creator>
  <dc:description/>
  <dc:language>en-US</dc:language>
  <cp:lastModifiedBy>SEC</cp:lastModifiedBy>
  <dcterms:modified xsi:type="dcterms:W3CDTF">2005-11-06T23:22:57Z</dcterms:modified>
  <cp:revision>63</cp:revision>
  <dc:subject/>
  <dc:title>PowerPoint 演示文稿</dc:title>
</cp:coreProperties>
</file>