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type.wav" ContentType="audio/x-wav"/>
  <Override PartName="/ppt/media/image17.png" ContentType="image/png"/>
  <Override PartName="/ppt/media/image12.jpeg" ContentType="image/jpeg"/>
  <Override PartName="/ppt/media/image13.png" ContentType="image/png"/>
  <Override PartName="/ppt/media/image20.jpeg" ContentType="image/jpeg"/>
  <Override PartName="/ppt/media/image19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camera.wav" ContentType="audio/x-wav"/>
  <Override PartName="/ppt/media/image6.png" ContentType="image/png"/>
  <Override PartName="/ppt/media/image18.png" ContentType="image/png"/>
  <Override PartName="/ppt/media/image7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EFA0-4571-4FE3-BE29-D9CBDA26A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9FC1-D375-4DBE-98B1-3516E4CA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8BD0-202A-4F08-8D50-DBF9FFE5C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D677-125F-4D25-9542-74D808964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2561-F719-41D5-BD1E-E5CEAD6C0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FC2E-8083-4FFB-AE5A-91FF207A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ADD7-B14D-44DB-BE84-2F0C6FA2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07F9-B765-4EDC-815D-F44B0D18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3466-AC98-4CCB-8A15-8F9A2918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7347-ECE2-43AD-A679-B00F86C6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9B38-8F35-4558-84A0-5B9A64EE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3A99-9C49-4017-BAC3-575FA6F4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E866-718F-418D-B200-BA0B0AC9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C0C1-49A0-42AF-B921-FE13C7D2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B51B-EA82-44D2-A08A-69C4838E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F75E-01B2-4ACA-BFDD-55F0633A7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91AA-96D0-4626-A416-6D5BDAC9F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D1D97-407E-4AA2-8501-75F0E3EA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10206-421D-44D7-8EDA-68962BAC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459E4-1A4F-41E7-BDAB-5ECC3BF0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935EF-615A-48B6-AE1C-676D2CE1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74EBF-165E-4CE1-963E-87C24CC1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340E-6B3D-4EC1-AD8B-D993DCE9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35104-17F9-4150-AFEB-9A0A793F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8A585-43B8-4C8D-9F48-73CAD14B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87FE4-4CD1-4851-BDB9-503C1A09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EBF46-57D6-47DD-8878-2D74C0F8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96C1A-4FAF-4D99-9761-5142CCC6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C7D0E-0ACC-4002-99BE-51A05CA86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268AE-EBDD-4EE5-B6B1-3F2471347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B7C34-6095-4028-9509-0853B60E9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663B7-4AF6-48F1-8BE8-BDB1285F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54A02-73B4-47C4-BBA5-3719F240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6F8D-E7E9-4F9B-B357-0E4A5F55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4C448-0BBD-4933-9438-6CA6C37D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F32C9-12C8-41C8-982D-14C704F4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2941E-97A7-4F14-8546-6C8D6EF7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93335-4597-4DE9-BC98-B0A758B6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CE493-545C-45BF-80DD-0648A5ED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FDCB4-D50A-478B-9282-FBF51C8D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66CF8-CD55-44DD-B9C6-91B7C8E8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9C61E-1811-4AC6-AEB1-93FDC7257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31339-CBCA-4E7D-8C0E-34DE1813F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0E93-968A-46DA-8B12-F7579FA1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DB50-9FAE-4775-B624-64F7F6E5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E0C5-A51B-4E26-B45F-F86087D4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BF8A-3EA3-466E-B03B-BFCE5494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F8DB-FEF0-466C-838F-7196B136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F6E1-2E53-4C69-9FC6-998205A8AE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F1F0-5FC8-43F4-983A-7D1BBD74D4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4E2E-157B-422F-AAB6-419066CE1693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grpSp>
            <p:nvGrpSpPr>
              <p:cNvPr id="12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D752-8284-49EC-84E3-06F950EF9C18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8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934320" y="61722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石庄高级中学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8120" y="380880"/>
            <a:ext cx="41907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welcome</a:t>
            </a:r>
            <a:endParaRPr b="0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3049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7303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ccdd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1295280" y="1447920"/>
          <a:ext cx="259092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447920"/>
                    <a:ext cx="259092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5638680" y="1523880"/>
            <a:ext cx="2210040" cy="26672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678600" y="4800600"/>
            <a:ext cx="81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Justin Foster, a fifteen-year-old boy,was missing two days ago in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over, New Hampshire. Maybe he was taken away by aliens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228600" y="0"/>
            <a:ext cx="4191120" cy="3049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4572000" y="0"/>
            <a:ext cx="41911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ccff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395280" y="620280"/>
            <a:ext cx="8480160" cy="5943960"/>
            <a:chOff x="395280" y="620280"/>
            <a:chExt cx="8480160" cy="5943960"/>
          </a:xfrm>
        </p:grpSpPr>
        <p:sp>
          <p:nvSpPr>
            <p:cNvPr id="290" name=""/>
            <p:cNvSpPr/>
            <p:nvPr/>
          </p:nvSpPr>
          <p:spPr>
            <a:xfrm flipV="1">
              <a:off x="395280" y="2068200"/>
              <a:ext cx="4496040" cy="4495680"/>
            </a:xfrm>
            <a:prstGeom prst="triangle">
              <a:avLst>
                <a:gd name="adj" fmla="val 50000"/>
              </a:avLst>
            </a:prstGeom>
            <a:solidFill>
              <a:srgbClr val="0066ff"/>
            </a:solidFill>
            <a:ln w="381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43320" y="2220840"/>
              <a:ext cx="19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he first part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696320" y="313524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he rest parts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743720" y="2525760"/>
              <a:ext cx="83808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905280" y="4049640"/>
              <a:ext cx="114300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05120" y="2297160"/>
              <a:ext cx="289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main topic and the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most important facts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32440" y="3786120"/>
              <a:ext cx="38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new but less important facts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57520" y="3059280"/>
              <a:ext cx="3504960" cy="0"/>
            </a:xfrm>
            <a:prstGeom prst="line">
              <a:avLst/>
            </a:prstGeom>
            <a:ln w="2844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8" name="PlaceHolder 1"/>
            <p:cNvSpPr>
              <a:spLocks noGrp="1"/>
            </p:cNvSpPr>
            <p:nvPr>
              <p:ph type="title"/>
            </p:nvPr>
          </p:nvSpPr>
          <p:spPr>
            <a:xfrm>
              <a:off x="547920" y="62028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ctr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</a:rPr>
                <a:t>A typical news story is written in an inverted pyramid</a:t>
              </a: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       </a:t>
              </a: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</a:rPr>
                <a:t>format.</a:t>
              </a: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(</a:t>
              </a:r>
              <a:r>
                <a:rPr b="1" lang="zh-CN" sz="1600" spc="-1" strike="noStrike">
                  <a:solidFill>
                    <a:srgbClr val="0066ff"/>
                  </a:solidFill>
                  <a:latin typeface="Times New Roman"/>
                </a:rPr>
                <a:t>倒金字塔</a:t>
              </a: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)</a:t>
              </a:r>
              <a:endParaRPr b="0" i="1" lang="en-US" sz="2400" spc="-1" strike="noStrike">
                <a:solidFill>
                  <a:srgbClr val="795241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-228960" y="-152280"/>
            <a:ext cx="9372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Read the news story and finish the following exercises.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900000" y="3068640"/>
          <a:ext cx="6858000" cy="3376440"/>
        </p:xfrm>
        <a:graphic>
          <a:graphicData uri="http://schemas.openxmlformats.org/drawingml/2006/table">
            <a:tbl>
              <a:tblPr/>
              <a:tblGrid>
                <a:gridCol w="2163600"/>
                <a:gridCol w="4694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ain Points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ting details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14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Justin Foster went missing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s. Foster thought he was spending the night with a friend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. Foster was surprised ______________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 Foster ________at the family lunch the next day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The police found that Justin returned home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’s friends said _______after the game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nesses said ______ at 10:45p.m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heard ______at about 11p.m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The boy was taken away by aliens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saw _______flying outside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heard _____and then the UFO disappeared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vis Wood thought Justin __________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"/>
          <p:cNvSpPr/>
          <p:nvPr/>
        </p:nvSpPr>
        <p:spPr>
          <a:xfrm>
            <a:off x="1066680" y="685800"/>
            <a:ext cx="6400800" cy="34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Why did Mrs. Foster go to bed early?  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What was Mr. Foster doing that night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What did Mrs. Foster do when Justin didn’t  show up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What sports does Justin play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Does Justin have any brothers or sisters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Who else has been taken away by the aliens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539280" y="765000"/>
            <a:ext cx="9325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Why did Mrs. Foster go to bed early?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She went to bed early because of a headach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What was Mr. Foster doing that night?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Mr. Foster was working that nigh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What did Mrs. Foster do when Justin didn’t show up?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She became worried and told her husband to call the police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What sports does Justin play?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Justin plays baseball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Does Justin have any brothers or sisters?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Yes, he has a sister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Who else has been taken by the aliens?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Mavis Wood was taken  by the aliens too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1120" cy="3049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41911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826920" y="404640"/>
          <a:ext cx="8066160" cy="6147000"/>
        </p:xfrm>
        <a:graphic>
          <a:graphicData uri="http://schemas.openxmlformats.org/drawingml/2006/table">
            <a:tbl>
              <a:tblPr/>
              <a:tblGrid>
                <a:gridCol w="2276640"/>
                <a:gridCol w="5789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Main Point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ting detail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21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Justin Foster went missing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s. Foster thought he was spending the night with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 friend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. Foster was surprised___________________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___________________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 Foster _____________  at the family lunch the next day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The police found that Justin returned home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’s friends said ______________   after the                               game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nesses said_________________________       at 10:45p.m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heard  ________________at about 11p.m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180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Justin was taken away by aliens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saw __________________ flying outside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heard _________    and then the UFO disappeared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vis Wood thought Justin ________________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________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"/>
          <p:cNvSpPr/>
          <p:nvPr/>
        </p:nvSpPr>
        <p:spPr>
          <a:xfrm>
            <a:off x="5874120" y="148284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he didn’t tell anyone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71680" y="1893960"/>
            <a:ext cx="294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hat he was staying out late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20320" y="228600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didn’t show up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40600" y="299412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Justin went home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33720" y="3643200"/>
            <a:ext cx="331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hey saw Justin walking  home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67320" y="4343400"/>
            <a:ext cx="20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Justin return home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93520" y="4724280"/>
            <a:ext cx="19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a large spaceship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93160" y="5105520"/>
            <a:ext cx="145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Justin shout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155280" y="568152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was taken awa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75280" y="607068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by the aliens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id you do when your son didn’t show up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were you doing that night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id you hear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o the aliens look like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o you think may happen to Justin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14240" y="440676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463634"/>
                </a:solidFill>
                <a:latin typeface="Times New Roman"/>
              </a:rPr>
              <a:t>…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1800360" cy="18716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5791320" y="2438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1219320" y="2057400"/>
            <a:ext cx="2133360" cy="20574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5867280" y="4572000"/>
            <a:ext cx="1729080" cy="15937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678320" y="4267080"/>
            <a:ext cx="175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VO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867280" y="19810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r. Foster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91320" y="4191120"/>
            <a:ext cx="17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rs. Foster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940000" y="609300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lly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19827000">
            <a:off x="3657600" y="2438280"/>
            <a:ext cx="976320" cy="138240"/>
          </a:xfrm>
          <a:prstGeom prst="rightArrow">
            <a:avLst>
              <a:gd name="adj1" fmla="val 50000"/>
              <a:gd name="adj2" fmla="val 176563"/>
            </a:avLst>
          </a:prstGeom>
          <a:solidFill>
            <a:srgbClr val="ff3399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2053800">
            <a:off x="3580920" y="3504960"/>
            <a:ext cx="1057320" cy="145800"/>
          </a:xfrm>
          <a:prstGeom prst="rightArrow">
            <a:avLst>
              <a:gd name="adj1" fmla="val 50000"/>
              <a:gd name="adj2" fmla="val 181296"/>
            </a:avLst>
          </a:prstGeom>
          <a:solidFill>
            <a:srgbClr val="ff3399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21598800">
            <a:off x="3657600" y="2971440"/>
            <a:ext cx="976320" cy="138240"/>
          </a:xfrm>
          <a:prstGeom prst="rightArrow">
            <a:avLst>
              <a:gd name="adj1" fmla="val 50000"/>
              <a:gd name="adj2" fmla="val 176563"/>
            </a:avLst>
          </a:prstGeom>
          <a:solidFill>
            <a:srgbClr val="ff3399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9" name="Cloud"/>
          <p:cNvSpPr/>
          <p:nvPr/>
        </p:nvSpPr>
        <p:spPr>
          <a:xfrm>
            <a:off x="2362320" y="0"/>
            <a:ext cx="2743200" cy="1838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When? Where? Who ? What? How?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• • •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13310400">
            <a:off x="3188880" y="1611000"/>
            <a:ext cx="111240" cy="5173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id you do when your son didn’t show up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were you doing that night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id you hear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o the aliens look like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o you think may happen to Justin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614240" y="440676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463634"/>
                </a:solidFill>
                <a:latin typeface="Times New Roman"/>
              </a:rPr>
              <a:t>…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ca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ff"/>
                </a:solidFill>
                <a:latin typeface="Times New Roman"/>
              </a:rPr>
              <a:t>Homework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2120" y="32000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Please give an ending to the story.Was Justin really taken away by aliens or were there any other reasons?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1120" cy="4572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4191120" cy="4572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152280" y="6477120"/>
            <a:ext cx="4191120" cy="3808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4495680" y="6477120"/>
            <a:ext cx="4191120" cy="3808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62120" y="2124000"/>
            <a:ext cx="72579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Finish part F and do some speaking practice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according to the sampl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3581280" y="609480"/>
            <a:ext cx="41148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Thank yo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1295280" y="836640"/>
            <a:ext cx="6438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Tales of the unexplained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106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828800" y="3048120"/>
            <a:ext cx="4952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371520"/>
            <a:ext cx="14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FO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19800" y="380880"/>
            <a:ext cx="29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ien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867280" y="1752480"/>
            <a:ext cx="2919600" cy="35816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52280" y="1066680"/>
            <a:ext cx="5181840" cy="43434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Do you believe in UFOs and aliens? Why or why not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If you saw a UFO and an alien some day, what would you do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What other unexplained things do you know</a:t>
            </a: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about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4360" y="836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Comic Sans MS"/>
              </a:rPr>
              <a:t>Discussion</a:t>
            </a:r>
            <a:br>
              <a:rPr sz="4400"/>
            </a:b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219320" y="312408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eti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50840" y="3220920"/>
            <a:ext cx="184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18960" y="403848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yramid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15360" y="624852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neheng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29200" y="304812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ch Ness Monster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28600" y="228600"/>
            <a:ext cx="8381880" cy="5905440"/>
            <a:chOff x="228600" y="228600"/>
            <a:chExt cx="8381880" cy="5905440"/>
          </a:xfrm>
        </p:grpSpPr>
        <p:grpSp>
          <p:nvGrpSpPr>
            <p:cNvPr id="253" name=""/>
            <p:cNvGrpSpPr/>
            <p:nvPr/>
          </p:nvGrpSpPr>
          <p:grpSpPr>
            <a:xfrm>
              <a:off x="228600" y="228600"/>
              <a:ext cx="8381880" cy="5905440"/>
              <a:chOff x="228600" y="228600"/>
              <a:chExt cx="8381880" cy="5905440"/>
            </a:xfrm>
          </p:grpSpPr>
          <p:pic>
            <p:nvPicPr>
              <p:cNvPr id="2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3581280"/>
                <a:ext cx="3886200" cy="25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495680" y="3581280"/>
                <a:ext cx="4114800" cy="255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19720" y="228600"/>
                <a:ext cx="4114800" cy="2819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57" name="" descr=""/>
            <p:cNvPicPr/>
            <p:nvPr/>
          </p:nvPicPr>
          <p:blipFill>
            <a:blip r:embed="rId4"/>
            <a:stretch/>
          </p:blipFill>
          <p:spPr>
            <a:xfrm>
              <a:off x="228600" y="228600"/>
              <a:ext cx="380988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"/>
          <p:cNvSpPr/>
          <p:nvPr/>
        </p:nvSpPr>
        <p:spPr>
          <a:xfrm>
            <a:off x="1294560" y="6248520"/>
            <a:ext cx="17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advTm="3000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228600" y="228600"/>
            <a:ext cx="8381880" cy="5905440"/>
            <a:chOff x="228600" y="228600"/>
            <a:chExt cx="8381880" cy="5905440"/>
          </a:xfrm>
        </p:grpSpPr>
        <p:grpSp>
          <p:nvGrpSpPr>
            <p:cNvPr id="260" name=""/>
            <p:cNvGrpSpPr/>
            <p:nvPr/>
          </p:nvGrpSpPr>
          <p:grpSpPr>
            <a:xfrm>
              <a:off x="228600" y="228600"/>
              <a:ext cx="8381880" cy="5905440"/>
              <a:chOff x="228600" y="228600"/>
              <a:chExt cx="8381880" cy="5905440"/>
            </a:xfrm>
          </p:grpSpPr>
          <p:pic>
            <p:nvPicPr>
              <p:cNvPr id="26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3581280"/>
                <a:ext cx="3886200" cy="25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495680" y="3581280"/>
                <a:ext cx="4114800" cy="255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19720" y="228600"/>
                <a:ext cx="4114800" cy="2819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4" name="" descr=""/>
            <p:cNvPicPr/>
            <p:nvPr/>
          </p:nvPicPr>
          <p:blipFill>
            <a:blip r:embed="rId4"/>
            <a:stretch/>
          </p:blipFill>
          <p:spPr>
            <a:xfrm>
              <a:off x="228600" y="228600"/>
              <a:ext cx="380988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/>
          <p:cNvSpPr/>
          <p:nvPr/>
        </p:nvSpPr>
        <p:spPr>
          <a:xfrm>
            <a:off x="1219320" y="312408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eti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29200" y="304812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ch Ness Monster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94560" y="6248520"/>
            <a:ext cx="17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15360" y="624852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neheng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e4d7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053440" y="1125360"/>
            <a:ext cx="551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y missing, police puzzled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32920" y="2590920"/>
            <a:ext cx="75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oy is missing, and the police are puzzled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20" y="3860640"/>
            <a:ext cx="855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The title of a news story is usually incomplete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3840120" cy="3049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3840120" cy="3049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304920" y="6629400"/>
            <a:ext cx="4190760" cy="2286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4648320" y="6629400"/>
            <a:ext cx="4221000" cy="2286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267080" y="1828800"/>
            <a:ext cx="304920" cy="824040"/>
          </a:xfrm>
          <a:prstGeom prst="downArrow">
            <a:avLst>
              <a:gd name="adj1" fmla="val 50000"/>
              <a:gd name="adj2" fmla="val 67562"/>
            </a:avLst>
          </a:prstGeom>
          <a:solidFill>
            <a:srgbClr val="ff0066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d2e0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3300"/>
                </a:solidFill>
                <a:latin typeface="Times New Roman"/>
              </a:rPr>
              <a:t>Read the news story quickly and answer the questions.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1120" cy="3049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4267080" y="0"/>
            <a:ext cx="4191120" cy="3049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9480" y="1905120"/>
            <a:ext cx="701064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is missing?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nd where is he missing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the police know what happened to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in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4648320" y="6553080"/>
            <a:ext cx="4190760" cy="3049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228600" y="6553080"/>
            <a:ext cx="41911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12:01:39Z</dcterms:created>
  <dc:creator>软件仓库</dc:creator>
  <dc:description/>
  <dc:language>en-US</dc:language>
  <cp:lastModifiedBy>USER</cp:lastModifiedBy>
  <dcterms:modified xsi:type="dcterms:W3CDTF">2005-11-06T15:53:01Z</dcterms:modified>
  <cp:revision>110</cp:revision>
  <dc:subject/>
  <dc:title>PowerPoint 演示文稿</dc:title>
</cp:coreProperties>
</file>