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9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chimes.wav" ContentType="audio/x-wav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237-A653-4E2E-9339-5652035D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DF4-BA7D-4C68-A15A-83DCFD5C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140-26A1-4B12-9684-B6EA9179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226-3E78-410A-9A06-B066784E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80C-E87A-4517-9A99-1E313723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E8A-6FCD-4872-85B1-AA98F9E1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CB6-D0FC-4225-AB76-E436A4BB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9D5-566C-4429-8D40-86941A7B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5CB-8662-4E5B-8F37-DE58F87F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3F9-4F9A-4B05-9F9C-70227BF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678-2C6B-4539-A4CE-E9347A0E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8DD-48FF-4303-AE42-C44D644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52D5-920D-4634-9648-69F974B8E1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1219320"/>
            <a:ext cx="93726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Unit25 What do  you lik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esson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9720" y="48769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讲人：刘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360" y="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sten and wr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106668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858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2096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9625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6858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4960" y="83808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7040" y="14479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400" y="274320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7760" y="45720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Meim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2440" y="914400"/>
            <a:ext cx="209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y mu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9040" y="914400"/>
            <a:ext cx="132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3040" y="892080"/>
            <a:ext cx="185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on’t lik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4720" y="2276640"/>
            <a:ext cx="168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t 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ump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8360" y="266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4280" y="25812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560" y="4267080"/>
            <a:ext cx="19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ato c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680" y="4267080"/>
            <a:ext cx="168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o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2400" y="4267080"/>
            <a:ext cx="108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20" y="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ading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1400" y="60660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9720" y="1219320"/>
            <a:ext cx="85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ll the following sentences right(R) or wrong(W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960" y="23050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.Li Shan is from a family of four people.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7880" y="2286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9760" y="2895480"/>
            <a:ext cx="64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.They like to eat the same food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4000" y="28954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0480" y="3505320"/>
            <a:ext cx="63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.Li Shan likes meat very muc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326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7680" y="35053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419112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4.Li Shan’s father is from Shanghai.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3480" y="41911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560" y="49528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5.Li Shan’s mother likes fis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40480" y="49528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8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9388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选择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8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8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84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0" y="990720"/>
            <a:ext cx="25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960" y="2438280"/>
            <a:ext cx="865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does your mother/father like to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es your mother/father like to eat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ere is your mother/father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60" y="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51920" y="43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0440" y="1905120"/>
            <a:ext cx="717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rite a letter to Li Shan 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you li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22040" y="2452680"/>
            <a:ext cx="47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Bye-by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4:12:16Z</dcterms:created>
  <dc:creator>Pyq</dc:creator>
  <dc:description/>
  <dc:language>en-US</dc:language>
  <cp:lastModifiedBy>MS User</cp:lastModifiedBy>
  <dcterms:modified xsi:type="dcterms:W3CDTF">2006-03-16T14:12:13Z</dcterms:modified>
  <cp:revision>36</cp:revision>
  <dc:subject/>
  <dc:title>PowerPoint 演示文稿</dc:title>
</cp:coreProperties>
</file>