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333-8FD0-4447-AFEE-86B1B26C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E7C-658B-4BBF-993B-E3E44699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7DF-E475-483C-BC27-45A1E617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BC2E-8509-4A3C-8FE1-CFF55194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AAC-AE2D-421D-9D9D-2AA2EEBE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C2FB-B0D9-432C-AD31-3B7C3EF8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F8D-6E93-489B-AB4D-29ECF136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408-60C3-404D-A9E6-45174A36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591-4647-4B59-92AC-25F6C265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74E-1EA2-440F-B88D-9B75B45F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8E2-40A7-448A-B302-CA5D5D05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741-45A9-4404-A8F4-B2F5CC6A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FC49-EEB7-48AA-8D31-182AFBD1118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0145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標楷體"/>
                <a:ea typeface="宋体"/>
              </a:rPr>
              <a:t>价值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宋体"/>
              </a:rPr>
              <a:t>$20</a:t>
            </a:r>
            <a:r>
              <a:rPr b="0" lang="zh-CN" sz="4800" spc="-1" strike="noStrike">
                <a:solidFill>
                  <a:srgbClr val="ffffff"/>
                </a:solidFill>
                <a:latin typeface="標楷體"/>
                <a:ea typeface="宋体"/>
              </a:rPr>
              <a:t>美金的时间</a:t>
            </a:r>
            <a:br>
              <a:rPr sz="4800"/>
            </a:b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標楷體"/>
              </a:rPr>
              <a:t>USD 20 Worth of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h03795i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1371600"/>
            <a:ext cx="81532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「我将今天的闷气都爆发出来了。这是你要的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块钱美金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It’s been a long day and I took out my aggravation on you.  Here’s the $10 you asked fo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小孩笑着坐直了起来，「爸，谢谢你」小孩叫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宋体"/>
              </a:rPr>
              <a:t>The little boy sat straight up, smiling. “Oh, thank you daddy!” he ye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接着小孩从枕头下拿出一些被弄皱了的钞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宋体"/>
              </a:rPr>
              <a:t>Then, reaching under his pillow he pulled out some crumpled up b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j01821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1371600"/>
            <a:ext cx="7924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这父亲看到小孩已经有钱了，快要再次发脾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man, seeing that the boy already had money, started to get angry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这小孩慢慢地算着钱，接着看着他的爸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little boy slowly counted out his money, then looked up at his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为什么你已经有钱了还需要更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」父亲生气的说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Why do you want more money if you already have some?” the father grumb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j0181647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1066680"/>
            <a:ext cx="8001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「因为我之前不够，但我现在足够了」小孩回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ecause I didn't have enough, but now I do,” the little boy re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爸，我现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块钱美金了，我可以向你买一个小时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时间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? 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明天请早一点回家，我想和你一起吃晚餐。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addy, I have $20 now, can I buy an hour of your time? Please come home early tomorrow, I would like to have dinner with you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eveni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191120" y="304920"/>
            <a:ext cx="464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標楷體"/>
                <a:ea typeface="宋体"/>
              </a:rPr>
              <a:t>这个故事与你所喜欢的人分享，但更重要的，与你所爱的人分享这价值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20</a:t>
            </a:r>
            <a:r>
              <a:rPr b="0" lang="zh-CN" sz="3600" spc="-1" strike="noStrike">
                <a:solidFill>
                  <a:srgbClr val="990000"/>
                </a:solidFill>
                <a:latin typeface="標楷體"/>
                <a:ea typeface="宋体"/>
              </a:rPr>
              <a:t>块钱美金的时间。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419720"/>
            <a:ext cx="594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  <a:ea typeface="標楷體"/>
              </a:rPr>
              <a:t>Share this story with someone you like…..but even better, share $20 worth of time with someone you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hou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762120"/>
            <a:ext cx="6324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99"/>
                </a:solidFill>
                <a:latin typeface="標楷體"/>
                <a:ea typeface="宋体"/>
              </a:rPr>
              <a:t>这只是提醒辛苦工作的各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It’s just a short reminder to all of you working so hard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3124080"/>
            <a:ext cx="7010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99"/>
                </a:solidFill>
                <a:latin typeface="標楷體"/>
                <a:ea typeface="宋体"/>
              </a:rPr>
              <a:t>我们应该花一点时间来陪那些在乎我们，关心我们的人而不要让时间从手指间溜走</a:t>
            </a:r>
            <a:r>
              <a:rPr b="0" i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……</a:t>
            </a:r>
            <a:r>
              <a:rPr b="0" i="1" lang="zh-CN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We should not let time slip through our fingers without having spent some time with those who really matter to us, those close to our he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3789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1371600"/>
            <a:ext cx="8229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一位爸爸下班回家很晚了，很累并有点烦，发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他五岁的儿子靠在门旁等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A man came home from work late, tired and irritated, to find his 5-year old son waiting for him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H03896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00200" y="274320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「爸，我可以问你一个问题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“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Daddy, may I ask you a question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「当然可以，什么问题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」父亲回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“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Yes sure, what is it?” replied the 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h03929i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106668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「爸，你一小时可以赚多少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ddy, how much do you make an hou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「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这与你无关，你为什么问这个问题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」父亲生气的说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That’s none of your business, why do you ask such a thing?” the man said angr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「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我只是想知道，请告诉我，你一小时赚多少钱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」小孩哀求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I just want to know, please tell me, how much do you make an hour?” pleaded the little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H03837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1219320"/>
            <a:ext cx="76964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「假如你一定要知道的话，我一小时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块美金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if you must know, I make $20 an hou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喔！」小孩低着头这样回答。小孩跟着说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h,” the little boy replied, with his head down, looking up, he sai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爸，可以借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块美金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ad, may I please borrow $10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D19089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14479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57200"/>
            <a:ext cx="76201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父亲发怒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「如果你问这问题只是要借钱去买毫无意义的玩具或东西的话，给我回到你的房间并上床好好想想为什么你会那么自私。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「我每天长时间辛苦工作着，没时间和你玩小孩子的游戏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The father was furio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if the only reason you asked that is so you can borrow some money to buy a silly toy or some other nonsense, then you march yourself straight to your room and go to bed, think about why you are being so selfish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I work long hard hours everyday and don’t have time for such this childish behavio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H02403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83808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標楷體"/>
                <a:ea typeface="宋体"/>
              </a:rPr>
              <a:t>小孩安静地回自己房并关上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he little boy quietly went to his room and shu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581280"/>
            <a:ext cx="7619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標楷體"/>
                <a:ea typeface="宋体"/>
              </a:rPr>
              <a:t>这位父亲坐下来还对小孩的问题生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 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The man sat down and started to get even angrier about the little boy’s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01816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762120"/>
            <a:ext cx="83059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他怎么敢只为了钱而问这种问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ow dare he ask such questions only to get some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约一小时后，他平静下来了，开始想着他可能对孩子太凶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After about an hour or so, the had calmed down, and started to think hey may have been a little hard on his 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或许他应该用那</a:t>
            </a: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块钱美金买小孩真正想要的，他不常常要钱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Maybe there was something he really needed to buy with that $10 and he really didn't ask for money very of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01443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6094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父亲走到小孩的房门并打开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man went to the door of the little boy’s room and opened the d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你睡了吗孩子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」他问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re you asleep, son?” he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爸，还没睡，我还醒着」小孩回答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 daddy, I’m awake” replied the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我想过了，我刚刚可能对你太凶了」父亲说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’ve been thinking, maybe I was too hard on you earlier,” said the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18:46:15Z</dcterms:created>
  <dc:creator>Vivian</dc:creator>
  <dc:description/>
  <dc:language>en-US</dc:language>
  <cp:lastModifiedBy>Lyq</cp:lastModifiedBy>
  <dcterms:modified xsi:type="dcterms:W3CDTF">2001-12-19T02:28:55Z</dcterms:modified>
  <cp:revision>28</cp:revision>
  <dc:subject/>
  <dc:title>價值$20美金的時間 USD 20 Worth of Time</dc:title>
</cp:coreProperties>
</file>